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4B1-42E5-477F-B0B7-3663AF05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394-3E1C-4081-BC91-602FAC94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449-F2D4-4886-811F-56BDD1B4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A51-59D5-443A-B1E5-4C1DC495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932-5BE9-4028-ACA4-8208ED42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A6D-303E-4FFB-B451-0D37C39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5D3-6643-4274-AD1E-5C63B99F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CAF-B96E-4F50-A24A-5CC8C409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6AB-7484-437B-B438-4D070C11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27B-1AEC-41CC-8E27-A94A18C6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2B3-A9A7-4847-827F-EE7F8B9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278-E1C7-4A12-A50C-A3ACAAEA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84B3-4883-424C-BA78-487C713D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l%20bruchino%20e%20la%20farfalla%20.ppt#Slide 1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hyperlink" Target="file:///L&apos;ape%20e%20la%20coccinella%20.ppt" TargetMode="External"/><Relationship Id="rId6" Type="http://schemas.openxmlformats.org/officeDocument/2006/relationships/hyperlink" Target="file:///tmp/home/.config/libreoffice/4/user/gallery/RIMBALZO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00400" y="2209680"/>
          <a:ext cx="22096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209680"/>
                    <a:ext cx="22096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" y="0"/>
            <a:ext cx="4038480" cy="3771720"/>
          </a:xfrm>
          <a:prstGeom prst="wedgeEllipseCallout">
            <a:avLst>
              <a:gd name="adj1" fmla="val 43037"/>
              <a:gd name="adj2" fmla="val 647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ao! Sono lo gnomo Lele. L’anno scorso vivevo nel giardino della scuola e  facevo spesso degli scherzi ai bambini più picc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5029200" y="209520"/>
            <a:ext cx="3886200" cy="4291560"/>
          </a:xfrm>
          <a:prstGeom prst="wedgeEllipseCallout">
            <a:avLst>
              <a:gd name="adj1" fmla="val -51592"/>
              <a:gd name="adj2" fmla="val -61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giorno ho letto queste due belle storie inventate dai bambini di 1 A e B: mi sono piaciute così tanto che ho deciso di disegnarle con il compu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2280" y="0"/>
            <a:ext cx="9448560" cy="5715000"/>
          </a:xfrm>
          <a:prstGeom prst="rect">
            <a:avLst/>
          </a:prstGeom>
          <a:solidFill>
            <a:srgbClr val="f8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76040" y="5380200"/>
            <a:ext cx="9437400" cy="1639800"/>
          </a:xfrm>
          <a:custGeom>
            <a:avLst/>
            <a:gdLst/>
            <a:ahLst/>
            <a:rect l="l" t="t" r="r" b="b"/>
            <a:pathLst>
              <a:path w="5945" h="1033">
                <a:moveTo>
                  <a:pt x="100" y="111"/>
                </a:moveTo>
                <a:cubicBezTo>
                  <a:pt x="169" y="88"/>
                  <a:pt x="241" y="95"/>
                  <a:pt x="311" y="77"/>
                </a:cubicBezTo>
                <a:cubicBezTo>
                  <a:pt x="336" y="28"/>
                  <a:pt x="349" y="17"/>
                  <a:pt x="400" y="0"/>
                </a:cubicBezTo>
                <a:cubicBezTo>
                  <a:pt x="467" y="4"/>
                  <a:pt x="534" y="3"/>
                  <a:pt x="600" y="11"/>
                </a:cubicBezTo>
                <a:cubicBezTo>
                  <a:pt x="623" y="14"/>
                  <a:pt x="645" y="26"/>
                  <a:pt x="667" y="33"/>
                </a:cubicBezTo>
                <a:cubicBezTo>
                  <a:pt x="678" y="37"/>
                  <a:pt x="700" y="44"/>
                  <a:pt x="700" y="44"/>
                </a:cubicBezTo>
                <a:cubicBezTo>
                  <a:pt x="811" y="36"/>
                  <a:pt x="844" y="33"/>
                  <a:pt x="933" y="11"/>
                </a:cubicBezTo>
                <a:cubicBezTo>
                  <a:pt x="992" y="15"/>
                  <a:pt x="1052" y="16"/>
                  <a:pt x="1111" y="22"/>
                </a:cubicBezTo>
                <a:cubicBezTo>
                  <a:pt x="1155" y="27"/>
                  <a:pt x="1189" y="73"/>
                  <a:pt x="1233" y="88"/>
                </a:cubicBezTo>
                <a:cubicBezTo>
                  <a:pt x="1541" y="64"/>
                  <a:pt x="1419" y="55"/>
                  <a:pt x="1600" y="77"/>
                </a:cubicBezTo>
                <a:cubicBezTo>
                  <a:pt x="1658" y="117"/>
                  <a:pt x="1669" y="111"/>
                  <a:pt x="1745" y="100"/>
                </a:cubicBezTo>
                <a:cubicBezTo>
                  <a:pt x="1849" y="64"/>
                  <a:pt x="1775" y="89"/>
                  <a:pt x="1845" y="66"/>
                </a:cubicBezTo>
                <a:cubicBezTo>
                  <a:pt x="1856" y="62"/>
                  <a:pt x="1878" y="55"/>
                  <a:pt x="1878" y="55"/>
                </a:cubicBezTo>
                <a:cubicBezTo>
                  <a:pt x="1996" y="59"/>
                  <a:pt x="2115" y="57"/>
                  <a:pt x="2233" y="66"/>
                </a:cubicBezTo>
                <a:cubicBezTo>
                  <a:pt x="2256" y="68"/>
                  <a:pt x="2300" y="88"/>
                  <a:pt x="2300" y="88"/>
                </a:cubicBezTo>
                <a:cubicBezTo>
                  <a:pt x="2311" y="99"/>
                  <a:pt x="2320" y="114"/>
                  <a:pt x="2334" y="122"/>
                </a:cubicBezTo>
                <a:cubicBezTo>
                  <a:pt x="2354" y="133"/>
                  <a:pt x="2400" y="144"/>
                  <a:pt x="2400" y="144"/>
                </a:cubicBezTo>
                <a:cubicBezTo>
                  <a:pt x="2457" y="140"/>
                  <a:pt x="2598" y="133"/>
                  <a:pt x="2667" y="122"/>
                </a:cubicBezTo>
                <a:cubicBezTo>
                  <a:pt x="2709" y="115"/>
                  <a:pt x="2748" y="96"/>
                  <a:pt x="2789" y="88"/>
                </a:cubicBezTo>
                <a:cubicBezTo>
                  <a:pt x="2823" y="82"/>
                  <a:pt x="2963" y="69"/>
                  <a:pt x="2989" y="66"/>
                </a:cubicBezTo>
                <a:cubicBezTo>
                  <a:pt x="3092" y="81"/>
                  <a:pt x="3187" y="116"/>
                  <a:pt x="3289" y="133"/>
                </a:cubicBezTo>
                <a:cubicBezTo>
                  <a:pt x="3402" y="122"/>
                  <a:pt x="3511" y="107"/>
                  <a:pt x="3623" y="88"/>
                </a:cubicBezTo>
                <a:cubicBezTo>
                  <a:pt x="3674" y="79"/>
                  <a:pt x="3778" y="66"/>
                  <a:pt x="3778" y="66"/>
                </a:cubicBezTo>
                <a:cubicBezTo>
                  <a:pt x="3790" y="67"/>
                  <a:pt x="3949" y="84"/>
                  <a:pt x="3967" y="88"/>
                </a:cubicBezTo>
                <a:cubicBezTo>
                  <a:pt x="4032" y="101"/>
                  <a:pt x="4090" y="122"/>
                  <a:pt x="4156" y="133"/>
                </a:cubicBezTo>
                <a:cubicBezTo>
                  <a:pt x="4266" y="170"/>
                  <a:pt x="4210" y="155"/>
                  <a:pt x="4445" y="133"/>
                </a:cubicBezTo>
                <a:cubicBezTo>
                  <a:pt x="4475" y="130"/>
                  <a:pt x="4504" y="115"/>
                  <a:pt x="4534" y="111"/>
                </a:cubicBezTo>
                <a:cubicBezTo>
                  <a:pt x="4664" y="93"/>
                  <a:pt x="4794" y="76"/>
                  <a:pt x="4923" y="55"/>
                </a:cubicBezTo>
                <a:cubicBezTo>
                  <a:pt x="4960" y="59"/>
                  <a:pt x="4998" y="58"/>
                  <a:pt x="5034" y="66"/>
                </a:cubicBezTo>
                <a:cubicBezTo>
                  <a:pt x="5050" y="69"/>
                  <a:pt x="5063" y="82"/>
                  <a:pt x="5078" y="88"/>
                </a:cubicBezTo>
                <a:cubicBezTo>
                  <a:pt x="5135" y="112"/>
                  <a:pt x="5196" y="140"/>
                  <a:pt x="5256" y="155"/>
                </a:cubicBezTo>
                <a:cubicBezTo>
                  <a:pt x="5335" y="146"/>
                  <a:pt x="5410" y="132"/>
                  <a:pt x="5489" y="122"/>
                </a:cubicBezTo>
                <a:cubicBezTo>
                  <a:pt x="5575" y="67"/>
                  <a:pt x="5722" y="85"/>
                  <a:pt x="5823" y="77"/>
                </a:cubicBezTo>
                <a:cubicBezTo>
                  <a:pt x="5853" y="81"/>
                  <a:pt x="5903" y="59"/>
                  <a:pt x="5912" y="88"/>
                </a:cubicBezTo>
                <a:cubicBezTo>
                  <a:pt x="5943" y="191"/>
                  <a:pt x="5917" y="303"/>
                  <a:pt x="5923" y="411"/>
                </a:cubicBezTo>
                <a:cubicBezTo>
                  <a:pt x="5926" y="456"/>
                  <a:pt x="5939" y="500"/>
                  <a:pt x="5945" y="544"/>
                </a:cubicBezTo>
                <a:cubicBezTo>
                  <a:pt x="5938" y="655"/>
                  <a:pt x="5937" y="767"/>
                  <a:pt x="5923" y="877"/>
                </a:cubicBezTo>
                <a:cubicBezTo>
                  <a:pt x="5922" y="888"/>
                  <a:pt x="5906" y="891"/>
                  <a:pt x="5901" y="900"/>
                </a:cubicBezTo>
                <a:cubicBezTo>
                  <a:pt x="5881" y="933"/>
                  <a:pt x="5883" y="961"/>
                  <a:pt x="5834" y="966"/>
                </a:cubicBezTo>
                <a:cubicBezTo>
                  <a:pt x="5775" y="972"/>
                  <a:pt x="5715" y="973"/>
                  <a:pt x="5656" y="977"/>
                </a:cubicBezTo>
                <a:cubicBezTo>
                  <a:pt x="5499" y="967"/>
                  <a:pt x="5368" y="978"/>
                  <a:pt x="5212" y="988"/>
                </a:cubicBezTo>
                <a:cubicBezTo>
                  <a:pt x="5053" y="1016"/>
                  <a:pt x="4884" y="1023"/>
                  <a:pt x="4723" y="1033"/>
                </a:cubicBezTo>
                <a:cubicBezTo>
                  <a:pt x="4433" y="1017"/>
                  <a:pt x="4145" y="980"/>
                  <a:pt x="3856" y="944"/>
                </a:cubicBezTo>
                <a:cubicBezTo>
                  <a:pt x="3443" y="950"/>
                  <a:pt x="3092" y="961"/>
                  <a:pt x="2700" y="988"/>
                </a:cubicBezTo>
                <a:cubicBezTo>
                  <a:pt x="2611" y="994"/>
                  <a:pt x="2523" y="996"/>
                  <a:pt x="2434" y="1000"/>
                </a:cubicBezTo>
                <a:cubicBezTo>
                  <a:pt x="2289" y="1007"/>
                  <a:pt x="2000" y="1022"/>
                  <a:pt x="2000" y="1022"/>
                </a:cubicBezTo>
                <a:cubicBezTo>
                  <a:pt x="1640" y="1015"/>
                  <a:pt x="1291" y="992"/>
                  <a:pt x="933" y="977"/>
                </a:cubicBezTo>
                <a:cubicBezTo>
                  <a:pt x="903" y="973"/>
                  <a:pt x="874" y="969"/>
                  <a:pt x="844" y="966"/>
                </a:cubicBezTo>
                <a:cubicBezTo>
                  <a:pt x="752" y="958"/>
                  <a:pt x="567" y="944"/>
                  <a:pt x="567" y="944"/>
                </a:cubicBezTo>
                <a:cubicBezTo>
                  <a:pt x="564" y="944"/>
                  <a:pt x="113" y="988"/>
                  <a:pt x="44" y="922"/>
                </a:cubicBezTo>
                <a:cubicBezTo>
                  <a:pt x="22" y="855"/>
                  <a:pt x="10" y="791"/>
                  <a:pt x="0" y="722"/>
                </a:cubicBezTo>
                <a:cubicBezTo>
                  <a:pt x="4" y="666"/>
                  <a:pt x="3" y="610"/>
                  <a:pt x="11" y="555"/>
                </a:cubicBezTo>
                <a:cubicBezTo>
                  <a:pt x="18" y="509"/>
                  <a:pt x="44" y="457"/>
                  <a:pt x="55" y="411"/>
                </a:cubicBezTo>
                <a:cubicBezTo>
                  <a:pt x="79" y="309"/>
                  <a:pt x="100" y="216"/>
                  <a:pt x="100" y="111"/>
                </a:cubicBezTo>
                <a:close/>
              </a:path>
            </a:pathLst>
          </a:custGeom>
          <a:solidFill>
            <a:srgbClr val="ffcc99"/>
          </a:solidFill>
          <a:ln w="3168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590920" y="5638680"/>
            <a:ext cx="609480" cy="609840"/>
            <a:chOff x="2590920" y="5638680"/>
            <a:chExt cx="609480" cy="609840"/>
          </a:xfrm>
        </p:grpSpPr>
        <p:grpSp>
          <p:nvGrpSpPr>
            <p:cNvPr id="48" name=""/>
            <p:cNvGrpSpPr/>
            <p:nvPr/>
          </p:nvGrpSpPr>
          <p:grpSpPr>
            <a:xfrm>
              <a:off x="2590920" y="5638680"/>
              <a:ext cx="554040" cy="548640"/>
              <a:chOff x="2590920" y="5638680"/>
              <a:chExt cx="554040" cy="548640"/>
            </a:xfrm>
          </p:grpSpPr>
          <p:sp>
            <p:nvSpPr>
              <p:cNvPr id="49" name=""/>
              <p:cNvSpPr/>
              <p:nvPr/>
            </p:nvSpPr>
            <p:spPr>
              <a:xfrm>
                <a:off x="2768040" y="582912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590920" y="5638680"/>
                <a:ext cx="554040" cy="54864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68040" y="5705640"/>
                <a:ext cx="102960" cy="27828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712960" y="573264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649240" y="587880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768760" y="600768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33360" y="578268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91520" y="584316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53800" y="567792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 rot="10800000">
                <a:off x="2656080" y="599184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>
              <a:hlinkClick r:id="" action="ppaction://hlinkshowjump?jump=previousslide"/>
            </p:cNvPr>
            <p:cNvSpPr/>
            <p:nvPr/>
          </p:nvSpPr>
          <p:spPr>
            <a:xfrm>
              <a:off x="2590920" y="563868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04920" y="617220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Il bruchino e la far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5715000"/>
            <a:ext cx="914400" cy="533520"/>
            <a:chOff x="1066680" y="5715000"/>
            <a:chExt cx="914400" cy="533520"/>
          </a:xfrm>
        </p:grpSpPr>
        <p:grpSp>
          <p:nvGrpSpPr>
            <p:cNvPr id="62" name=""/>
            <p:cNvGrpSpPr/>
            <p:nvPr/>
          </p:nvGrpSpPr>
          <p:grpSpPr>
            <a:xfrm>
              <a:off x="1066680" y="5781240"/>
              <a:ext cx="846720" cy="333360"/>
              <a:chOff x="1066680" y="5781240"/>
              <a:chExt cx="846720" cy="33336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066680" y="5781240"/>
                <a:ext cx="846720" cy="333360"/>
                <a:chOff x="1066680" y="5781240"/>
                <a:chExt cx="846720" cy="3333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618920" y="57985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1066680" y="5781240"/>
                  <a:ext cx="693000" cy="333360"/>
                  <a:chOff x="1066680" y="5781240"/>
                  <a:chExt cx="693000" cy="3333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546920" y="57812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476720" y="5790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356480" y="57952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293480" y="5838840"/>
                    <a:ext cx="19980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190880" y="58654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066680" y="59011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" name=""/>
              <p:cNvSpPr/>
              <p:nvPr/>
            </p:nvSpPr>
            <p:spPr>
              <a:xfrm>
                <a:off x="1776600" y="5878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>
              <a:hlinkClick r:id="" action="ppaction://hlinkshowjump?jump=nextslide"/>
            </p:cNvPr>
            <p:cNvSpPr/>
            <p:nvPr/>
          </p:nvSpPr>
          <p:spPr>
            <a:xfrm>
              <a:off x="1066680" y="5715000"/>
              <a:ext cx="914400" cy="53352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7010" h="21600">
                  <a:moveTo>
                    <a:pt x="0" y="0"/>
                  </a:moveTo>
                  <a:lnTo>
                    <a:pt x="37010" y="0"/>
                  </a:lnTo>
                  <a:lnTo>
                    <a:pt x="37010" y="21600"/>
                  </a:lnTo>
                  <a:lnTo>
                    <a:pt x="0" y="21600"/>
                  </a:lnTo>
                  <a:close/>
                </a:path>
                <a:path fill="lightenLess" w="37010" h="21600">
                  <a:moveTo>
                    <a:pt x="0" y="0"/>
                  </a:moveTo>
                  <a:lnTo>
                    <a:pt x="37010" y="0"/>
                  </a:lnTo>
                  <a:lnTo>
                    <a:pt x="35610" y="1400"/>
                  </a:lnTo>
                  <a:lnTo>
                    <a:pt x="1400" y="1400"/>
                  </a:lnTo>
                  <a:close/>
                </a:path>
                <a:path fill="darken" w="37010" h="21600">
                  <a:moveTo>
                    <a:pt x="37010" y="0"/>
                  </a:moveTo>
                  <a:lnTo>
                    <a:pt x="37010" y="21600"/>
                  </a:lnTo>
                  <a:lnTo>
                    <a:pt x="35610" y="20200"/>
                  </a:lnTo>
                  <a:lnTo>
                    <a:pt x="35610" y="1400"/>
                  </a:lnTo>
                  <a:close/>
                </a:path>
                <a:path fill="darkenLess" w="37010" h="21600">
                  <a:moveTo>
                    <a:pt x="370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10" y="20200"/>
                  </a:lnTo>
                  <a:close/>
                </a:path>
                <a:path fill="lighten" w="370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" name=""/>
          <p:cNvGraphicFramePr/>
          <p:nvPr/>
        </p:nvGraphicFramePr>
        <p:xfrm>
          <a:off x="-533520" y="-228600"/>
          <a:ext cx="10058400" cy="43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33520" y="-228600"/>
                    <a:ext cx="1005840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V="1">
            <a:off x="609480" y="3969360"/>
            <a:ext cx="8229600" cy="1286280"/>
          </a:xfrm>
          <a:prstGeom prst="wedgeRoundRectCallout">
            <a:avLst>
              <a:gd name="adj1" fmla="val -1106"/>
              <a:gd name="adj2" fmla="val 106097"/>
              <a:gd name="adj3" fmla="val 16667"/>
            </a:avLst>
          </a:prstGeom>
          <a:solidFill>
            <a:srgbClr val="ff99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i noi abbiamo registrato le nostre vo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e sei curioso di vedere il risultato clicca sui titoli delle storie.  Quando vuoi uscire clicca su F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7467480" y="5638680"/>
            <a:ext cx="755640" cy="6922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949720" y="5598360"/>
            <a:ext cx="752400" cy="667800"/>
            <a:chOff x="5949720" y="5598360"/>
            <a:chExt cx="752400" cy="667800"/>
          </a:xfrm>
        </p:grpSpPr>
        <p:sp>
          <p:nvSpPr>
            <p:cNvPr id="79" name=""/>
            <p:cNvSpPr/>
            <p:nvPr/>
          </p:nvSpPr>
          <p:spPr>
            <a:xfrm rot="12748200">
              <a:off x="6172560" y="5793480"/>
              <a:ext cx="464400" cy="37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748200">
              <a:off x="5965920" y="5900400"/>
              <a:ext cx="49716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748200">
              <a:off x="6125760" y="5706720"/>
              <a:ext cx="464040" cy="205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2748200">
              <a:off x="6447600" y="584028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2748200">
              <a:off x="6318000" y="579780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2748200">
              <a:off x="6234120" y="5744520"/>
              <a:ext cx="3276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2748200">
              <a:off x="6300360" y="607176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2748200">
              <a:off x="6160680" y="598284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2748200">
              <a:off x="6095160" y="5900400"/>
              <a:ext cx="331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638680" y="6172200"/>
            <a:ext cx="312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5"/>
              </a:rPr>
              <a:t>L’ape e la cocci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791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endshow"/>
            <a:hlinkClick r:id="rId6"/>
          </p:cNvPr>
          <p:cNvSpPr/>
          <p:nvPr/>
        </p:nvSpPr>
        <p:spPr>
          <a:xfrm>
            <a:off x="4038480" y="5791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59:06Z</dcterms:created>
  <dc:creator>Direzione Fiume Veneto</dc:creator>
  <dc:description/>
  <dc:language>en-US</dc:language>
  <cp:lastModifiedBy>Direzione Fiume Veneto</cp:lastModifiedBy>
  <dcterms:modified xsi:type="dcterms:W3CDTF">2001-03-14T15:23:01Z</dcterms:modified>
  <cp:revision>19</cp:revision>
  <dc:subject/>
  <dc:title>Nessun titolo diapositiva</dc:title>
</cp:coreProperties>
</file>