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FB8-CC88-42DC-91D3-A48B5FCF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6D0-B4ED-467E-B576-EE295BED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A60-C0DE-4CEA-B5C3-383F9919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A9C-2E85-4B74-A68B-73D3C3D5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6B3-D26C-4FEF-955E-E550BF32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42E-1E68-47EC-A87E-7D532B96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929-0900-44A7-BCAD-EA4E6C8B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A07-DBAA-4C75-B4F5-4665CD95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A06-590D-4AA6-92B4-1DC7B964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4B6-BB5C-4B0B-BB2B-C5A6F5DC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726-97B6-4EE1-8737-868817FE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F81-D5B4-4365-B3AF-8438F70C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68DE-3483-470B-9A05-BC23FD9C6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C:/WINDOWS/Desktop/2%20A-B%202000-01/animazione%20storie%20cl.%201/presentaz.%20storie%20internet/home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hyperlink" Target="file:///C:/WINDOWS/Desktop/2%20A-B%202000-01/animazione%20storie%20cl.%201/presentaz.%20storie%20internet/home.ppt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hyperlink" Target="file:///C:/WINDOWS/Desktop/2%20A-B%202000-01/animazione%20storie%20cl.%201/presentaz.%20storie%20internet/home.ppt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hyperlink" Target="file:///C:/WINDOWS/Desktop/2%20A-B%202000-01/animazione%20storie%20cl.%201/presentaz.%20storie%20internet/home.ppt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endshow"/>
          </p:cNvPr>
          <p:cNvSpPr/>
          <p:nvPr/>
        </p:nvSpPr>
        <p:spPr>
          <a:xfrm>
            <a:off x="54864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28600" y="5791320"/>
            <a:ext cx="9628200" cy="129528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 rot="21442800">
            <a:off x="2590920" y="2286000"/>
            <a:ext cx="37144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IL BRUCHINO E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71800" y="3276720"/>
            <a:ext cx="31240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A FARFALLA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48120" y="6248520"/>
            <a:ext cx="685800" cy="609480"/>
            <a:chOff x="3048120" y="6248520"/>
            <a:chExt cx="685800" cy="609480"/>
          </a:xfrm>
        </p:grpSpPr>
        <p:grpSp>
          <p:nvGrpSpPr>
            <p:cNvPr id="46" name=""/>
            <p:cNvGrpSpPr/>
            <p:nvPr/>
          </p:nvGrpSpPr>
          <p:grpSpPr>
            <a:xfrm>
              <a:off x="3090600" y="6248520"/>
              <a:ext cx="628920" cy="562320"/>
              <a:chOff x="3090600" y="6248520"/>
              <a:chExt cx="628920" cy="562320"/>
            </a:xfrm>
          </p:grpSpPr>
          <p:sp>
            <p:nvSpPr>
              <p:cNvPr id="47" name=""/>
              <p:cNvSpPr/>
              <p:nvPr/>
            </p:nvSpPr>
            <p:spPr>
              <a:xfrm>
                <a:off x="318852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56688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54240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44016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26592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9816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9060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37176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7240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3748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26052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8644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7932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840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400000">
                <a:off x="343440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>
              <a:hlinkClick r:id="" action="ppaction://hlinkshowjump?jump=firstslide"/>
            </p:cNvPr>
            <p:cNvSpPr/>
            <p:nvPr/>
          </p:nvSpPr>
          <p:spPr>
            <a:xfrm>
              <a:off x="30481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30481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6320" y="6172200"/>
            <a:ext cx="609480" cy="609480"/>
            <a:chOff x="76320" y="6172200"/>
            <a:chExt cx="609480" cy="609480"/>
          </a:xfrm>
        </p:grpSpPr>
        <p:grpSp>
          <p:nvGrpSpPr>
            <p:cNvPr id="65" name=""/>
            <p:cNvGrpSpPr/>
            <p:nvPr/>
          </p:nvGrpSpPr>
          <p:grpSpPr>
            <a:xfrm>
              <a:off x="76320" y="6172200"/>
              <a:ext cx="554040" cy="548280"/>
              <a:chOff x="76320" y="6172200"/>
              <a:chExt cx="554040" cy="548280"/>
            </a:xfrm>
          </p:grpSpPr>
          <p:sp>
            <p:nvSpPr>
              <p:cNvPr id="66" name=""/>
              <p:cNvSpPr/>
              <p:nvPr/>
            </p:nvSpPr>
            <p:spPr>
              <a:xfrm>
                <a:off x="253440" y="6362640"/>
                <a:ext cx="212040" cy="229320"/>
              </a:xfrm>
              <a:custGeom>
                <a:avLst/>
                <a:gdLst/>
                <a:ahLst/>
                <a:rect l="l" t="t" r="r" b="b"/>
                <a:pathLst>
                  <a:path w="378" h="314">
                    <a:moveTo>
                      <a:pt x="237" y="161"/>
                    </a:moveTo>
                    <a:cubicBezTo>
                      <a:pt x="214" y="91"/>
                      <a:pt x="243" y="155"/>
                      <a:pt x="190" y="102"/>
                    </a:cubicBezTo>
                    <a:cubicBezTo>
                      <a:pt x="123" y="35"/>
                      <a:pt x="219" y="92"/>
                      <a:pt x="119" y="43"/>
                    </a:cubicBezTo>
                    <a:cubicBezTo>
                      <a:pt x="115" y="31"/>
                      <a:pt x="119" y="11"/>
                      <a:pt x="107" y="8"/>
                    </a:cubicBezTo>
                    <a:cubicBezTo>
                      <a:pt x="80" y="0"/>
                      <a:pt x="0" y="7"/>
                      <a:pt x="48" y="55"/>
                    </a:cubicBezTo>
                    <a:cubicBezTo>
                      <a:pt x="57" y="64"/>
                      <a:pt x="72" y="62"/>
                      <a:pt x="84" y="66"/>
                    </a:cubicBezTo>
                    <a:cubicBezTo>
                      <a:pt x="111" y="108"/>
                      <a:pt x="131" y="121"/>
                      <a:pt x="178" y="137"/>
                    </a:cubicBezTo>
                    <a:cubicBezTo>
                      <a:pt x="264" y="268"/>
                      <a:pt x="132" y="78"/>
                      <a:pt x="237" y="196"/>
                    </a:cubicBezTo>
                    <a:cubicBezTo>
                      <a:pt x="309" y="277"/>
                      <a:pt x="267" y="264"/>
                      <a:pt x="366" y="314"/>
                    </a:cubicBezTo>
                    <a:cubicBezTo>
                      <a:pt x="370" y="302"/>
                      <a:pt x="378" y="291"/>
                      <a:pt x="378" y="278"/>
                    </a:cubicBezTo>
                    <a:cubicBezTo>
                      <a:pt x="378" y="204"/>
                      <a:pt x="348" y="210"/>
                      <a:pt x="296" y="184"/>
                    </a:cubicBezTo>
                    <a:cubicBezTo>
                      <a:pt x="241" y="157"/>
                      <a:pt x="281" y="161"/>
                      <a:pt x="237" y="16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6172200"/>
                <a:ext cx="554040" cy="548280"/>
              </a:xfrm>
              <a:custGeom>
                <a:avLst/>
                <a:gdLst/>
                <a:ahLst/>
                <a:rect l="l" t="t" r="r" b="b"/>
                <a:pathLst>
                  <a:path w="988" h="751">
                    <a:moveTo>
                      <a:pt x="506" y="433"/>
                    </a:moveTo>
                    <a:cubicBezTo>
                      <a:pt x="510" y="319"/>
                      <a:pt x="493" y="203"/>
                      <a:pt x="517" y="92"/>
                    </a:cubicBezTo>
                    <a:cubicBezTo>
                      <a:pt x="526" y="52"/>
                      <a:pt x="676" y="20"/>
                      <a:pt x="706" y="10"/>
                    </a:cubicBezTo>
                    <a:cubicBezTo>
                      <a:pt x="765" y="15"/>
                      <a:pt x="833" y="0"/>
                      <a:pt x="882" y="33"/>
                    </a:cubicBezTo>
                    <a:cubicBezTo>
                      <a:pt x="987" y="102"/>
                      <a:pt x="829" y="45"/>
                      <a:pt x="941" y="80"/>
                    </a:cubicBezTo>
                    <a:cubicBezTo>
                      <a:pt x="956" y="125"/>
                      <a:pt x="976" y="164"/>
                      <a:pt x="988" y="210"/>
                    </a:cubicBezTo>
                    <a:cubicBezTo>
                      <a:pt x="984" y="245"/>
                      <a:pt x="988" y="283"/>
                      <a:pt x="976" y="316"/>
                    </a:cubicBezTo>
                    <a:cubicBezTo>
                      <a:pt x="970" y="331"/>
                      <a:pt x="919" y="347"/>
                      <a:pt x="906" y="351"/>
                    </a:cubicBezTo>
                    <a:cubicBezTo>
                      <a:pt x="778" y="386"/>
                      <a:pt x="649" y="421"/>
                      <a:pt x="517" y="433"/>
                    </a:cubicBezTo>
                    <a:cubicBezTo>
                      <a:pt x="500" y="426"/>
                      <a:pt x="429" y="400"/>
                      <a:pt x="412" y="386"/>
                    </a:cubicBezTo>
                    <a:cubicBezTo>
                      <a:pt x="335" y="322"/>
                      <a:pt x="454" y="375"/>
                      <a:pt x="341" y="327"/>
                    </a:cubicBezTo>
                    <a:cubicBezTo>
                      <a:pt x="293" y="307"/>
                      <a:pt x="237" y="309"/>
                      <a:pt x="188" y="304"/>
                    </a:cubicBezTo>
                    <a:cubicBezTo>
                      <a:pt x="99" y="313"/>
                      <a:pt x="65" y="306"/>
                      <a:pt x="0" y="351"/>
                    </a:cubicBezTo>
                    <a:cubicBezTo>
                      <a:pt x="0" y="354"/>
                      <a:pt x="6" y="595"/>
                      <a:pt x="47" y="645"/>
                    </a:cubicBezTo>
                    <a:cubicBezTo>
                      <a:pt x="58" y="659"/>
                      <a:pt x="78" y="661"/>
                      <a:pt x="94" y="669"/>
                    </a:cubicBezTo>
                    <a:cubicBezTo>
                      <a:pt x="125" y="732"/>
                      <a:pt x="136" y="729"/>
                      <a:pt x="200" y="751"/>
                    </a:cubicBezTo>
                    <a:cubicBezTo>
                      <a:pt x="278" y="747"/>
                      <a:pt x="357" y="746"/>
                      <a:pt x="435" y="739"/>
                    </a:cubicBezTo>
                    <a:cubicBezTo>
                      <a:pt x="474" y="736"/>
                      <a:pt x="517" y="657"/>
                      <a:pt x="517" y="657"/>
                    </a:cubicBezTo>
                    <a:cubicBezTo>
                      <a:pt x="530" y="605"/>
                      <a:pt x="641" y="391"/>
                      <a:pt x="506" y="433"/>
                    </a:cubicBezTo>
                    <a:close/>
                  </a:path>
                </a:pathLst>
              </a:custGeom>
              <a:solidFill>
                <a:srgbClr val="ff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53440" y="6239160"/>
                <a:ext cx="102960" cy="277920"/>
              </a:xfrm>
              <a:custGeom>
                <a:avLst/>
                <a:gdLst/>
                <a:ahLst/>
                <a:rect l="l" t="t" r="r" b="b"/>
                <a:pathLst>
                  <a:path w="184" h="381">
                    <a:moveTo>
                      <a:pt x="178" y="330"/>
                    </a:moveTo>
                    <a:cubicBezTo>
                      <a:pt x="149" y="158"/>
                      <a:pt x="184" y="381"/>
                      <a:pt x="154" y="59"/>
                    </a:cubicBezTo>
                    <a:cubicBezTo>
                      <a:pt x="153" y="43"/>
                      <a:pt x="153" y="25"/>
                      <a:pt x="143" y="12"/>
                    </a:cubicBezTo>
                    <a:cubicBezTo>
                      <a:pt x="135" y="2"/>
                      <a:pt x="119" y="4"/>
                      <a:pt x="107" y="0"/>
                    </a:cubicBezTo>
                    <a:cubicBezTo>
                      <a:pt x="65" y="14"/>
                      <a:pt x="0" y="11"/>
                      <a:pt x="60" y="59"/>
                    </a:cubicBezTo>
                    <a:cubicBezTo>
                      <a:pt x="70" y="67"/>
                      <a:pt x="84" y="67"/>
                      <a:pt x="96" y="71"/>
                    </a:cubicBezTo>
                    <a:cubicBezTo>
                      <a:pt x="139" y="56"/>
                      <a:pt x="125" y="70"/>
                      <a:pt x="143" y="35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8360" y="6266160"/>
                <a:ext cx="154800" cy="187560"/>
              </a:xfrm>
              <a:custGeom>
                <a:avLst/>
                <a:gdLst/>
                <a:ahLst/>
                <a:rect l="l" t="t" r="r" b="b"/>
                <a:pathLst>
                  <a:path w="276" h="257">
                    <a:moveTo>
                      <a:pt x="276" y="257"/>
                    </a:moveTo>
                    <a:cubicBezTo>
                      <a:pt x="249" y="153"/>
                      <a:pt x="206" y="79"/>
                      <a:pt x="99" y="46"/>
                    </a:cubicBezTo>
                    <a:cubicBezTo>
                      <a:pt x="87" y="38"/>
                      <a:pt x="77" y="28"/>
                      <a:pt x="64" y="22"/>
                    </a:cubicBezTo>
                    <a:cubicBezTo>
                      <a:pt x="53" y="16"/>
                      <a:pt x="36" y="0"/>
                      <a:pt x="29" y="10"/>
                    </a:cubicBezTo>
                    <a:cubicBezTo>
                      <a:pt x="0" y="54"/>
                      <a:pt x="59" y="63"/>
                      <a:pt x="76" y="69"/>
                    </a:cubicBezTo>
                    <a:cubicBezTo>
                      <a:pt x="84" y="81"/>
                      <a:pt x="86" y="99"/>
                      <a:pt x="99" y="104"/>
                    </a:cubicBezTo>
                    <a:cubicBezTo>
                      <a:pt x="116" y="111"/>
                      <a:pt x="170" y="81"/>
                      <a:pt x="182" y="69"/>
                    </a:cubicBezTo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4640" y="6412320"/>
                <a:ext cx="81000" cy="84600"/>
              </a:xfrm>
              <a:custGeom>
                <a:avLst/>
                <a:gdLst/>
                <a:ahLst/>
                <a:rect l="l" t="t" r="r" b="b"/>
                <a:pathLst>
                  <a:path w="145" h="116">
                    <a:moveTo>
                      <a:pt x="143" y="69"/>
                    </a:moveTo>
                    <a:cubicBezTo>
                      <a:pt x="119" y="0"/>
                      <a:pt x="93" y="22"/>
                      <a:pt x="25" y="34"/>
                    </a:cubicBezTo>
                    <a:cubicBezTo>
                      <a:pt x="11" y="75"/>
                      <a:pt x="0" y="71"/>
                      <a:pt x="49" y="93"/>
                    </a:cubicBezTo>
                    <a:cubicBezTo>
                      <a:pt x="71" y="103"/>
                      <a:pt x="119" y="116"/>
                      <a:pt x="119" y="116"/>
                    </a:cubicBezTo>
                    <a:cubicBezTo>
                      <a:pt x="145" y="78"/>
                      <a:pt x="143" y="95"/>
                      <a:pt x="143" y="69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54160" y="6540840"/>
                <a:ext cx="59400" cy="115920"/>
              </a:xfrm>
              <a:custGeom>
                <a:avLst/>
                <a:gdLst/>
                <a:ahLst/>
                <a:rect l="l" t="t" r="r" b="b"/>
                <a:pathLst>
                  <a:path w="106" h="159">
                    <a:moveTo>
                      <a:pt x="0" y="46"/>
                    </a:moveTo>
                    <a:cubicBezTo>
                      <a:pt x="52" y="11"/>
                      <a:pt x="84" y="0"/>
                      <a:pt x="106" y="70"/>
                    </a:cubicBezTo>
                    <a:cubicBezTo>
                      <a:pt x="102" y="89"/>
                      <a:pt x="105" y="111"/>
                      <a:pt x="95" y="128"/>
                    </a:cubicBezTo>
                    <a:cubicBezTo>
                      <a:pt x="88" y="141"/>
                      <a:pt x="72" y="159"/>
                      <a:pt x="59" y="152"/>
                    </a:cubicBezTo>
                    <a:cubicBezTo>
                      <a:pt x="34" y="138"/>
                      <a:pt x="28" y="105"/>
                      <a:pt x="12" y="81"/>
                    </a:cubicBezTo>
                    <a:cubicBezTo>
                      <a:pt x="5" y="71"/>
                      <a:pt x="0" y="46"/>
                      <a:pt x="0" y="46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8760" y="6315840"/>
                <a:ext cx="75960" cy="77040"/>
              </a:xfrm>
              <a:custGeom>
                <a:avLst/>
                <a:gdLst/>
                <a:ahLst/>
                <a:rect l="l" t="t" r="r" b="b"/>
                <a:pathLst>
                  <a:path w="136" h="106">
                    <a:moveTo>
                      <a:pt x="43" y="82"/>
                    </a:moveTo>
                    <a:cubicBezTo>
                      <a:pt x="39" y="76"/>
                      <a:pt x="0" y="26"/>
                      <a:pt x="7" y="11"/>
                    </a:cubicBezTo>
                    <a:cubicBezTo>
                      <a:pt x="13" y="0"/>
                      <a:pt x="31" y="4"/>
                      <a:pt x="43" y="0"/>
                    </a:cubicBezTo>
                    <a:cubicBezTo>
                      <a:pt x="134" y="17"/>
                      <a:pt x="136" y="20"/>
                      <a:pt x="101" y="106"/>
                    </a:cubicBezTo>
                    <a:cubicBezTo>
                      <a:pt x="49" y="93"/>
                      <a:pt x="65" y="106"/>
                      <a:pt x="43" y="8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6920" y="6376680"/>
                <a:ext cx="88920" cy="78120"/>
              </a:xfrm>
              <a:custGeom>
                <a:avLst/>
                <a:gdLst/>
                <a:ahLst/>
                <a:rect l="l" t="t" r="r" b="b"/>
                <a:pathLst>
                  <a:path w="159" h="107">
                    <a:moveTo>
                      <a:pt x="76" y="71"/>
                    </a:moveTo>
                    <a:cubicBezTo>
                      <a:pt x="61" y="67"/>
                      <a:pt x="0" y="66"/>
                      <a:pt x="17" y="24"/>
                    </a:cubicBezTo>
                    <a:cubicBezTo>
                      <a:pt x="22" y="11"/>
                      <a:pt x="40" y="8"/>
                      <a:pt x="52" y="0"/>
                    </a:cubicBezTo>
                    <a:cubicBezTo>
                      <a:pt x="81" y="10"/>
                      <a:pt x="100" y="13"/>
                      <a:pt x="123" y="36"/>
                    </a:cubicBezTo>
                    <a:cubicBezTo>
                      <a:pt x="133" y="46"/>
                      <a:pt x="159" y="65"/>
                      <a:pt x="146" y="71"/>
                    </a:cubicBezTo>
                    <a:cubicBezTo>
                      <a:pt x="72" y="107"/>
                      <a:pt x="76" y="27"/>
                      <a:pt x="76" y="71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39200" y="6211440"/>
                <a:ext cx="81720" cy="9612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0" y="62"/>
                    </a:moveTo>
                    <a:cubicBezTo>
                      <a:pt x="63" y="51"/>
                      <a:pt x="41" y="0"/>
                      <a:pt x="12" y="15"/>
                    </a:cubicBezTo>
                    <a:cubicBezTo>
                      <a:pt x="1" y="21"/>
                      <a:pt x="4" y="38"/>
                      <a:pt x="0" y="50"/>
                    </a:cubicBezTo>
                    <a:cubicBezTo>
                      <a:pt x="80" y="104"/>
                      <a:pt x="61" y="70"/>
                      <a:pt x="82" y="132"/>
                    </a:cubicBezTo>
                    <a:cubicBezTo>
                      <a:pt x="139" y="94"/>
                      <a:pt x="146" y="94"/>
                      <a:pt x="129" y="26"/>
                    </a:cubicBezTo>
                    <a:cubicBezTo>
                      <a:pt x="73" y="40"/>
                      <a:pt x="89" y="24"/>
                      <a:pt x="70" y="6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 rot="10800000">
                <a:off x="141480" y="6525000"/>
                <a:ext cx="81720" cy="9612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0" y="62"/>
                    </a:moveTo>
                    <a:cubicBezTo>
                      <a:pt x="63" y="51"/>
                      <a:pt x="41" y="0"/>
                      <a:pt x="12" y="15"/>
                    </a:cubicBezTo>
                    <a:cubicBezTo>
                      <a:pt x="1" y="21"/>
                      <a:pt x="4" y="38"/>
                      <a:pt x="0" y="50"/>
                    </a:cubicBezTo>
                    <a:cubicBezTo>
                      <a:pt x="80" y="104"/>
                      <a:pt x="61" y="70"/>
                      <a:pt x="82" y="132"/>
                    </a:cubicBezTo>
                    <a:cubicBezTo>
                      <a:pt x="139" y="94"/>
                      <a:pt x="146" y="94"/>
                      <a:pt x="129" y="26"/>
                    </a:cubicBezTo>
                    <a:cubicBezTo>
                      <a:pt x="73" y="40"/>
                      <a:pt x="89" y="24"/>
                      <a:pt x="70" y="6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>
              <a:hlinkClick r:id="" action="ppaction://hlinkshowjump?jump=previousslide"/>
            </p:cNvPr>
            <p:cNvSpPr/>
            <p:nvPr/>
          </p:nvSpPr>
          <p:spPr>
            <a:xfrm>
              <a:off x="76320" y="6172200"/>
              <a:ext cx="609480" cy="609480"/>
            </a:xfrm>
            <a:custGeom>
              <a:avLst/>
              <a:gdLst>
                <a:gd name="textAreaLeft" fmla="*/ 39240 w 609480"/>
                <a:gd name="textAreaRight" fmla="*/ 570240 w 60948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924680" y="6321600"/>
            <a:ext cx="914400" cy="533160"/>
            <a:chOff x="7924680" y="6321600"/>
            <a:chExt cx="914400" cy="533160"/>
          </a:xfrm>
        </p:grpSpPr>
        <p:grpSp>
          <p:nvGrpSpPr>
            <p:cNvPr id="79" name=""/>
            <p:cNvGrpSpPr/>
            <p:nvPr/>
          </p:nvGrpSpPr>
          <p:grpSpPr>
            <a:xfrm>
              <a:off x="7924680" y="6387840"/>
              <a:ext cx="846720" cy="333360"/>
              <a:chOff x="7924680" y="6387840"/>
              <a:chExt cx="846720" cy="33336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7924680" y="6387840"/>
                <a:ext cx="846720" cy="333360"/>
                <a:chOff x="7924680" y="6387840"/>
                <a:chExt cx="846720" cy="3333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8476920" y="640512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7924680" y="6387840"/>
                  <a:ext cx="693000" cy="333360"/>
                  <a:chOff x="7924680" y="6387840"/>
                  <a:chExt cx="693000" cy="333360"/>
                </a:xfrm>
              </p:grpSpPr>
              <p:sp>
                <p:nvSpPr>
                  <p:cNvPr id="83" name=""/>
                  <p:cNvSpPr/>
                  <p:nvPr/>
                </p:nvSpPr>
                <p:spPr>
                  <a:xfrm>
                    <a:off x="8404920" y="638784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34720" y="639648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214480" y="640188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151480" y="6445440"/>
                    <a:ext cx="19980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48880" y="647208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924680" y="650772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9" name=""/>
              <p:cNvSpPr/>
              <p:nvPr/>
            </p:nvSpPr>
            <p:spPr>
              <a:xfrm>
                <a:off x="8634600" y="648504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>
              <a:hlinkClick r:id="" action="ppaction://hlinkshowjump?jump=nextslide"/>
            </p:cNvPr>
            <p:cNvSpPr/>
            <p:nvPr/>
          </p:nvSpPr>
          <p:spPr>
            <a:xfrm>
              <a:off x="7924680" y="6321600"/>
              <a:ext cx="914400" cy="53316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37035" h="21600">
                  <a:moveTo>
                    <a:pt x="0" y="0"/>
                  </a:moveTo>
                  <a:lnTo>
                    <a:pt x="37035" y="0"/>
                  </a:lnTo>
                  <a:lnTo>
                    <a:pt x="37035" y="21600"/>
                  </a:lnTo>
                  <a:lnTo>
                    <a:pt x="0" y="21600"/>
                  </a:lnTo>
                  <a:close/>
                </a:path>
                <a:path fill="lightenLess" w="37035" h="21600">
                  <a:moveTo>
                    <a:pt x="0" y="0"/>
                  </a:moveTo>
                  <a:lnTo>
                    <a:pt x="37035" y="0"/>
                  </a:lnTo>
                  <a:lnTo>
                    <a:pt x="35635" y="1400"/>
                  </a:lnTo>
                  <a:lnTo>
                    <a:pt x="1400" y="1400"/>
                  </a:lnTo>
                  <a:close/>
                </a:path>
                <a:path fill="darken" w="37035" h="21600">
                  <a:moveTo>
                    <a:pt x="37035" y="0"/>
                  </a:moveTo>
                  <a:lnTo>
                    <a:pt x="37035" y="21600"/>
                  </a:lnTo>
                  <a:lnTo>
                    <a:pt x="35635" y="20200"/>
                  </a:lnTo>
                  <a:lnTo>
                    <a:pt x="35635" y="1400"/>
                  </a:lnTo>
                  <a:close/>
                </a:path>
                <a:path fill="darkenLess" w="37035" h="21600">
                  <a:moveTo>
                    <a:pt x="370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35" y="20200"/>
                  </a:lnTo>
                  <a:close/>
                </a:path>
                <a:path fill="lighten" w="370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6095880"/>
            <a:ext cx="76212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85800" y="228600"/>
            <a:ext cx="1955880" cy="1887480"/>
            <a:chOff x="685800" y="228600"/>
            <a:chExt cx="1955880" cy="1887480"/>
          </a:xfrm>
        </p:grpSpPr>
        <p:sp>
          <p:nvSpPr>
            <p:cNvPr id="94" name=""/>
            <p:cNvSpPr/>
            <p:nvPr/>
          </p:nvSpPr>
          <p:spPr>
            <a:xfrm>
              <a:off x="990720" y="533520"/>
              <a:ext cx="1176120" cy="123336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66840" y="608040"/>
              <a:ext cx="47484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0880" y="1274760"/>
              <a:ext cx="401400" cy="37296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73360" y="1685880"/>
              <a:ext cx="430200" cy="40500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1920" y="155412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9560" y="1162080"/>
              <a:ext cx="522360" cy="37476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" y="228600"/>
              <a:ext cx="517680" cy="53640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60600" y="230040"/>
              <a:ext cx="384120" cy="33516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51000" y="1162080"/>
              <a:ext cx="803160" cy="33660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762120"/>
              <a:ext cx="326880" cy="35244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4280" y="876240"/>
              <a:ext cx="279720" cy="10008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95280" y="990720"/>
              <a:ext cx="15264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84360" y="609480"/>
              <a:ext cx="320760" cy="37008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43040" y="750960"/>
              <a:ext cx="358920" cy="13176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1752120" y="838080"/>
              <a:ext cx="7632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952880" y="22860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3"/>
          </p:cNvPr>
          <p:cNvSpPr/>
          <p:nvPr/>
        </p:nvSpPr>
        <p:spPr>
          <a:xfrm>
            <a:off x="5410080" y="60958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848720" y="624528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3733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781680" y="1981080"/>
            <a:ext cx="1568520" cy="1192320"/>
            <a:chOff x="6781680" y="1981080"/>
            <a:chExt cx="1568520" cy="1192320"/>
          </a:xfrm>
        </p:grpSpPr>
        <p:sp>
          <p:nvSpPr>
            <p:cNvPr id="114" name=""/>
            <p:cNvSpPr/>
            <p:nvPr/>
          </p:nvSpPr>
          <p:spPr>
            <a:xfrm>
              <a:off x="7283520" y="2395440"/>
              <a:ext cx="600120" cy="49860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81680" y="1981080"/>
              <a:ext cx="1568520" cy="119232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83520" y="2127240"/>
              <a:ext cx="291960" cy="60480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8000" y="2185920"/>
              <a:ext cx="438120" cy="40788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46920" y="2503440"/>
              <a:ext cx="230040" cy="18432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84960" y="2782800"/>
              <a:ext cx="168480" cy="25236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34480" y="2293920"/>
              <a:ext cx="215640" cy="16812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32720" y="2425680"/>
              <a:ext cx="252360" cy="1699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08760" y="206676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 rot="10800000">
              <a:off x="6967440" y="275112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85800" y="228600"/>
            <a:ext cx="1955880" cy="1887480"/>
            <a:chOff x="685800" y="228600"/>
            <a:chExt cx="1955880" cy="1887480"/>
          </a:xfrm>
        </p:grpSpPr>
        <p:sp>
          <p:nvSpPr>
            <p:cNvPr id="125" name=""/>
            <p:cNvSpPr/>
            <p:nvPr/>
          </p:nvSpPr>
          <p:spPr>
            <a:xfrm>
              <a:off x="990720" y="533520"/>
              <a:ext cx="1176120" cy="123336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66840" y="608040"/>
              <a:ext cx="47484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90880" y="1274760"/>
              <a:ext cx="401400" cy="37296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73360" y="1685880"/>
              <a:ext cx="430200" cy="40500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31920" y="155412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9560" y="1162080"/>
              <a:ext cx="522360" cy="37476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228600"/>
              <a:ext cx="517680" cy="53640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0600" y="230040"/>
              <a:ext cx="384120" cy="33516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51000" y="1162080"/>
              <a:ext cx="803160" cy="33660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3000" y="762120"/>
              <a:ext cx="326880" cy="35244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4280" y="876240"/>
              <a:ext cx="279720" cy="10008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990720"/>
              <a:ext cx="15264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84360" y="609480"/>
              <a:ext cx="320760" cy="37008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43040" y="750960"/>
              <a:ext cx="358920" cy="13176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752120" y="838080"/>
              <a:ext cx="7632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9080" y="3828960"/>
            <a:ext cx="1792080" cy="603360"/>
          </a:xfrm>
          <a:custGeom>
            <a:avLst/>
            <a:gdLst/>
            <a:ahLst/>
            <a:rect l="l" t="t" r="r" b="b"/>
            <a:pathLst>
              <a:path w="1129" h="380">
                <a:moveTo>
                  <a:pt x="0" y="282"/>
                </a:moveTo>
                <a:cubicBezTo>
                  <a:pt x="16" y="259"/>
                  <a:pt x="32" y="235"/>
                  <a:pt x="47" y="212"/>
                </a:cubicBezTo>
                <a:cubicBezTo>
                  <a:pt x="55" y="200"/>
                  <a:pt x="70" y="176"/>
                  <a:pt x="70" y="176"/>
                </a:cubicBezTo>
                <a:cubicBezTo>
                  <a:pt x="86" y="114"/>
                  <a:pt x="78" y="61"/>
                  <a:pt x="59" y="0"/>
                </a:cubicBezTo>
                <a:cubicBezTo>
                  <a:pt x="39" y="79"/>
                  <a:pt x="44" y="16"/>
                  <a:pt x="70" y="94"/>
                </a:cubicBezTo>
                <a:cubicBezTo>
                  <a:pt x="80" y="125"/>
                  <a:pt x="94" y="188"/>
                  <a:pt x="94" y="188"/>
                </a:cubicBezTo>
                <a:cubicBezTo>
                  <a:pt x="126" y="139"/>
                  <a:pt x="147" y="91"/>
                  <a:pt x="164" y="35"/>
                </a:cubicBezTo>
                <a:cubicBezTo>
                  <a:pt x="172" y="66"/>
                  <a:pt x="180" y="98"/>
                  <a:pt x="188" y="129"/>
                </a:cubicBezTo>
                <a:cubicBezTo>
                  <a:pt x="192" y="145"/>
                  <a:pt x="200" y="176"/>
                  <a:pt x="200" y="176"/>
                </a:cubicBezTo>
                <a:cubicBezTo>
                  <a:pt x="219" y="116"/>
                  <a:pt x="227" y="64"/>
                  <a:pt x="235" y="0"/>
                </a:cubicBezTo>
                <a:cubicBezTo>
                  <a:pt x="256" y="82"/>
                  <a:pt x="239" y="31"/>
                  <a:pt x="294" y="141"/>
                </a:cubicBezTo>
                <a:cubicBezTo>
                  <a:pt x="302" y="157"/>
                  <a:pt x="309" y="172"/>
                  <a:pt x="317" y="188"/>
                </a:cubicBezTo>
                <a:cubicBezTo>
                  <a:pt x="325" y="204"/>
                  <a:pt x="341" y="235"/>
                  <a:pt x="341" y="235"/>
                </a:cubicBezTo>
                <a:cubicBezTo>
                  <a:pt x="375" y="183"/>
                  <a:pt x="378" y="143"/>
                  <a:pt x="400" y="82"/>
                </a:cubicBezTo>
                <a:cubicBezTo>
                  <a:pt x="406" y="66"/>
                  <a:pt x="416" y="51"/>
                  <a:pt x="423" y="35"/>
                </a:cubicBezTo>
                <a:cubicBezTo>
                  <a:pt x="428" y="24"/>
                  <a:pt x="431" y="12"/>
                  <a:pt x="435" y="0"/>
                </a:cubicBezTo>
                <a:cubicBezTo>
                  <a:pt x="468" y="48"/>
                  <a:pt x="492" y="119"/>
                  <a:pt x="506" y="176"/>
                </a:cubicBezTo>
                <a:cubicBezTo>
                  <a:pt x="511" y="160"/>
                  <a:pt x="515" y="105"/>
                  <a:pt x="553" y="153"/>
                </a:cubicBezTo>
                <a:cubicBezTo>
                  <a:pt x="586" y="195"/>
                  <a:pt x="596" y="236"/>
                  <a:pt x="611" y="282"/>
                </a:cubicBezTo>
                <a:cubicBezTo>
                  <a:pt x="615" y="260"/>
                  <a:pt x="637" y="149"/>
                  <a:pt x="647" y="141"/>
                </a:cubicBezTo>
                <a:cubicBezTo>
                  <a:pt x="661" y="130"/>
                  <a:pt x="658" y="176"/>
                  <a:pt x="670" y="188"/>
                </a:cubicBezTo>
                <a:cubicBezTo>
                  <a:pt x="690" y="208"/>
                  <a:pt x="741" y="235"/>
                  <a:pt x="741" y="235"/>
                </a:cubicBezTo>
                <a:cubicBezTo>
                  <a:pt x="745" y="247"/>
                  <a:pt x="741" y="268"/>
                  <a:pt x="753" y="271"/>
                </a:cubicBezTo>
                <a:cubicBezTo>
                  <a:pt x="785" y="279"/>
                  <a:pt x="795" y="226"/>
                  <a:pt x="800" y="212"/>
                </a:cubicBezTo>
                <a:cubicBezTo>
                  <a:pt x="826" y="229"/>
                  <a:pt x="860" y="237"/>
                  <a:pt x="882" y="259"/>
                </a:cubicBezTo>
                <a:cubicBezTo>
                  <a:pt x="902" y="279"/>
                  <a:pt x="929" y="329"/>
                  <a:pt x="929" y="329"/>
                </a:cubicBezTo>
                <a:cubicBezTo>
                  <a:pt x="933" y="317"/>
                  <a:pt x="932" y="303"/>
                  <a:pt x="941" y="294"/>
                </a:cubicBezTo>
                <a:cubicBezTo>
                  <a:pt x="961" y="274"/>
                  <a:pt x="1011" y="247"/>
                  <a:pt x="1011" y="247"/>
                </a:cubicBezTo>
                <a:cubicBezTo>
                  <a:pt x="1029" y="273"/>
                  <a:pt x="1034" y="309"/>
                  <a:pt x="1058" y="329"/>
                </a:cubicBezTo>
                <a:cubicBezTo>
                  <a:pt x="1070" y="339"/>
                  <a:pt x="1089" y="337"/>
                  <a:pt x="1105" y="341"/>
                </a:cubicBezTo>
                <a:cubicBezTo>
                  <a:pt x="1118" y="380"/>
                  <a:pt x="1105" y="376"/>
                  <a:pt x="1129" y="376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-152280" y="4648320"/>
            <a:ext cx="9676800" cy="2361600"/>
            <a:chOff x="-152280" y="4648320"/>
            <a:chExt cx="9676800" cy="2361600"/>
          </a:xfrm>
        </p:grpSpPr>
        <p:sp>
          <p:nvSpPr>
            <p:cNvPr id="142" name=""/>
            <p:cNvSpPr/>
            <p:nvPr/>
          </p:nvSpPr>
          <p:spPr>
            <a:xfrm>
              <a:off x="-152280" y="4648320"/>
              <a:ext cx="9676800" cy="2361600"/>
            </a:xfrm>
            <a:custGeom>
              <a:avLst/>
              <a:gdLst/>
              <a:ahLst/>
              <a:rect l="l" t="t" r="r" b="b"/>
              <a:pathLst>
                <a:path w="5940" h="1089">
                  <a:moveTo>
                    <a:pt x="47" y="118"/>
                  </a:moveTo>
                  <a:cubicBezTo>
                    <a:pt x="138" y="95"/>
                    <a:pt x="215" y="71"/>
                    <a:pt x="306" y="59"/>
                  </a:cubicBezTo>
                  <a:cubicBezTo>
                    <a:pt x="526" y="63"/>
                    <a:pt x="745" y="64"/>
                    <a:pt x="965" y="70"/>
                  </a:cubicBezTo>
                  <a:cubicBezTo>
                    <a:pt x="1098" y="74"/>
                    <a:pt x="1106" y="83"/>
                    <a:pt x="1212" y="59"/>
                  </a:cubicBezTo>
                  <a:cubicBezTo>
                    <a:pt x="1244" y="52"/>
                    <a:pt x="1306" y="35"/>
                    <a:pt x="1306" y="35"/>
                  </a:cubicBezTo>
                  <a:cubicBezTo>
                    <a:pt x="1592" y="44"/>
                    <a:pt x="1868" y="42"/>
                    <a:pt x="2153" y="23"/>
                  </a:cubicBezTo>
                  <a:cubicBezTo>
                    <a:pt x="2505" y="29"/>
                    <a:pt x="2737" y="24"/>
                    <a:pt x="3047" y="59"/>
                  </a:cubicBezTo>
                  <a:cubicBezTo>
                    <a:pt x="3156" y="84"/>
                    <a:pt x="3078" y="68"/>
                    <a:pt x="3282" y="94"/>
                  </a:cubicBezTo>
                  <a:cubicBezTo>
                    <a:pt x="3358" y="104"/>
                    <a:pt x="3430" y="130"/>
                    <a:pt x="3506" y="141"/>
                  </a:cubicBezTo>
                  <a:cubicBezTo>
                    <a:pt x="3646" y="133"/>
                    <a:pt x="3715" y="149"/>
                    <a:pt x="3823" y="94"/>
                  </a:cubicBezTo>
                  <a:cubicBezTo>
                    <a:pt x="3831" y="78"/>
                    <a:pt x="3832" y="56"/>
                    <a:pt x="3847" y="47"/>
                  </a:cubicBezTo>
                  <a:cubicBezTo>
                    <a:pt x="3882" y="26"/>
                    <a:pt x="4005" y="7"/>
                    <a:pt x="4047" y="0"/>
                  </a:cubicBezTo>
                  <a:cubicBezTo>
                    <a:pt x="4118" y="9"/>
                    <a:pt x="4188" y="17"/>
                    <a:pt x="4258" y="35"/>
                  </a:cubicBezTo>
                  <a:cubicBezTo>
                    <a:pt x="4411" y="13"/>
                    <a:pt x="4564" y="25"/>
                    <a:pt x="4717" y="47"/>
                  </a:cubicBezTo>
                  <a:cubicBezTo>
                    <a:pt x="4804" y="90"/>
                    <a:pt x="4730" y="60"/>
                    <a:pt x="4870" y="82"/>
                  </a:cubicBezTo>
                  <a:cubicBezTo>
                    <a:pt x="4951" y="95"/>
                    <a:pt x="5022" y="120"/>
                    <a:pt x="5105" y="129"/>
                  </a:cubicBezTo>
                  <a:cubicBezTo>
                    <a:pt x="5175" y="147"/>
                    <a:pt x="5250" y="161"/>
                    <a:pt x="5317" y="188"/>
                  </a:cubicBezTo>
                  <a:cubicBezTo>
                    <a:pt x="5333" y="195"/>
                    <a:pt x="5347" y="207"/>
                    <a:pt x="5364" y="212"/>
                  </a:cubicBezTo>
                  <a:cubicBezTo>
                    <a:pt x="5440" y="235"/>
                    <a:pt x="5419" y="211"/>
                    <a:pt x="5482" y="235"/>
                  </a:cubicBezTo>
                  <a:cubicBezTo>
                    <a:pt x="5498" y="241"/>
                    <a:pt x="5512" y="253"/>
                    <a:pt x="5529" y="259"/>
                  </a:cubicBezTo>
                  <a:cubicBezTo>
                    <a:pt x="5575" y="274"/>
                    <a:pt x="5623" y="282"/>
                    <a:pt x="5670" y="294"/>
                  </a:cubicBezTo>
                  <a:cubicBezTo>
                    <a:pt x="5686" y="298"/>
                    <a:pt x="5717" y="306"/>
                    <a:pt x="5717" y="306"/>
                  </a:cubicBezTo>
                  <a:cubicBezTo>
                    <a:pt x="5725" y="318"/>
                    <a:pt x="5729" y="333"/>
                    <a:pt x="5741" y="341"/>
                  </a:cubicBezTo>
                  <a:cubicBezTo>
                    <a:pt x="5754" y="350"/>
                    <a:pt x="5773" y="347"/>
                    <a:pt x="5788" y="353"/>
                  </a:cubicBezTo>
                  <a:cubicBezTo>
                    <a:pt x="5825" y="367"/>
                    <a:pt x="5839" y="379"/>
                    <a:pt x="5870" y="400"/>
                  </a:cubicBezTo>
                  <a:cubicBezTo>
                    <a:pt x="5940" y="507"/>
                    <a:pt x="5905" y="716"/>
                    <a:pt x="5835" y="823"/>
                  </a:cubicBezTo>
                  <a:cubicBezTo>
                    <a:pt x="5831" y="886"/>
                    <a:pt x="5851" y="956"/>
                    <a:pt x="5823" y="1012"/>
                  </a:cubicBezTo>
                  <a:cubicBezTo>
                    <a:pt x="5809" y="1041"/>
                    <a:pt x="5761" y="1033"/>
                    <a:pt x="5729" y="1035"/>
                  </a:cubicBezTo>
                  <a:cubicBezTo>
                    <a:pt x="5670" y="1039"/>
                    <a:pt x="5611" y="1044"/>
                    <a:pt x="5552" y="1047"/>
                  </a:cubicBezTo>
                  <a:cubicBezTo>
                    <a:pt x="5458" y="1052"/>
                    <a:pt x="5364" y="1055"/>
                    <a:pt x="5270" y="1059"/>
                  </a:cubicBezTo>
                  <a:cubicBezTo>
                    <a:pt x="5031" y="1089"/>
                    <a:pt x="4783" y="1061"/>
                    <a:pt x="4541" y="1071"/>
                  </a:cubicBezTo>
                  <a:cubicBezTo>
                    <a:pt x="3812" y="1041"/>
                    <a:pt x="4149" y="1041"/>
                    <a:pt x="3529" y="1059"/>
                  </a:cubicBezTo>
                  <a:cubicBezTo>
                    <a:pt x="2212" y="1053"/>
                    <a:pt x="1223" y="1038"/>
                    <a:pt x="0" y="1000"/>
                  </a:cubicBezTo>
                  <a:cubicBezTo>
                    <a:pt x="4" y="808"/>
                    <a:pt x="12" y="423"/>
                    <a:pt x="12" y="423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134280" y="4841280"/>
              <a:ext cx="112320" cy="979920"/>
            </a:xfrm>
            <a:custGeom>
              <a:avLst/>
              <a:gdLst/>
              <a:ahLst/>
              <a:rect l="l" t="t" r="r" b="b"/>
              <a:pathLst>
                <a:path w="60" h="459">
                  <a:moveTo>
                    <a:pt x="4" y="459"/>
                  </a:moveTo>
                  <a:cubicBezTo>
                    <a:pt x="8" y="334"/>
                    <a:pt x="0" y="207"/>
                    <a:pt x="15" y="83"/>
                  </a:cubicBezTo>
                  <a:cubicBezTo>
                    <a:pt x="17" y="70"/>
                    <a:pt x="46" y="83"/>
                    <a:pt x="51" y="71"/>
                  </a:cubicBezTo>
                  <a:cubicBezTo>
                    <a:pt x="60" y="49"/>
                    <a:pt x="51" y="24"/>
                    <a:pt x="51" y="0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-146160" y="4146480"/>
            <a:ext cx="6242040" cy="1035000"/>
          </a:xfrm>
          <a:custGeom>
            <a:avLst/>
            <a:gdLst/>
            <a:ahLst/>
            <a:rect l="l" t="t" r="r" b="b"/>
            <a:pathLst>
              <a:path w="1342" h="511">
                <a:moveTo>
                  <a:pt x="68" y="59"/>
                </a:moveTo>
                <a:cubicBezTo>
                  <a:pt x="125" y="30"/>
                  <a:pt x="185" y="20"/>
                  <a:pt x="245" y="0"/>
                </a:cubicBezTo>
                <a:cubicBezTo>
                  <a:pt x="251" y="1"/>
                  <a:pt x="485" y="20"/>
                  <a:pt x="504" y="24"/>
                </a:cubicBezTo>
                <a:cubicBezTo>
                  <a:pt x="653" y="58"/>
                  <a:pt x="434" y="39"/>
                  <a:pt x="574" y="59"/>
                </a:cubicBezTo>
                <a:cubicBezTo>
                  <a:pt x="617" y="65"/>
                  <a:pt x="661" y="67"/>
                  <a:pt x="704" y="71"/>
                </a:cubicBezTo>
                <a:cubicBezTo>
                  <a:pt x="836" y="136"/>
                  <a:pt x="871" y="141"/>
                  <a:pt x="1033" y="153"/>
                </a:cubicBezTo>
                <a:cubicBezTo>
                  <a:pt x="1049" y="157"/>
                  <a:pt x="1067" y="156"/>
                  <a:pt x="1080" y="165"/>
                </a:cubicBezTo>
                <a:cubicBezTo>
                  <a:pt x="1092" y="173"/>
                  <a:pt x="1093" y="191"/>
                  <a:pt x="1104" y="200"/>
                </a:cubicBezTo>
                <a:cubicBezTo>
                  <a:pt x="1118" y="211"/>
                  <a:pt x="1136" y="215"/>
                  <a:pt x="1151" y="224"/>
                </a:cubicBezTo>
                <a:cubicBezTo>
                  <a:pt x="1163" y="231"/>
                  <a:pt x="1173" y="242"/>
                  <a:pt x="1186" y="247"/>
                </a:cubicBezTo>
                <a:cubicBezTo>
                  <a:pt x="1205" y="254"/>
                  <a:pt x="1226" y="254"/>
                  <a:pt x="1245" y="259"/>
                </a:cubicBezTo>
                <a:cubicBezTo>
                  <a:pt x="1269" y="265"/>
                  <a:pt x="1315" y="282"/>
                  <a:pt x="1315" y="282"/>
                </a:cubicBezTo>
                <a:cubicBezTo>
                  <a:pt x="1323" y="294"/>
                  <a:pt x="1342" y="304"/>
                  <a:pt x="1339" y="318"/>
                </a:cubicBezTo>
                <a:cubicBezTo>
                  <a:pt x="1331" y="360"/>
                  <a:pt x="1270" y="332"/>
                  <a:pt x="1257" y="329"/>
                </a:cubicBezTo>
                <a:cubicBezTo>
                  <a:pt x="1167" y="337"/>
                  <a:pt x="1076" y="345"/>
                  <a:pt x="986" y="353"/>
                </a:cubicBezTo>
                <a:cubicBezTo>
                  <a:pt x="913" y="359"/>
                  <a:pt x="869" y="429"/>
                  <a:pt x="798" y="435"/>
                </a:cubicBezTo>
                <a:cubicBezTo>
                  <a:pt x="724" y="442"/>
                  <a:pt x="649" y="443"/>
                  <a:pt x="574" y="447"/>
                </a:cubicBezTo>
                <a:cubicBezTo>
                  <a:pt x="442" y="481"/>
                  <a:pt x="310" y="476"/>
                  <a:pt x="174" y="482"/>
                </a:cubicBezTo>
                <a:cubicBezTo>
                  <a:pt x="155" y="486"/>
                  <a:pt x="135" y="489"/>
                  <a:pt x="116" y="494"/>
                </a:cubicBezTo>
                <a:cubicBezTo>
                  <a:pt x="104" y="497"/>
                  <a:pt x="92" y="511"/>
                  <a:pt x="80" y="506"/>
                </a:cubicBezTo>
                <a:cubicBezTo>
                  <a:pt x="67" y="501"/>
                  <a:pt x="63" y="484"/>
                  <a:pt x="57" y="471"/>
                </a:cubicBezTo>
                <a:cubicBezTo>
                  <a:pt x="37" y="431"/>
                  <a:pt x="35" y="383"/>
                  <a:pt x="21" y="341"/>
                </a:cubicBezTo>
                <a:cubicBezTo>
                  <a:pt x="46" y="80"/>
                  <a:pt x="0" y="163"/>
                  <a:pt x="68" y="5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5029200"/>
            <a:ext cx="51814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Un bruco strisciava fra l’erb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5486400"/>
            <a:ext cx="53337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Una farfalla volteggiava nel ci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4280" y="3828960"/>
            <a:ext cx="1722600" cy="546120"/>
          </a:xfrm>
          <a:custGeom>
            <a:avLst/>
            <a:gdLst/>
            <a:ahLst/>
            <a:rect l="l" t="t" r="r" b="b"/>
            <a:pathLst>
              <a:path w="1085" h="344">
                <a:moveTo>
                  <a:pt x="0" y="259"/>
                </a:moveTo>
                <a:cubicBezTo>
                  <a:pt x="31" y="195"/>
                  <a:pt x="30" y="206"/>
                  <a:pt x="47" y="118"/>
                </a:cubicBezTo>
                <a:cubicBezTo>
                  <a:pt x="55" y="79"/>
                  <a:pt x="70" y="0"/>
                  <a:pt x="70" y="0"/>
                </a:cubicBezTo>
                <a:cubicBezTo>
                  <a:pt x="82" y="47"/>
                  <a:pt x="96" y="75"/>
                  <a:pt x="117" y="118"/>
                </a:cubicBezTo>
                <a:cubicBezTo>
                  <a:pt x="130" y="144"/>
                  <a:pt x="123" y="178"/>
                  <a:pt x="141" y="200"/>
                </a:cubicBezTo>
                <a:cubicBezTo>
                  <a:pt x="149" y="210"/>
                  <a:pt x="164" y="208"/>
                  <a:pt x="176" y="212"/>
                </a:cubicBezTo>
                <a:cubicBezTo>
                  <a:pt x="180" y="224"/>
                  <a:pt x="179" y="238"/>
                  <a:pt x="188" y="247"/>
                </a:cubicBezTo>
                <a:cubicBezTo>
                  <a:pt x="231" y="290"/>
                  <a:pt x="229" y="233"/>
                  <a:pt x="247" y="212"/>
                </a:cubicBezTo>
                <a:cubicBezTo>
                  <a:pt x="256" y="201"/>
                  <a:pt x="270" y="196"/>
                  <a:pt x="282" y="188"/>
                </a:cubicBezTo>
                <a:cubicBezTo>
                  <a:pt x="297" y="144"/>
                  <a:pt x="317" y="105"/>
                  <a:pt x="329" y="59"/>
                </a:cubicBezTo>
                <a:cubicBezTo>
                  <a:pt x="364" y="195"/>
                  <a:pt x="315" y="27"/>
                  <a:pt x="364" y="141"/>
                </a:cubicBezTo>
                <a:cubicBezTo>
                  <a:pt x="409" y="246"/>
                  <a:pt x="341" y="136"/>
                  <a:pt x="400" y="224"/>
                </a:cubicBezTo>
                <a:cubicBezTo>
                  <a:pt x="443" y="209"/>
                  <a:pt x="444" y="216"/>
                  <a:pt x="470" y="165"/>
                </a:cubicBezTo>
                <a:cubicBezTo>
                  <a:pt x="481" y="143"/>
                  <a:pt x="494" y="94"/>
                  <a:pt x="494" y="94"/>
                </a:cubicBezTo>
                <a:cubicBezTo>
                  <a:pt x="510" y="98"/>
                  <a:pt x="528" y="96"/>
                  <a:pt x="541" y="106"/>
                </a:cubicBezTo>
                <a:cubicBezTo>
                  <a:pt x="551" y="114"/>
                  <a:pt x="543" y="132"/>
                  <a:pt x="552" y="141"/>
                </a:cubicBezTo>
                <a:cubicBezTo>
                  <a:pt x="561" y="150"/>
                  <a:pt x="576" y="149"/>
                  <a:pt x="588" y="153"/>
                </a:cubicBezTo>
                <a:cubicBezTo>
                  <a:pt x="596" y="165"/>
                  <a:pt x="604" y="176"/>
                  <a:pt x="611" y="188"/>
                </a:cubicBezTo>
                <a:cubicBezTo>
                  <a:pt x="620" y="203"/>
                  <a:pt x="620" y="226"/>
                  <a:pt x="635" y="235"/>
                </a:cubicBezTo>
                <a:cubicBezTo>
                  <a:pt x="645" y="241"/>
                  <a:pt x="658" y="228"/>
                  <a:pt x="670" y="224"/>
                </a:cubicBezTo>
                <a:cubicBezTo>
                  <a:pt x="672" y="220"/>
                  <a:pt x="701" y="142"/>
                  <a:pt x="729" y="153"/>
                </a:cubicBezTo>
                <a:cubicBezTo>
                  <a:pt x="745" y="160"/>
                  <a:pt x="740" y="188"/>
                  <a:pt x="752" y="200"/>
                </a:cubicBezTo>
                <a:cubicBezTo>
                  <a:pt x="761" y="209"/>
                  <a:pt x="776" y="208"/>
                  <a:pt x="788" y="212"/>
                </a:cubicBezTo>
                <a:cubicBezTo>
                  <a:pt x="823" y="317"/>
                  <a:pt x="799" y="293"/>
                  <a:pt x="823" y="247"/>
                </a:cubicBezTo>
                <a:cubicBezTo>
                  <a:pt x="829" y="234"/>
                  <a:pt x="839" y="224"/>
                  <a:pt x="847" y="212"/>
                </a:cubicBezTo>
                <a:cubicBezTo>
                  <a:pt x="851" y="200"/>
                  <a:pt x="846" y="179"/>
                  <a:pt x="858" y="176"/>
                </a:cubicBezTo>
                <a:cubicBezTo>
                  <a:pt x="899" y="165"/>
                  <a:pt x="900" y="234"/>
                  <a:pt x="905" y="247"/>
                </a:cubicBezTo>
                <a:cubicBezTo>
                  <a:pt x="911" y="260"/>
                  <a:pt x="921" y="270"/>
                  <a:pt x="929" y="282"/>
                </a:cubicBezTo>
                <a:cubicBezTo>
                  <a:pt x="941" y="278"/>
                  <a:pt x="953" y="276"/>
                  <a:pt x="964" y="271"/>
                </a:cubicBezTo>
                <a:cubicBezTo>
                  <a:pt x="980" y="264"/>
                  <a:pt x="994" y="242"/>
                  <a:pt x="1011" y="247"/>
                </a:cubicBezTo>
                <a:cubicBezTo>
                  <a:pt x="1028" y="252"/>
                  <a:pt x="1023" y="282"/>
                  <a:pt x="1035" y="294"/>
                </a:cubicBezTo>
                <a:cubicBezTo>
                  <a:pt x="1085" y="344"/>
                  <a:pt x="1082" y="295"/>
                  <a:pt x="1082" y="329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223920" y="5846760"/>
            <a:ext cx="9552240" cy="121428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943600" y="4343400"/>
            <a:ext cx="1363680" cy="520560"/>
            <a:chOff x="5943600" y="4343400"/>
            <a:chExt cx="1363680" cy="520560"/>
          </a:xfrm>
        </p:grpSpPr>
        <p:grpSp>
          <p:nvGrpSpPr>
            <p:cNvPr id="150" name=""/>
            <p:cNvGrpSpPr/>
            <p:nvPr/>
          </p:nvGrpSpPr>
          <p:grpSpPr>
            <a:xfrm>
              <a:off x="5943600" y="4343400"/>
              <a:ext cx="1363680" cy="520560"/>
              <a:chOff x="5943600" y="4343400"/>
              <a:chExt cx="1363680" cy="520560"/>
            </a:xfrm>
          </p:grpSpPr>
          <p:sp>
            <p:nvSpPr>
              <p:cNvPr id="151" name=""/>
              <p:cNvSpPr/>
              <p:nvPr/>
            </p:nvSpPr>
            <p:spPr>
              <a:xfrm>
                <a:off x="6832800" y="4370400"/>
                <a:ext cx="474480" cy="309240"/>
              </a:xfrm>
              <a:custGeom>
                <a:avLst/>
                <a:gdLst/>
                <a:ahLst/>
                <a:rect l="l" t="t" r="r" b="b"/>
                <a:pathLst>
                  <a:path w="299" h="195">
                    <a:moveTo>
                      <a:pt x="162" y="195"/>
                    </a:moveTo>
                    <a:cubicBezTo>
                      <a:pt x="101" y="185"/>
                      <a:pt x="70" y="182"/>
                      <a:pt x="21" y="148"/>
                    </a:cubicBezTo>
                    <a:cubicBezTo>
                      <a:pt x="0" y="87"/>
                      <a:pt x="2" y="67"/>
                      <a:pt x="56" y="31"/>
                    </a:cubicBezTo>
                    <a:cubicBezTo>
                      <a:pt x="299" y="47"/>
                      <a:pt x="176" y="0"/>
                      <a:pt x="256" y="125"/>
                    </a:cubicBezTo>
                    <a:cubicBezTo>
                      <a:pt x="248" y="150"/>
                      <a:pt x="247" y="181"/>
                      <a:pt x="209" y="184"/>
                    </a:cubicBezTo>
                    <a:cubicBezTo>
                      <a:pt x="135" y="190"/>
                      <a:pt x="41" y="147"/>
                      <a:pt x="162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5943600" y="4343400"/>
                <a:ext cx="1116000" cy="520560"/>
                <a:chOff x="5943600" y="4343400"/>
                <a:chExt cx="1116000" cy="5205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716880" y="4343400"/>
                  <a:ext cx="342720" cy="374400"/>
                </a:xfrm>
                <a:custGeom>
                  <a:avLst/>
                  <a:gdLst/>
                  <a:ahLst/>
                  <a:rect l="l" t="t" r="r" b="b"/>
                  <a:pathLst>
                    <a:path w="216" h="236">
                      <a:moveTo>
                        <a:pt x="188" y="106"/>
                      </a:moveTo>
                      <a:cubicBezTo>
                        <a:pt x="175" y="49"/>
                        <a:pt x="187" y="31"/>
                        <a:pt x="129" y="12"/>
                      </a:cubicBezTo>
                      <a:cubicBezTo>
                        <a:pt x="119" y="13"/>
                        <a:pt x="0" y="0"/>
                        <a:pt x="0" y="59"/>
                      </a:cubicBezTo>
                      <a:cubicBezTo>
                        <a:pt x="0" y="136"/>
                        <a:pt x="64" y="176"/>
                        <a:pt x="118" y="212"/>
                      </a:cubicBezTo>
                      <a:cubicBezTo>
                        <a:pt x="130" y="220"/>
                        <a:pt x="153" y="236"/>
                        <a:pt x="153" y="236"/>
                      </a:cubicBezTo>
                      <a:cubicBezTo>
                        <a:pt x="165" y="232"/>
                        <a:pt x="179" y="233"/>
                        <a:pt x="188" y="224"/>
                      </a:cubicBezTo>
                      <a:cubicBezTo>
                        <a:pt x="216" y="196"/>
                        <a:pt x="188" y="140"/>
                        <a:pt x="188" y="106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604200" y="4357440"/>
                  <a:ext cx="298440" cy="365400"/>
                </a:xfrm>
                <a:custGeom>
                  <a:avLst/>
                  <a:gdLst/>
                  <a:ahLst/>
                  <a:rect l="l" t="t" r="r" b="b"/>
                  <a:pathLst>
                    <a:path w="188" h="230">
                      <a:moveTo>
                        <a:pt x="130" y="74"/>
                      </a:moveTo>
                      <a:cubicBezTo>
                        <a:pt x="126" y="58"/>
                        <a:pt x="133" y="32"/>
                        <a:pt x="118" y="27"/>
                      </a:cubicBezTo>
                      <a:cubicBezTo>
                        <a:pt x="38" y="0"/>
                        <a:pt x="29" y="31"/>
                        <a:pt x="0" y="74"/>
                      </a:cubicBezTo>
                      <a:cubicBezTo>
                        <a:pt x="13" y="137"/>
                        <a:pt x="19" y="156"/>
                        <a:pt x="71" y="192"/>
                      </a:cubicBezTo>
                      <a:cubicBezTo>
                        <a:pt x="79" y="204"/>
                        <a:pt x="82" y="223"/>
                        <a:pt x="95" y="227"/>
                      </a:cubicBezTo>
                      <a:cubicBezTo>
                        <a:pt x="103" y="230"/>
                        <a:pt x="166" y="207"/>
                        <a:pt x="177" y="203"/>
                      </a:cubicBezTo>
                      <a:cubicBezTo>
                        <a:pt x="151" y="78"/>
                        <a:pt x="188" y="104"/>
                        <a:pt x="130" y="74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410520" y="4365360"/>
                  <a:ext cx="393480" cy="333360"/>
                </a:xfrm>
                <a:custGeom>
                  <a:avLst/>
                  <a:gdLst/>
                  <a:ahLst/>
                  <a:rect l="l" t="t" r="r" b="b"/>
                  <a:pathLst>
                    <a:path w="248" h="210">
                      <a:moveTo>
                        <a:pt x="193" y="92"/>
                      </a:moveTo>
                      <a:cubicBezTo>
                        <a:pt x="139" y="12"/>
                        <a:pt x="173" y="31"/>
                        <a:pt x="111" y="10"/>
                      </a:cubicBezTo>
                      <a:cubicBezTo>
                        <a:pt x="80" y="14"/>
                        <a:pt x="39" y="0"/>
                        <a:pt x="17" y="22"/>
                      </a:cubicBezTo>
                      <a:cubicBezTo>
                        <a:pt x="0" y="39"/>
                        <a:pt x="23" y="69"/>
                        <a:pt x="28" y="92"/>
                      </a:cubicBezTo>
                      <a:cubicBezTo>
                        <a:pt x="44" y="167"/>
                        <a:pt x="113" y="193"/>
                        <a:pt x="181" y="210"/>
                      </a:cubicBezTo>
                      <a:cubicBezTo>
                        <a:pt x="193" y="206"/>
                        <a:pt x="207" y="206"/>
                        <a:pt x="217" y="198"/>
                      </a:cubicBezTo>
                      <a:cubicBezTo>
                        <a:pt x="248" y="174"/>
                        <a:pt x="248" y="152"/>
                        <a:pt x="217" y="128"/>
                      </a:cubicBezTo>
                      <a:cubicBezTo>
                        <a:pt x="207" y="120"/>
                        <a:pt x="188" y="127"/>
                        <a:pt x="181" y="116"/>
                      </a:cubicBezTo>
                      <a:cubicBezTo>
                        <a:pt x="176" y="109"/>
                        <a:pt x="189" y="100"/>
                        <a:pt x="193" y="92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309000" y="4433760"/>
                  <a:ext cx="322200" cy="320760"/>
                </a:xfrm>
                <a:custGeom>
                  <a:avLst/>
                  <a:gdLst/>
                  <a:ahLst/>
                  <a:rect l="l" t="t" r="r" b="b"/>
                  <a:pathLst>
                    <a:path w="203" h="202">
                      <a:moveTo>
                        <a:pt x="139" y="38"/>
                      </a:moveTo>
                      <a:cubicBezTo>
                        <a:pt x="56" y="9"/>
                        <a:pt x="89" y="0"/>
                        <a:pt x="34" y="38"/>
                      </a:cubicBezTo>
                      <a:cubicBezTo>
                        <a:pt x="26" y="50"/>
                        <a:pt x="11" y="59"/>
                        <a:pt x="10" y="73"/>
                      </a:cubicBezTo>
                      <a:cubicBezTo>
                        <a:pt x="0" y="172"/>
                        <a:pt x="55" y="180"/>
                        <a:pt x="128" y="202"/>
                      </a:cubicBezTo>
                      <a:cubicBezTo>
                        <a:pt x="147" y="198"/>
                        <a:pt x="170" y="202"/>
                        <a:pt x="186" y="191"/>
                      </a:cubicBezTo>
                      <a:cubicBezTo>
                        <a:pt x="197" y="184"/>
                        <a:pt x="198" y="168"/>
                        <a:pt x="198" y="155"/>
                      </a:cubicBezTo>
                      <a:cubicBezTo>
                        <a:pt x="198" y="107"/>
                        <a:pt x="203" y="38"/>
                        <a:pt x="139" y="38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143760" y="4475160"/>
                  <a:ext cx="263520" cy="333360"/>
                </a:xfrm>
                <a:custGeom>
                  <a:avLst/>
                  <a:gdLst/>
                  <a:ahLst/>
                  <a:rect l="l" t="t" r="r" b="b"/>
                  <a:pathLst>
                    <a:path w="208" h="276">
                      <a:moveTo>
                        <a:pt x="185" y="70"/>
                      </a:moveTo>
                      <a:cubicBezTo>
                        <a:pt x="169" y="62"/>
                        <a:pt x="153" y="56"/>
                        <a:pt x="138" y="47"/>
                      </a:cubicBezTo>
                      <a:cubicBezTo>
                        <a:pt x="114" y="33"/>
                        <a:pt x="67" y="0"/>
                        <a:pt x="67" y="0"/>
                      </a:cubicBezTo>
                      <a:cubicBezTo>
                        <a:pt x="0" y="44"/>
                        <a:pt x="18" y="80"/>
                        <a:pt x="32" y="165"/>
                      </a:cubicBezTo>
                      <a:cubicBezTo>
                        <a:pt x="34" y="177"/>
                        <a:pt x="34" y="191"/>
                        <a:pt x="43" y="200"/>
                      </a:cubicBezTo>
                      <a:cubicBezTo>
                        <a:pt x="56" y="212"/>
                        <a:pt x="75" y="215"/>
                        <a:pt x="91" y="223"/>
                      </a:cubicBezTo>
                      <a:cubicBezTo>
                        <a:pt x="121" y="269"/>
                        <a:pt x="133" y="276"/>
                        <a:pt x="185" y="259"/>
                      </a:cubicBezTo>
                      <a:cubicBezTo>
                        <a:pt x="192" y="235"/>
                        <a:pt x="208" y="213"/>
                        <a:pt x="208" y="188"/>
                      </a:cubicBezTo>
                      <a:cubicBezTo>
                        <a:pt x="208" y="145"/>
                        <a:pt x="185" y="111"/>
                        <a:pt x="185" y="70"/>
                      </a:cubicBez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943600" y="4530600"/>
                  <a:ext cx="403200" cy="333360"/>
                </a:xfrm>
                <a:custGeom>
                  <a:avLst/>
                  <a:gdLst/>
                  <a:ahLst/>
                  <a:rect l="l" t="t" r="r" b="b"/>
                  <a:pathLst>
                    <a:path w="254" h="210">
                      <a:moveTo>
                        <a:pt x="193" y="47"/>
                      </a:moveTo>
                      <a:cubicBezTo>
                        <a:pt x="181" y="39"/>
                        <a:pt x="171" y="30"/>
                        <a:pt x="158" y="24"/>
                      </a:cubicBezTo>
                      <a:cubicBezTo>
                        <a:pt x="135" y="14"/>
                        <a:pt x="87" y="0"/>
                        <a:pt x="87" y="0"/>
                      </a:cubicBezTo>
                      <a:cubicBezTo>
                        <a:pt x="0" y="30"/>
                        <a:pt x="41" y="119"/>
                        <a:pt x="87" y="165"/>
                      </a:cubicBezTo>
                      <a:cubicBezTo>
                        <a:pt x="109" y="187"/>
                        <a:pt x="130" y="191"/>
                        <a:pt x="158" y="200"/>
                      </a:cubicBezTo>
                      <a:cubicBezTo>
                        <a:pt x="185" y="196"/>
                        <a:pt x="224" y="210"/>
                        <a:pt x="240" y="188"/>
                      </a:cubicBezTo>
                      <a:cubicBezTo>
                        <a:pt x="254" y="168"/>
                        <a:pt x="222" y="142"/>
                        <a:pt x="217" y="118"/>
                      </a:cubicBezTo>
                      <a:cubicBezTo>
                        <a:pt x="213" y="98"/>
                        <a:pt x="211" y="78"/>
                        <a:pt x="205" y="59"/>
                      </a:cubicBezTo>
                      <a:cubicBezTo>
                        <a:pt x="203" y="54"/>
                        <a:pt x="197" y="51"/>
                        <a:pt x="193" y="47"/>
                      </a:cubicBez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7086600" y="4495680"/>
              <a:ext cx="75960" cy="7632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0" y="3809880"/>
            <a:ext cx="7581960" cy="1295640"/>
          </a:xfrm>
          <a:custGeom>
            <a:avLst/>
            <a:gdLst/>
            <a:ahLst/>
            <a:rect l="l" t="t" r="r" b="b"/>
            <a:pathLst>
              <a:path w="4776" h="410">
                <a:moveTo>
                  <a:pt x="0" y="410"/>
                </a:moveTo>
                <a:cubicBezTo>
                  <a:pt x="75" y="391"/>
                  <a:pt x="114" y="382"/>
                  <a:pt x="176" y="339"/>
                </a:cubicBezTo>
                <a:cubicBezTo>
                  <a:pt x="180" y="327"/>
                  <a:pt x="183" y="315"/>
                  <a:pt x="188" y="304"/>
                </a:cubicBezTo>
                <a:cubicBezTo>
                  <a:pt x="194" y="291"/>
                  <a:pt x="206" y="281"/>
                  <a:pt x="211" y="268"/>
                </a:cubicBezTo>
                <a:cubicBezTo>
                  <a:pt x="236" y="200"/>
                  <a:pt x="255" y="102"/>
                  <a:pt x="270" y="33"/>
                </a:cubicBezTo>
                <a:cubicBezTo>
                  <a:pt x="298" y="197"/>
                  <a:pt x="270" y="0"/>
                  <a:pt x="270" y="292"/>
                </a:cubicBezTo>
                <a:cubicBezTo>
                  <a:pt x="270" y="304"/>
                  <a:pt x="279" y="269"/>
                  <a:pt x="282" y="257"/>
                </a:cubicBezTo>
                <a:cubicBezTo>
                  <a:pt x="302" y="185"/>
                  <a:pt x="299" y="181"/>
                  <a:pt x="317" y="127"/>
                </a:cubicBezTo>
                <a:cubicBezTo>
                  <a:pt x="325" y="104"/>
                  <a:pt x="341" y="57"/>
                  <a:pt x="341" y="57"/>
                </a:cubicBezTo>
                <a:cubicBezTo>
                  <a:pt x="349" y="88"/>
                  <a:pt x="367" y="119"/>
                  <a:pt x="364" y="151"/>
                </a:cubicBezTo>
                <a:cubicBezTo>
                  <a:pt x="360" y="198"/>
                  <a:pt x="344" y="246"/>
                  <a:pt x="353" y="292"/>
                </a:cubicBezTo>
                <a:cubicBezTo>
                  <a:pt x="355" y="304"/>
                  <a:pt x="376" y="284"/>
                  <a:pt x="388" y="280"/>
                </a:cubicBezTo>
                <a:cubicBezTo>
                  <a:pt x="392" y="264"/>
                  <a:pt x="391" y="246"/>
                  <a:pt x="400" y="233"/>
                </a:cubicBezTo>
                <a:cubicBezTo>
                  <a:pt x="457" y="148"/>
                  <a:pt x="420" y="273"/>
                  <a:pt x="447" y="174"/>
                </a:cubicBezTo>
                <a:cubicBezTo>
                  <a:pt x="455" y="143"/>
                  <a:pt x="470" y="80"/>
                  <a:pt x="470" y="80"/>
                </a:cubicBezTo>
                <a:cubicBezTo>
                  <a:pt x="466" y="123"/>
                  <a:pt x="464" y="167"/>
                  <a:pt x="459" y="210"/>
                </a:cubicBezTo>
                <a:cubicBezTo>
                  <a:pt x="456" y="234"/>
                  <a:pt x="438" y="258"/>
                  <a:pt x="447" y="280"/>
                </a:cubicBezTo>
                <a:cubicBezTo>
                  <a:pt x="453" y="295"/>
                  <a:pt x="478" y="288"/>
                  <a:pt x="494" y="292"/>
                </a:cubicBezTo>
                <a:cubicBezTo>
                  <a:pt x="541" y="288"/>
                  <a:pt x="588" y="286"/>
                  <a:pt x="635" y="280"/>
                </a:cubicBezTo>
                <a:cubicBezTo>
                  <a:pt x="651" y="278"/>
                  <a:pt x="666" y="268"/>
                  <a:pt x="682" y="268"/>
                </a:cubicBezTo>
                <a:cubicBezTo>
                  <a:pt x="741" y="268"/>
                  <a:pt x="799" y="285"/>
                  <a:pt x="858" y="292"/>
                </a:cubicBezTo>
                <a:cubicBezTo>
                  <a:pt x="933" y="288"/>
                  <a:pt x="1007" y="284"/>
                  <a:pt x="1082" y="280"/>
                </a:cubicBezTo>
                <a:cubicBezTo>
                  <a:pt x="1278" y="268"/>
                  <a:pt x="1310" y="293"/>
                  <a:pt x="1211" y="245"/>
                </a:cubicBezTo>
                <a:cubicBezTo>
                  <a:pt x="1168" y="179"/>
                  <a:pt x="1101" y="194"/>
                  <a:pt x="1023" y="186"/>
                </a:cubicBezTo>
                <a:cubicBezTo>
                  <a:pt x="1083" y="166"/>
                  <a:pt x="1096" y="163"/>
                  <a:pt x="1164" y="174"/>
                </a:cubicBezTo>
                <a:cubicBezTo>
                  <a:pt x="1248" y="202"/>
                  <a:pt x="1221" y="177"/>
                  <a:pt x="1258" y="233"/>
                </a:cubicBezTo>
                <a:cubicBezTo>
                  <a:pt x="1262" y="182"/>
                  <a:pt x="1255" y="129"/>
                  <a:pt x="1270" y="80"/>
                </a:cubicBezTo>
                <a:cubicBezTo>
                  <a:pt x="1274" y="66"/>
                  <a:pt x="1291" y="101"/>
                  <a:pt x="1294" y="115"/>
                </a:cubicBezTo>
                <a:cubicBezTo>
                  <a:pt x="1303" y="154"/>
                  <a:pt x="1301" y="194"/>
                  <a:pt x="1305" y="233"/>
                </a:cubicBezTo>
                <a:cubicBezTo>
                  <a:pt x="1385" y="182"/>
                  <a:pt x="1423" y="201"/>
                  <a:pt x="1529" y="210"/>
                </a:cubicBezTo>
                <a:cubicBezTo>
                  <a:pt x="1517" y="214"/>
                  <a:pt x="1506" y="219"/>
                  <a:pt x="1494" y="221"/>
                </a:cubicBezTo>
                <a:cubicBezTo>
                  <a:pt x="1467" y="226"/>
                  <a:pt x="1438" y="227"/>
                  <a:pt x="1411" y="233"/>
                </a:cubicBezTo>
                <a:cubicBezTo>
                  <a:pt x="1387" y="239"/>
                  <a:pt x="1341" y="257"/>
                  <a:pt x="1341" y="257"/>
                </a:cubicBezTo>
                <a:cubicBezTo>
                  <a:pt x="1333" y="269"/>
                  <a:pt x="1305" y="284"/>
                  <a:pt x="1317" y="292"/>
                </a:cubicBezTo>
                <a:cubicBezTo>
                  <a:pt x="1345" y="310"/>
                  <a:pt x="1400" y="259"/>
                  <a:pt x="1423" y="257"/>
                </a:cubicBezTo>
                <a:cubicBezTo>
                  <a:pt x="1521" y="247"/>
                  <a:pt x="1619" y="249"/>
                  <a:pt x="1717" y="245"/>
                </a:cubicBezTo>
                <a:cubicBezTo>
                  <a:pt x="1842" y="213"/>
                  <a:pt x="1686" y="245"/>
                  <a:pt x="1811" y="245"/>
                </a:cubicBezTo>
                <a:cubicBezTo>
                  <a:pt x="1933" y="245"/>
                  <a:pt x="2054" y="237"/>
                  <a:pt x="2176" y="233"/>
                </a:cubicBezTo>
                <a:cubicBezTo>
                  <a:pt x="2244" y="247"/>
                  <a:pt x="2310" y="257"/>
                  <a:pt x="2376" y="280"/>
                </a:cubicBezTo>
                <a:cubicBezTo>
                  <a:pt x="2394" y="229"/>
                  <a:pt x="2385" y="216"/>
                  <a:pt x="2341" y="186"/>
                </a:cubicBezTo>
                <a:cubicBezTo>
                  <a:pt x="2333" y="174"/>
                  <a:pt x="2305" y="159"/>
                  <a:pt x="2317" y="151"/>
                </a:cubicBezTo>
                <a:cubicBezTo>
                  <a:pt x="2325" y="146"/>
                  <a:pt x="2395" y="169"/>
                  <a:pt x="2411" y="174"/>
                </a:cubicBezTo>
                <a:cubicBezTo>
                  <a:pt x="2419" y="190"/>
                  <a:pt x="2424" y="207"/>
                  <a:pt x="2435" y="221"/>
                </a:cubicBezTo>
                <a:cubicBezTo>
                  <a:pt x="2444" y="232"/>
                  <a:pt x="2462" y="257"/>
                  <a:pt x="2470" y="245"/>
                </a:cubicBezTo>
                <a:cubicBezTo>
                  <a:pt x="2488" y="219"/>
                  <a:pt x="2478" y="182"/>
                  <a:pt x="2482" y="151"/>
                </a:cubicBezTo>
                <a:cubicBezTo>
                  <a:pt x="2483" y="155"/>
                  <a:pt x="2498" y="233"/>
                  <a:pt x="2517" y="233"/>
                </a:cubicBezTo>
                <a:cubicBezTo>
                  <a:pt x="2529" y="233"/>
                  <a:pt x="2525" y="210"/>
                  <a:pt x="2529" y="198"/>
                </a:cubicBezTo>
                <a:cubicBezTo>
                  <a:pt x="2557" y="212"/>
                  <a:pt x="2581" y="237"/>
                  <a:pt x="2611" y="245"/>
                </a:cubicBezTo>
                <a:cubicBezTo>
                  <a:pt x="2694" y="267"/>
                  <a:pt x="2795" y="277"/>
                  <a:pt x="2882" y="292"/>
                </a:cubicBezTo>
                <a:cubicBezTo>
                  <a:pt x="3029" y="254"/>
                  <a:pt x="3183" y="281"/>
                  <a:pt x="3329" y="315"/>
                </a:cubicBezTo>
                <a:cubicBezTo>
                  <a:pt x="3341" y="311"/>
                  <a:pt x="3362" y="316"/>
                  <a:pt x="3364" y="304"/>
                </a:cubicBezTo>
                <a:cubicBezTo>
                  <a:pt x="3373" y="234"/>
                  <a:pt x="3345" y="235"/>
                  <a:pt x="3305" y="221"/>
                </a:cubicBezTo>
                <a:cubicBezTo>
                  <a:pt x="3301" y="209"/>
                  <a:pt x="3301" y="196"/>
                  <a:pt x="3293" y="186"/>
                </a:cubicBezTo>
                <a:cubicBezTo>
                  <a:pt x="3256" y="140"/>
                  <a:pt x="3240" y="190"/>
                  <a:pt x="3282" y="127"/>
                </a:cubicBezTo>
                <a:cubicBezTo>
                  <a:pt x="3368" y="157"/>
                  <a:pt x="3330" y="140"/>
                  <a:pt x="3399" y="174"/>
                </a:cubicBezTo>
                <a:cubicBezTo>
                  <a:pt x="3403" y="190"/>
                  <a:pt x="3407" y="205"/>
                  <a:pt x="3411" y="221"/>
                </a:cubicBezTo>
                <a:cubicBezTo>
                  <a:pt x="3415" y="241"/>
                  <a:pt x="3404" y="286"/>
                  <a:pt x="3423" y="280"/>
                </a:cubicBezTo>
                <a:cubicBezTo>
                  <a:pt x="3446" y="273"/>
                  <a:pt x="3424" y="221"/>
                  <a:pt x="3446" y="210"/>
                </a:cubicBezTo>
                <a:cubicBezTo>
                  <a:pt x="3462" y="202"/>
                  <a:pt x="3477" y="194"/>
                  <a:pt x="3493" y="186"/>
                </a:cubicBezTo>
                <a:cubicBezTo>
                  <a:pt x="3497" y="174"/>
                  <a:pt x="3493" y="151"/>
                  <a:pt x="3505" y="151"/>
                </a:cubicBezTo>
                <a:cubicBezTo>
                  <a:pt x="3517" y="151"/>
                  <a:pt x="3513" y="174"/>
                  <a:pt x="3517" y="186"/>
                </a:cubicBezTo>
                <a:cubicBezTo>
                  <a:pt x="3525" y="213"/>
                  <a:pt x="3532" y="241"/>
                  <a:pt x="3540" y="268"/>
                </a:cubicBezTo>
                <a:cubicBezTo>
                  <a:pt x="3572" y="261"/>
                  <a:pt x="3603" y="246"/>
                  <a:pt x="3635" y="268"/>
                </a:cubicBezTo>
                <a:cubicBezTo>
                  <a:pt x="3647" y="276"/>
                  <a:pt x="3644" y="301"/>
                  <a:pt x="3658" y="304"/>
                </a:cubicBezTo>
                <a:cubicBezTo>
                  <a:pt x="3727" y="318"/>
                  <a:pt x="3799" y="311"/>
                  <a:pt x="3870" y="315"/>
                </a:cubicBezTo>
                <a:cubicBezTo>
                  <a:pt x="3932" y="305"/>
                  <a:pt x="3964" y="289"/>
                  <a:pt x="4023" y="304"/>
                </a:cubicBezTo>
                <a:cubicBezTo>
                  <a:pt x="4103" y="292"/>
                  <a:pt x="4167" y="294"/>
                  <a:pt x="4246" y="315"/>
                </a:cubicBezTo>
                <a:cubicBezTo>
                  <a:pt x="4277" y="323"/>
                  <a:pt x="4340" y="339"/>
                  <a:pt x="4340" y="339"/>
                </a:cubicBezTo>
                <a:cubicBezTo>
                  <a:pt x="4492" y="324"/>
                  <a:pt x="4434" y="322"/>
                  <a:pt x="4599" y="339"/>
                </a:cubicBezTo>
                <a:cubicBezTo>
                  <a:pt x="4630" y="342"/>
                  <a:pt x="4662" y="346"/>
                  <a:pt x="4693" y="351"/>
                </a:cubicBezTo>
                <a:cubicBezTo>
                  <a:pt x="4709" y="354"/>
                  <a:pt x="4724" y="359"/>
                  <a:pt x="4740" y="363"/>
                </a:cubicBezTo>
                <a:cubicBezTo>
                  <a:pt x="4752" y="366"/>
                  <a:pt x="4776" y="374"/>
                  <a:pt x="4776" y="37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22860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16680"/>
            <a:ext cx="685800" cy="838080"/>
            <a:chOff x="0" y="6016680"/>
            <a:chExt cx="685800" cy="838080"/>
          </a:xfrm>
        </p:grpSpPr>
        <p:grpSp>
          <p:nvGrpSpPr>
            <p:cNvPr id="163" name=""/>
            <p:cNvGrpSpPr/>
            <p:nvPr/>
          </p:nvGrpSpPr>
          <p:grpSpPr>
            <a:xfrm>
              <a:off x="76320" y="6168960"/>
              <a:ext cx="609480" cy="609840"/>
              <a:chOff x="76320" y="6168960"/>
              <a:chExt cx="609480" cy="60984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76320" y="6168960"/>
                <a:ext cx="554040" cy="548640"/>
                <a:chOff x="76320" y="6168960"/>
                <a:chExt cx="554040" cy="5486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53440" y="6359400"/>
                  <a:ext cx="212040" cy="229320"/>
                </a:xfrm>
                <a:custGeom>
                  <a:avLst/>
                  <a:gdLst/>
                  <a:ahLst/>
                  <a:rect l="l" t="t" r="r" b="b"/>
                  <a:pathLst>
                    <a:path w="378" h="314">
                      <a:moveTo>
                        <a:pt x="237" y="161"/>
                      </a:moveTo>
                      <a:cubicBezTo>
                        <a:pt x="214" y="91"/>
                        <a:pt x="243" y="155"/>
                        <a:pt x="190" y="102"/>
                      </a:cubicBezTo>
                      <a:cubicBezTo>
                        <a:pt x="123" y="35"/>
                        <a:pt x="219" y="92"/>
                        <a:pt x="119" y="43"/>
                      </a:cubicBezTo>
                      <a:cubicBezTo>
                        <a:pt x="115" y="31"/>
                        <a:pt x="119" y="11"/>
                        <a:pt x="107" y="8"/>
                      </a:cubicBezTo>
                      <a:cubicBezTo>
                        <a:pt x="80" y="0"/>
                        <a:pt x="0" y="7"/>
                        <a:pt x="48" y="55"/>
                      </a:cubicBezTo>
                      <a:cubicBezTo>
                        <a:pt x="57" y="64"/>
                        <a:pt x="72" y="62"/>
                        <a:pt x="84" y="66"/>
                      </a:cubicBezTo>
                      <a:cubicBezTo>
                        <a:pt x="111" y="108"/>
                        <a:pt x="131" y="121"/>
                        <a:pt x="178" y="137"/>
                      </a:cubicBezTo>
                      <a:cubicBezTo>
                        <a:pt x="264" y="268"/>
                        <a:pt x="132" y="78"/>
                        <a:pt x="237" y="196"/>
                      </a:cubicBezTo>
                      <a:cubicBezTo>
                        <a:pt x="309" y="277"/>
                        <a:pt x="267" y="264"/>
                        <a:pt x="366" y="314"/>
                      </a:cubicBezTo>
                      <a:cubicBezTo>
                        <a:pt x="370" y="302"/>
                        <a:pt x="378" y="291"/>
                        <a:pt x="378" y="278"/>
                      </a:cubicBezTo>
                      <a:cubicBezTo>
                        <a:pt x="378" y="204"/>
                        <a:pt x="348" y="210"/>
                        <a:pt x="296" y="184"/>
                      </a:cubicBezTo>
                      <a:cubicBezTo>
                        <a:pt x="241" y="157"/>
                        <a:pt x="281" y="161"/>
                        <a:pt x="237" y="16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6320" y="6168960"/>
                  <a:ext cx="554040" cy="548640"/>
                </a:xfrm>
                <a:custGeom>
                  <a:avLst/>
                  <a:gdLst/>
                  <a:ahLst/>
                  <a:rect l="l" t="t" r="r" b="b"/>
                  <a:pathLst>
                    <a:path w="988" h="751">
                      <a:moveTo>
                        <a:pt x="506" y="433"/>
                      </a:moveTo>
                      <a:cubicBezTo>
                        <a:pt x="510" y="319"/>
                        <a:pt x="493" y="203"/>
                        <a:pt x="517" y="92"/>
                      </a:cubicBezTo>
                      <a:cubicBezTo>
                        <a:pt x="526" y="52"/>
                        <a:pt x="676" y="20"/>
                        <a:pt x="706" y="10"/>
                      </a:cubicBezTo>
                      <a:cubicBezTo>
                        <a:pt x="765" y="15"/>
                        <a:pt x="833" y="0"/>
                        <a:pt x="882" y="33"/>
                      </a:cubicBezTo>
                      <a:cubicBezTo>
                        <a:pt x="987" y="102"/>
                        <a:pt x="829" y="45"/>
                        <a:pt x="941" y="80"/>
                      </a:cubicBezTo>
                      <a:cubicBezTo>
                        <a:pt x="956" y="125"/>
                        <a:pt x="976" y="164"/>
                        <a:pt x="988" y="210"/>
                      </a:cubicBezTo>
                      <a:cubicBezTo>
                        <a:pt x="984" y="245"/>
                        <a:pt x="988" y="283"/>
                        <a:pt x="976" y="316"/>
                      </a:cubicBezTo>
                      <a:cubicBezTo>
                        <a:pt x="970" y="331"/>
                        <a:pt x="919" y="347"/>
                        <a:pt x="906" y="351"/>
                      </a:cubicBezTo>
                      <a:cubicBezTo>
                        <a:pt x="778" y="386"/>
                        <a:pt x="649" y="421"/>
                        <a:pt x="517" y="433"/>
                      </a:cubicBezTo>
                      <a:cubicBezTo>
                        <a:pt x="500" y="426"/>
                        <a:pt x="429" y="400"/>
                        <a:pt x="412" y="386"/>
                      </a:cubicBezTo>
                      <a:cubicBezTo>
                        <a:pt x="335" y="322"/>
                        <a:pt x="454" y="375"/>
                        <a:pt x="341" y="327"/>
                      </a:cubicBezTo>
                      <a:cubicBezTo>
                        <a:pt x="293" y="307"/>
                        <a:pt x="237" y="309"/>
                        <a:pt x="188" y="304"/>
                      </a:cubicBezTo>
                      <a:cubicBezTo>
                        <a:pt x="99" y="313"/>
                        <a:pt x="65" y="306"/>
                        <a:pt x="0" y="351"/>
                      </a:cubicBezTo>
                      <a:cubicBezTo>
                        <a:pt x="0" y="354"/>
                        <a:pt x="6" y="595"/>
                        <a:pt x="47" y="645"/>
                      </a:cubicBezTo>
                      <a:cubicBezTo>
                        <a:pt x="58" y="659"/>
                        <a:pt x="78" y="661"/>
                        <a:pt x="94" y="669"/>
                      </a:cubicBezTo>
                      <a:cubicBezTo>
                        <a:pt x="125" y="732"/>
                        <a:pt x="136" y="729"/>
                        <a:pt x="200" y="751"/>
                      </a:cubicBezTo>
                      <a:cubicBezTo>
                        <a:pt x="278" y="747"/>
                        <a:pt x="357" y="746"/>
                        <a:pt x="435" y="739"/>
                      </a:cubicBezTo>
                      <a:cubicBezTo>
                        <a:pt x="474" y="736"/>
                        <a:pt x="517" y="657"/>
                        <a:pt x="517" y="657"/>
                      </a:cubicBezTo>
                      <a:cubicBezTo>
                        <a:pt x="530" y="605"/>
                        <a:pt x="641" y="391"/>
                        <a:pt x="506" y="433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53440" y="6235920"/>
                  <a:ext cx="102960" cy="278280"/>
                </a:xfrm>
                <a:custGeom>
                  <a:avLst/>
                  <a:gdLst/>
                  <a:ahLst/>
                  <a:rect l="l" t="t" r="r" b="b"/>
                  <a:pathLst>
                    <a:path w="184" h="381">
                      <a:moveTo>
                        <a:pt x="178" y="330"/>
                      </a:moveTo>
                      <a:cubicBezTo>
                        <a:pt x="149" y="158"/>
                        <a:pt x="184" y="381"/>
                        <a:pt x="154" y="59"/>
                      </a:cubicBezTo>
                      <a:cubicBezTo>
                        <a:pt x="153" y="43"/>
                        <a:pt x="153" y="25"/>
                        <a:pt x="143" y="12"/>
                      </a:cubicBezTo>
                      <a:cubicBezTo>
                        <a:pt x="135" y="2"/>
                        <a:pt x="119" y="4"/>
                        <a:pt x="107" y="0"/>
                      </a:cubicBezTo>
                      <a:cubicBezTo>
                        <a:pt x="65" y="14"/>
                        <a:pt x="0" y="11"/>
                        <a:pt x="60" y="59"/>
                      </a:cubicBezTo>
                      <a:cubicBezTo>
                        <a:pt x="70" y="67"/>
                        <a:pt x="84" y="67"/>
                        <a:pt x="96" y="71"/>
                      </a:cubicBezTo>
                      <a:cubicBezTo>
                        <a:pt x="139" y="56"/>
                        <a:pt x="125" y="70"/>
                        <a:pt x="143" y="35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8360" y="6262920"/>
                  <a:ext cx="154800" cy="187560"/>
                </a:xfrm>
                <a:custGeom>
                  <a:avLst/>
                  <a:gdLst/>
                  <a:ahLst/>
                  <a:rect l="l" t="t" r="r" b="b"/>
                  <a:pathLst>
                    <a:path w="276" h="257">
                      <a:moveTo>
                        <a:pt x="276" y="257"/>
                      </a:moveTo>
                      <a:cubicBezTo>
                        <a:pt x="249" y="153"/>
                        <a:pt x="206" y="79"/>
                        <a:pt x="99" y="46"/>
                      </a:cubicBezTo>
                      <a:cubicBezTo>
                        <a:pt x="87" y="38"/>
                        <a:pt x="77" y="28"/>
                        <a:pt x="64" y="22"/>
                      </a:cubicBezTo>
                      <a:cubicBezTo>
                        <a:pt x="53" y="16"/>
                        <a:pt x="36" y="0"/>
                        <a:pt x="29" y="10"/>
                      </a:cubicBezTo>
                      <a:cubicBezTo>
                        <a:pt x="0" y="54"/>
                        <a:pt x="59" y="63"/>
                        <a:pt x="76" y="69"/>
                      </a:cubicBezTo>
                      <a:cubicBezTo>
                        <a:pt x="84" y="81"/>
                        <a:pt x="86" y="99"/>
                        <a:pt x="99" y="104"/>
                      </a:cubicBezTo>
                      <a:cubicBezTo>
                        <a:pt x="116" y="111"/>
                        <a:pt x="170" y="81"/>
                        <a:pt x="182" y="69"/>
                      </a:cubicBezTo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34640" y="6409080"/>
                  <a:ext cx="81000" cy="84600"/>
                </a:xfrm>
                <a:custGeom>
                  <a:avLst/>
                  <a:gdLst/>
                  <a:ahLst/>
                  <a:rect l="l" t="t" r="r" b="b"/>
                  <a:pathLst>
                    <a:path w="145" h="116">
                      <a:moveTo>
                        <a:pt x="143" y="69"/>
                      </a:moveTo>
                      <a:cubicBezTo>
                        <a:pt x="119" y="0"/>
                        <a:pt x="93" y="22"/>
                        <a:pt x="25" y="34"/>
                      </a:cubicBezTo>
                      <a:cubicBezTo>
                        <a:pt x="11" y="75"/>
                        <a:pt x="0" y="71"/>
                        <a:pt x="49" y="93"/>
                      </a:cubicBezTo>
                      <a:cubicBezTo>
                        <a:pt x="71" y="103"/>
                        <a:pt x="119" y="116"/>
                        <a:pt x="119" y="116"/>
                      </a:cubicBezTo>
                      <a:cubicBezTo>
                        <a:pt x="145" y="78"/>
                        <a:pt x="143" y="95"/>
                        <a:pt x="143" y="69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4160" y="6537960"/>
                  <a:ext cx="59400" cy="115920"/>
                </a:xfrm>
                <a:custGeom>
                  <a:avLst/>
                  <a:gdLst/>
                  <a:ahLst/>
                  <a:rect l="l" t="t" r="r" b="b"/>
                  <a:pathLst>
                    <a:path w="106" h="159">
                      <a:moveTo>
                        <a:pt x="0" y="46"/>
                      </a:moveTo>
                      <a:cubicBezTo>
                        <a:pt x="52" y="11"/>
                        <a:pt x="84" y="0"/>
                        <a:pt x="106" y="70"/>
                      </a:cubicBezTo>
                      <a:cubicBezTo>
                        <a:pt x="102" y="89"/>
                        <a:pt x="105" y="111"/>
                        <a:pt x="95" y="128"/>
                      </a:cubicBezTo>
                      <a:cubicBezTo>
                        <a:pt x="88" y="141"/>
                        <a:pt x="72" y="159"/>
                        <a:pt x="59" y="152"/>
                      </a:cubicBezTo>
                      <a:cubicBezTo>
                        <a:pt x="34" y="138"/>
                        <a:pt x="28" y="105"/>
                        <a:pt x="12" y="81"/>
                      </a:cubicBezTo>
                      <a:cubicBezTo>
                        <a:pt x="5" y="71"/>
                        <a:pt x="0" y="46"/>
                        <a:pt x="0" y="46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18760" y="6312960"/>
                  <a:ext cx="75960" cy="77040"/>
                </a:xfrm>
                <a:custGeom>
                  <a:avLst/>
                  <a:gdLst/>
                  <a:ahLst/>
                  <a:rect l="l" t="t" r="r" b="b"/>
                  <a:pathLst>
                    <a:path w="136" h="106">
                      <a:moveTo>
                        <a:pt x="43" y="82"/>
                      </a:moveTo>
                      <a:cubicBezTo>
                        <a:pt x="39" y="76"/>
                        <a:pt x="0" y="26"/>
                        <a:pt x="7" y="11"/>
                      </a:cubicBezTo>
                      <a:cubicBezTo>
                        <a:pt x="13" y="0"/>
                        <a:pt x="31" y="4"/>
                        <a:pt x="43" y="0"/>
                      </a:cubicBezTo>
                      <a:cubicBezTo>
                        <a:pt x="134" y="17"/>
                        <a:pt x="136" y="20"/>
                        <a:pt x="101" y="106"/>
                      </a:cubicBezTo>
                      <a:cubicBezTo>
                        <a:pt x="49" y="93"/>
                        <a:pt x="65" y="106"/>
                        <a:pt x="43" y="82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76920" y="6373440"/>
                  <a:ext cx="88920" cy="78120"/>
                </a:xfrm>
                <a:custGeom>
                  <a:avLst/>
                  <a:gdLst/>
                  <a:ahLst/>
                  <a:rect l="l" t="t" r="r" b="b"/>
                  <a:pathLst>
                    <a:path w="159" h="107">
                      <a:moveTo>
                        <a:pt x="76" y="71"/>
                      </a:moveTo>
                      <a:cubicBezTo>
                        <a:pt x="61" y="67"/>
                        <a:pt x="0" y="66"/>
                        <a:pt x="17" y="24"/>
                      </a:cubicBezTo>
                      <a:cubicBezTo>
                        <a:pt x="22" y="11"/>
                        <a:pt x="40" y="8"/>
                        <a:pt x="52" y="0"/>
                      </a:cubicBezTo>
                      <a:cubicBezTo>
                        <a:pt x="81" y="10"/>
                        <a:pt x="100" y="13"/>
                        <a:pt x="123" y="36"/>
                      </a:cubicBezTo>
                      <a:cubicBezTo>
                        <a:pt x="133" y="46"/>
                        <a:pt x="159" y="65"/>
                        <a:pt x="146" y="71"/>
                      </a:cubicBezTo>
                      <a:cubicBezTo>
                        <a:pt x="72" y="107"/>
                        <a:pt x="76" y="27"/>
                        <a:pt x="76" y="71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39200" y="6208200"/>
                  <a:ext cx="81720" cy="96120"/>
                </a:xfrm>
                <a:custGeom>
                  <a:avLst/>
                  <a:gdLst/>
                  <a:ahLst/>
                  <a:rect l="l" t="t" r="r" b="b"/>
                  <a:pathLst>
                    <a:path w="146" h="132">
                      <a:moveTo>
                        <a:pt x="70" y="62"/>
                      </a:moveTo>
                      <a:cubicBezTo>
                        <a:pt x="63" y="51"/>
                        <a:pt x="41" y="0"/>
                        <a:pt x="12" y="15"/>
                      </a:cubicBezTo>
                      <a:cubicBezTo>
                        <a:pt x="1" y="21"/>
                        <a:pt x="4" y="38"/>
                        <a:pt x="0" y="50"/>
                      </a:cubicBezTo>
                      <a:cubicBezTo>
                        <a:pt x="80" y="104"/>
                        <a:pt x="61" y="70"/>
                        <a:pt x="82" y="132"/>
                      </a:cubicBezTo>
                      <a:cubicBezTo>
                        <a:pt x="139" y="94"/>
                        <a:pt x="146" y="94"/>
                        <a:pt x="129" y="26"/>
                      </a:cubicBezTo>
                      <a:cubicBezTo>
                        <a:pt x="73" y="40"/>
                        <a:pt x="89" y="24"/>
                        <a:pt x="70" y="62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 rot="10800000">
                  <a:off x="141480" y="6522120"/>
                  <a:ext cx="81720" cy="96120"/>
                </a:xfrm>
                <a:custGeom>
                  <a:avLst/>
                  <a:gdLst/>
                  <a:ahLst/>
                  <a:rect l="l" t="t" r="r" b="b"/>
                  <a:pathLst>
                    <a:path w="146" h="132">
                      <a:moveTo>
                        <a:pt x="70" y="62"/>
                      </a:moveTo>
                      <a:cubicBezTo>
                        <a:pt x="63" y="51"/>
                        <a:pt x="41" y="0"/>
                        <a:pt x="12" y="15"/>
                      </a:cubicBezTo>
                      <a:cubicBezTo>
                        <a:pt x="1" y="21"/>
                        <a:pt x="4" y="38"/>
                        <a:pt x="0" y="50"/>
                      </a:cubicBezTo>
                      <a:cubicBezTo>
                        <a:pt x="80" y="104"/>
                        <a:pt x="61" y="70"/>
                        <a:pt x="82" y="132"/>
                      </a:cubicBezTo>
                      <a:cubicBezTo>
                        <a:pt x="139" y="94"/>
                        <a:pt x="146" y="94"/>
                        <a:pt x="129" y="26"/>
                      </a:cubicBezTo>
                      <a:cubicBezTo>
                        <a:pt x="73" y="40"/>
                        <a:pt x="89" y="24"/>
                        <a:pt x="70" y="62"/>
                      </a:cubicBez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>
                <a:hlinkClick r:id="" action="ppaction://hlinkshowjump?jump=previousslide"/>
              </p:cNvPr>
              <p:cNvSpPr/>
              <p:nvPr/>
            </p:nvSpPr>
            <p:spPr>
              <a:xfrm>
                <a:off x="76320" y="6168960"/>
                <a:ext cx="609480" cy="609840"/>
              </a:xfrm>
              <a:custGeom>
                <a:avLst/>
                <a:gdLst>
                  <a:gd name="textAreaLeft" fmla="*/ 39240 w 609480"/>
                  <a:gd name="textAreaRight" fmla="*/ 570240 w 609480"/>
                  <a:gd name="textAreaTop" fmla="*/ 39240 h 609840"/>
                  <a:gd name="textAreaBottom" fmla="*/ 570600 h 60984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13"/>
                    </a:lnTo>
                    <a:lnTo>
                      <a:pt x="0" y="21613"/>
                    </a:lnTo>
                    <a:close/>
                  </a:path>
                  <a:path fill="lightenLess" w="21600" h="21613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1613">
                    <a:moveTo>
                      <a:pt x="21600" y="0"/>
                    </a:moveTo>
                    <a:lnTo>
                      <a:pt x="21600" y="21613"/>
                    </a:lnTo>
                    <a:lnTo>
                      <a:pt x="20200" y="20213"/>
                    </a:lnTo>
                    <a:lnTo>
                      <a:pt x="20200" y="1400"/>
                    </a:lnTo>
                    <a:close/>
                  </a:path>
                  <a:path fill="darkenLess" w="21600" h="21613">
                    <a:moveTo>
                      <a:pt x="21600" y="21613"/>
                    </a:moveTo>
                    <a:lnTo>
                      <a:pt x="0" y="21613"/>
                    </a:lnTo>
                    <a:lnTo>
                      <a:pt x="1400" y="20213"/>
                    </a:lnTo>
                    <a:lnTo>
                      <a:pt x="20200" y="20213"/>
                    </a:lnTo>
                    <a:close/>
                  </a:path>
                  <a:path fill="lighten" w="21600" h="21613">
                    <a:moveTo>
                      <a:pt x="0" y="21613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1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>
              <a:hlinkClick r:id="" action="ppaction://hlinkshowjump?jump=previousslide"/>
            </p:cNvPr>
            <p:cNvSpPr/>
            <p:nvPr/>
          </p:nvSpPr>
          <p:spPr>
            <a:xfrm>
              <a:off x="0" y="6016680"/>
              <a:ext cx="685800" cy="838080"/>
            </a:xfrm>
            <a:custGeom>
              <a:avLst/>
              <a:gdLst>
                <a:gd name="textAreaLeft" fmla="*/ 44280 w 685800"/>
                <a:gd name="textAreaRight" fmla="*/ 641520 w 685800"/>
                <a:gd name="textAreaTop" fmla="*/ 44280 h 838080"/>
                <a:gd name="textAreaBottom" fmla="*/ 793800 h 838080"/>
              </a:gdLst>
              <a:ahLst/>
              <a:rect l="textAreaLeft" t="textAreaTop" r="textAreaRight" b="textAreaBottom"/>
              <a:pathLst>
                <a:path w="21600" h="26394">
                  <a:moveTo>
                    <a:pt x="0" y="0"/>
                  </a:moveTo>
                  <a:lnTo>
                    <a:pt x="21600" y="0"/>
                  </a:lnTo>
                  <a:lnTo>
                    <a:pt x="21600" y="26394"/>
                  </a:lnTo>
                  <a:lnTo>
                    <a:pt x="0" y="26394"/>
                  </a:lnTo>
                  <a:close/>
                </a:path>
                <a:path fill="lightenLess" w="21600" h="26394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394">
                  <a:moveTo>
                    <a:pt x="21600" y="0"/>
                  </a:moveTo>
                  <a:lnTo>
                    <a:pt x="21600" y="26394"/>
                  </a:lnTo>
                  <a:lnTo>
                    <a:pt x="20200" y="24994"/>
                  </a:lnTo>
                  <a:lnTo>
                    <a:pt x="20200" y="1400"/>
                  </a:lnTo>
                  <a:close/>
                </a:path>
                <a:path fill="darkenLess" w="21600" h="26394">
                  <a:moveTo>
                    <a:pt x="21600" y="26394"/>
                  </a:moveTo>
                  <a:lnTo>
                    <a:pt x="0" y="26394"/>
                  </a:lnTo>
                  <a:lnTo>
                    <a:pt x="1400" y="24994"/>
                  </a:lnTo>
                  <a:lnTo>
                    <a:pt x="20200" y="24994"/>
                  </a:lnTo>
                  <a:close/>
                </a:path>
                <a:path fill="lighten" w="21600" h="26394">
                  <a:moveTo>
                    <a:pt x="0" y="26394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99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352680" y="6248520"/>
            <a:ext cx="685800" cy="609480"/>
            <a:chOff x="3352680" y="6248520"/>
            <a:chExt cx="685800" cy="609480"/>
          </a:xfrm>
        </p:grpSpPr>
        <p:grpSp>
          <p:nvGrpSpPr>
            <p:cNvPr id="178" name=""/>
            <p:cNvGrpSpPr/>
            <p:nvPr/>
          </p:nvGrpSpPr>
          <p:grpSpPr>
            <a:xfrm>
              <a:off x="3395160" y="6248520"/>
              <a:ext cx="628920" cy="562320"/>
              <a:chOff x="3395160" y="6248520"/>
              <a:chExt cx="628920" cy="562320"/>
            </a:xfrm>
          </p:grpSpPr>
          <p:sp>
            <p:nvSpPr>
              <p:cNvPr id="179" name=""/>
              <p:cNvSpPr/>
              <p:nvPr/>
            </p:nvSpPr>
            <p:spPr>
              <a:xfrm>
                <a:off x="349308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7144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4696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4472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7048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0272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9516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632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7696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4204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6508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9100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8388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70296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5400000">
                <a:off x="373896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>
              <a:hlinkClick r:id="" action="ppaction://hlinkshowjump?jump=firstslide"/>
            </p:cNvPr>
            <p:cNvSpPr/>
            <p:nvPr/>
          </p:nvSpPr>
          <p:spPr>
            <a:xfrm>
              <a:off x="335268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924680" y="6318360"/>
            <a:ext cx="914400" cy="533160"/>
            <a:chOff x="7924680" y="6318360"/>
            <a:chExt cx="914400" cy="533160"/>
          </a:xfrm>
        </p:grpSpPr>
        <p:grpSp>
          <p:nvGrpSpPr>
            <p:cNvPr id="196" name=""/>
            <p:cNvGrpSpPr/>
            <p:nvPr/>
          </p:nvGrpSpPr>
          <p:grpSpPr>
            <a:xfrm>
              <a:off x="7924680" y="6384600"/>
              <a:ext cx="846720" cy="333360"/>
              <a:chOff x="7924680" y="6384600"/>
              <a:chExt cx="846720" cy="33336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7924680" y="6384600"/>
                <a:ext cx="846720" cy="333360"/>
                <a:chOff x="7924680" y="6384600"/>
                <a:chExt cx="846720" cy="333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8476920" y="640188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7924680" y="6384600"/>
                  <a:ext cx="693000" cy="333360"/>
                  <a:chOff x="7924680" y="6384600"/>
                  <a:chExt cx="693000" cy="3333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8404920" y="638460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8334720" y="639324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8214480" y="639864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8151480" y="6442200"/>
                    <a:ext cx="19980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048880" y="646884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924680" y="650448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8634600" y="648180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>
              <a:hlinkClick r:id="" action="ppaction://hlinkshowjump?jump=nextslide"/>
            </p:cNvPr>
            <p:cNvSpPr/>
            <p:nvPr/>
          </p:nvSpPr>
          <p:spPr>
            <a:xfrm>
              <a:off x="7924680" y="6318360"/>
              <a:ext cx="914400" cy="53316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37035" h="21600">
                  <a:moveTo>
                    <a:pt x="0" y="0"/>
                  </a:moveTo>
                  <a:lnTo>
                    <a:pt x="37035" y="0"/>
                  </a:lnTo>
                  <a:lnTo>
                    <a:pt x="37035" y="21600"/>
                  </a:lnTo>
                  <a:lnTo>
                    <a:pt x="0" y="21600"/>
                  </a:lnTo>
                  <a:close/>
                </a:path>
                <a:path fill="lightenLess" w="37035" h="21600">
                  <a:moveTo>
                    <a:pt x="0" y="0"/>
                  </a:moveTo>
                  <a:lnTo>
                    <a:pt x="37035" y="0"/>
                  </a:lnTo>
                  <a:lnTo>
                    <a:pt x="35635" y="1400"/>
                  </a:lnTo>
                  <a:lnTo>
                    <a:pt x="1400" y="1400"/>
                  </a:lnTo>
                  <a:close/>
                </a:path>
                <a:path fill="darken" w="37035" h="21600">
                  <a:moveTo>
                    <a:pt x="37035" y="0"/>
                  </a:moveTo>
                  <a:lnTo>
                    <a:pt x="37035" y="21600"/>
                  </a:lnTo>
                  <a:lnTo>
                    <a:pt x="35635" y="20200"/>
                  </a:lnTo>
                  <a:lnTo>
                    <a:pt x="35635" y="1400"/>
                  </a:lnTo>
                  <a:close/>
                </a:path>
                <a:path fill="darkenLess" w="37035" h="21600">
                  <a:moveTo>
                    <a:pt x="370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35" y="20200"/>
                  </a:lnTo>
                  <a:close/>
                </a:path>
                <a:path fill="lighten" w="370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335268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79246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054320" y="2971800"/>
            <a:ext cx="1101960" cy="1473120"/>
            <a:chOff x="4054320" y="2971800"/>
            <a:chExt cx="1101960" cy="1473120"/>
          </a:xfrm>
        </p:grpSpPr>
        <p:sp>
          <p:nvSpPr>
            <p:cNvPr id="211" name=""/>
            <p:cNvSpPr/>
            <p:nvPr/>
          </p:nvSpPr>
          <p:spPr>
            <a:xfrm>
              <a:off x="4054320" y="3343320"/>
              <a:ext cx="392400" cy="1101600"/>
            </a:xfrm>
            <a:custGeom>
              <a:avLst/>
              <a:gdLst/>
              <a:ahLst/>
              <a:rect l="l" t="t" r="r" b="b"/>
              <a:pathLst>
                <a:path w="247" h="694">
                  <a:moveTo>
                    <a:pt x="212" y="694"/>
                  </a:moveTo>
                  <a:lnTo>
                    <a:pt x="210" y="687"/>
                  </a:lnTo>
                  <a:lnTo>
                    <a:pt x="207" y="678"/>
                  </a:lnTo>
                  <a:lnTo>
                    <a:pt x="203" y="667"/>
                  </a:lnTo>
                  <a:lnTo>
                    <a:pt x="199" y="656"/>
                  </a:lnTo>
                  <a:lnTo>
                    <a:pt x="194" y="646"/>
                  </a:lnTo>
                  <a:lnTo>
                    <a:pt x="189" y="637"/>
                  </a:lnTo>
                  <a:lnTo>
                    <a:pt x="183" y="629"/>
                  </a:lnTo>
                  <a:lnTo>
                    <a:pt x="177" y="624"/>
                  </a:lnTo>
                  <a:lnTo>
                    <a:pt x="165" y="619"/>
                  </a:lnTo>
                  <a:lnTo>
                    <a:pt x="150" y="614"/>
                  </a:lnTo>
                  <a:lnTo>
                    <a:pt x="134" y="610"/>
                  </a:lnTo>
                  <a:lnTo>
                    <a:pt x="119" y="606"/>
                  </a:lnTo>
                  <a:lnTo>
                    <a:pt x="104" y="604"/>
                  </a:lnTo>
                  <a:lnTo>
                    <a:pt x="93" y="602"/>
                  </a:lnTo>
                  <a:lnTo>
                    <a:pt x="88" y="601"/>
                  </a:lnTo>
                  <a:lnTo>
                    <a:pt x="85" y="600"/>
                  </a:lnTo>
                  <a:lnTo>
                    <a:pt x="83" y="600"/>
                  </a:lnTo>
                  <a:lnTo>
                    <a:pt x="82" y="600"/>
                  </a:lnTo>
                  <a:lnTo>
                    <a:pt x="59" y="565"/>
                  </a:lnTo>
                  <a:lnTo>
                    <a:pt x="35" y="529"/>
                  </a:lnTo>
                  <a:lnTo>
                    <a:pt x="32" y="524"/>
                  </a:lnTo>
                  <a:lnTo>
                    <a:pt x="28" y="519"/>
                  </a:lnTo>
                  <a:lnTo>
                    <a:pt x="21" y="507"/>
                  </a:lnTo>
                  <a:lnTo>
                    <a:pt x="17" y="502"/>
                  </a:lnTo>
                  <a:lnTo>
                    <a:pt x="15" y="498"/>
                  </a:lnTo>
                  <a:lnTo>
                    <a:pt x="13" y="495"/>
                  </a:lnTo>
                  <a:lnTo>
                    <a:pt x="12" y="494"/>
                  </a:lnTo>
                  <a:lnTo>
                    <a:pt x="9" y="481"/>
                  </a:lnTo>
                  <a:lnTo>
                    <a:pt x="6" y="470"/>
                  </a:lnTo>
                  <a:lnTo>
                    <a:pt x="3" y="461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0" y="444"/>
                  </a:lnTo>
                  <a:lnTo>
                    <a:pt x="0" y="436"/>
                  </a:lnTo>
                  <a:lnTo>
                    <a:pt x="0" y="432"/>
                  </a:lnTo>
                  <a:lnTo>
                    <a:pt x="1" y="427"/>
                  </a:lnTo>
                  <a:lnTo>
                    <a:pt x="2" y="420"/>
                  </a:lnTo>
                  <a:lnTo>
                    <a:pt x="4" y="412"/>
                  </a:lnTo>
                  <a:lnTo>
                    <a:pt x="5" y="402"/>
                  </a:lnTo>
                  <a:lnTo>
                    <a:pt x="7" y="389"/>
                  </a:lnTo>
                  <a:lnTo>
                    <a:pt x="10" y="373"/>
                  </a:lnTo>
                  <a:lnTo>
                    <a:pt x="12" y="353"/>
                  </a:lnTo>
                  <a:lnTo>
                    <a:pt x="14" y="337"/>
                  </a:lnTo>
                  <a:lnTo>
                    <a:pt x="15" y="321"/>
                  </a:lnTo>
                  <a:lnTo>
                    <a:pt x="17" y="307"/>
                  </a:lnTo>
                  <a:lnTo>
                    <a:pt x="18" y="294"/>
                  </a:lnTo>
                  <a:lnTo>
                    <a:pt x="20" y="269"/>
                  </a:lnTo>
                  <a:lnTo>
                    <a:pt x="24" y="246"/>
                  </a:lnTo>
                  <a:lnTo>
                    <a:pt x="29" y="224"/>
                  </a:lnTo>
                  <a:lnTo>
                    <a:pt x="36" y="202"/>
                  </a:lnTo>
                  <a:lnTo>
                    <a:pt x="46" y="179"/>
                  </a:lnTo>
                  <a:lnTo>
                    <a:pt x="52" y="166"/>
                  </a:lnTo>
                  <a:lnTo>
                    <a:pt x="59" y="153"/>
                  </a:lnTo>
                  <a:lnTo>
                    <a:pt x="64" y="141"/>
                  </a:lnTo>
                  <a:lnTo>
                    <a:pt x="69" y="128"/>
                  </a:lnTo>
                  <a:lnTo>
                    <a:pt x="74" y="116"/>
                  </a:lnTo>
                  <a:lnTo>
                    <a:pt x="77" y="111"/>
                  </a:lnTo>
                  <a:lnTo>
                    <a:pt x="82" y="106"/>
                  </a:lnTo>
                  <a:lnTo>
                    <a:pt x="95" y="97"/>
                  </a:lnTo>
                  <a:lnTo>
                    <a:pt x="109" y="90"/>
                  </a:lnTo>
                  <a:lnTo>
                    <a:pt x="124" y="85"/>
                  </a:lnTo>
                  <a:lnTo>
                    <a:pt x="140" y="80"/>
                  </a:lnTo>
                  <a:lnTo>
                    <a:pt x="170" y="71"/>
                  </a:lnTo>
                  <a:lnTo>
                    <a:pt x="185" y="65"/>
                  </a:lnTo>
                  <a:lnTo>
                    <a:pt x="200" y="59"/>
                  </a:lnTo>
                  <a:lnTo>
                    <a:pt x="205" y="51"/>
                  </a:lnTo>
                  <a:lnTo>
                    <a:pt x="209" y="45"/>
                  </a:lnTo>
                  <a:lnTo>
                    <a:pt x="213" y="40"/>
                  </a:lnTo>
                  <a:lnTo>
                    <a:pt x="215" y="36"/>
                  </a:lnTo>
                  <a:lnTo>
                    <a:pt x="219" y="30"/>
                  </a:lnTo>
                  <a:lnTo>
                    <a:pt x="222" y="26"/>
                  </a:lnTo>
                  <a:lnTo>
                    <a:pt x="226" y="22"/>
                  </a:lnTo>
                  <a:lnTo>
                    <a:pt x="230" y="17"/>
                  </a:lnTo>
                  <a:lnTo>
                    <a:pt x="237" y="11"/>
                  </a:lnTo>
                  <a:lnTo>
                    <a:pt x="241" y="6"/>
                  </a:lnTo>
                  <a:lnTo>
                    <a:pt x="247" y="0"/>
                  </a:lnTo>
                </a:path>
              </a:pathLst>
            </a:custGeom>
            <a:noFill/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4216320" y="2971800"/>
              <a:ext cx="939960" cy="1436760"/>
              <a:chOff x="4216320" y="2971800"/>
              <a:chExt cx="939960" cy="1436760"/>
            </a:xfrm>
          </p:grpSpPr>
          <p:sp>
            <p:nvSpPr>
              <p:cNvPr id="213" name=""/>
              <p:cNvSpPr/>
              <p:nvPr/>
            </p:nvSpPr>
            <p:spPr>
              <a:xfrm>
                <a:off x="4419720" y="3200400"/>
                <a:ext cx="306360" cy="15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419720" y="2971800"/>
                <a:ext cx="30636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21240" y="3284640"/>
                <a:ext cx="30636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216320" y="3056040"/>
                <a:ext cx="23040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218120" y="3282840"/>
                <a:ext cx="301320" cy="231840"/>
              </a:xfrm>
              <a:custGeom>
                <a:avLst/>
                <a:gdLst/>
                <a:ahLst/>
                <a:rect l="l" t="t" r="r" b="b"/>
                <a:pathLst>
                  <a:path w="190" h="146">
                    <a:moveTo>
                      <a:pt x="189" y="52"/>
                    </a:moveTo>
                    <a:lnTo>
                      <a:pt x="184" y="38"/>
                    </a:lnTo>
                    <a:lnTo>
                      <a:pt x="175" y="26"/>
                    </a:lnTo>
                    <a:lnTo>
                      <a:pt x="164" y="16"/>
                    </a:lnTo>
                    <a:lnTo>
                      <a:pt x="150" y="8"/>
                    </a:lnTo>
                    <a:lnTo>
                      <a:pt x="134" y="3"/>
                    </a:lnTo>
                    <a:lnTo>
                      <a:pt x="117" y="0"/>
                    </a:lnTo>
                    <a:lnTo>
                      <a:pt x="98" y="0"/>
                    </a:lnTo>
                    <a:lnTo>
                      <a:pt x="79" y="3"/>
                    </a:lnTo>
                    <a:lnTo>
                      <a:pt x="61" y="9"/>
                    </a:lnTo>
                    <a:lnTo>
                      <a:pt x="44" y="16"/>
                    </a:lnTo>
                    <a:lnTo>
                      <a:pt x="30" y="26"/>
                    </a:lnTo>
                    <a:lnTo>
                      <a:pt x="18" y="38"/>
                    </a:lnTo>
                    <a:lnTo>
                      <a:pt x="9" y="51"/>
                    </a:lnTo>
                    <a:lnTo>
                      <a:pt x="3" y="65"/>
                    </a:lnTo>
                    <a:lnTo>
                      <a:pt x="0" y="79"/>
                    </a:lnTo>
                    <a:lnTo>
                      <a:pt x="0" y="87"/>
                    </a:lnTo>
                    <a:lnTo>
                      <a:pt x="1" y="94"/>
                    </a:lnTo>
                    <a:lnTo>
                      <a:pt x="6" y="108"/>
                    </a:lnTo>
                    <a:lnTo>
                      <a:pt x="15" y="120"/>
                    </a:lnTo>
                    <a:lnTo>
                      <a:pt x="26" y="130"/>
                    </a:lnTo>
                    <a:lnTo>
                      <a:pt x="40" y="138"/>
                    </a:lnTo>
                    <a:lnTo>
                      <a:pt x="56" y="143"/>
                    </a:lnTo>
                    <a:lnTo>
                      <a:pt x="73" y="146"/>
                    </a:lnTo>
                    <a:lnTo>
                      <a:pt x="92" y="146"/>
                    </a:lnTo>
                    <a:lnTo>
                      <a:pt x="111" y="143"/>
                    </a:lnTo>
                    <a:lnTo>
                      <a:pt x="129" y="138"/>
                    </a:lnTo>
                    <a:lnTo>
                      <a:pt x="146" y="130"/>
                    </a:lnTo>
                    <a:lnTo>
                      <a:pt x="160" y="120"/>
                    </a:lnTo>
                    <a:lnTo>
                      <a:pt x="172" y="108"/>
                    </a:lnTo>
                    <a:lnTo>
                      <a:pt x="181" y="95"/>
                    </a:lnTo>
                    <a:lnTo>
                      <a:pt x="187" y="81"/>
                    </a:lnTo>
                    <a:lnTo>
                      <a:pt x="190" y="67"/>
                    </a:lnTo>
                    <a:lnTo>
                      <a:pt x="190" y="59"/>
                    </a:lnTo>
                    <a:lnTo>
                      <a:pt x="189" y="52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73520" y="3132000"/>
                <a:ext cx="230400" cy="154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90920" y="3699000"/>
                <a:ext cx="765360" cy="709560"/>
              </a:xfrm>
              <a:custGeom>
                <a:avLst/>
                <a:gdLst/>
                <a:ahLst/>
                <a:rect l="l" t="t" r="r" b="b"/>
                <a:pathLst>
                  <a:path w="482" h="447">
                    <a:moveTo>
                      <a:pt x="0" y="447"/>
                    </a:moveTo>
                    <a:lnTo>
                      <a:pt x="4" y="409"/>
                    </a:lnTo>
                    <a:lnTo>
                      <a:pt x="8" y="370"/>
                    </a:lnTo>
                    <a:lnTo>
                      <a:pt x="14" y="332"/>
                    </a:lnTo>
                    <a:lnTo>
                      <a:pt x="19" y="313"/>
                    </a:lnTo>
                    <a:lnTo>
                      <a:pt x="24" y="296"/>
                    </a:lnTo>
                    <a:lnTo>
                      <a:pt x="31" y="279"/>
                    </a:lnTo>
                    <a:lnTo>
                      <a:pt x="39" y="263"/>
                    </a:lnTo>
                    <a:lnTo>
                      <a:pt x="49" y="249"/>
                    </a:lnTo>
                    <a:lnTo>
                      <a:pt x="61" y="236"/>
                    </a:lnTo>
                    <a:lnTo>
                      <a:pt x="75" y="224"/>
                    </a:lnTo>
                    <a:lnTo>
                      <a:pt x="90" y="214"/>
                    </a:lnTo>
                    <a:lnTo>
                      <a:pt x="108" y="206"/>
                    </a:lnTo>
                    <a:lnTo>
                      <a:pt x="129" y="200"/>
                    </a:lnTo>
                    <a:lnTo>
                      <a:pt x="134" y="192"/>
                    </a:lnTo>
                    <a:lnTo>
                      <a:pt x="139" y="185"/>
                    </a:lnTo>
                    <a:lnTo>
                      <a:pt x="142" y="180"/>
                    </a:lnTo>
                    <a:lnTo>
                      <a:pt x="146" y="175"/>
                    </a:lnTo>
                    <a:lnTo>
                      <a:pt x="150" y="167"/>
                    </a:lnTo>
                    <a:lnTo>
                      <a:pt x="153" y="163"/>
                    </a:lnTo>
                    <a:lnTo>
                      <a:pt x="154" y="161"/>
                    </a:lnTo>
                    <a:lnTo>
                      <a:pt x="154" y="161"/>
                    </a:lnTo>
                    <a:lnTo>
                      <a:pt x="153" y="163"/>
                    </a:lnTo>
                    <a:lnTo>
                      <a:pt x="153" y="165"/>
                    </a:lnTo>
                    <a:lnTo>
                      <a:pt x="152" y="168"/>
                    </a:lnTo>
                    <a:lnTo>
                      <a:pt x="153" y="170"/>
                    </a:lnTo>
                    <a:lnTo>
                      <a:pt x="155" y="172"/>
                    </a:lnTo>
                    <a:lnTo>
                      <a:pt x="159" y="173"/>
                    </a:lnTo>
                    <a:lnTo>
                      <a:pt x="164" y="171"/>
                    </a:lnTo>
                    <a:lnTo>
                      <a:pt x="173" y="168"/>
                    </a:lnTo>
                    <a:lnTo>
                      <a:pt x="185" y="162"/>
                    </a:lnTo>
                    <a:lnTo>
                      <a:pt x="192" y="157"/>
                    </a:lnTo>
                    <a:lnTo>
                      <a:pt x="200" y="152"/>
                    </a:lnTo>
                    <a:lnTo>
                      <a:pt x="204" y="149"/>
                    </a:lnTo>
                    <a:lnTo>
                      <a:pt x="207" y="144"/>
                    </a:lnTo>
                    <a:lnTo>
                      <a:pt x="212" y="135"/>
                    </a:lnTo>
                    <a:lnTo>
                      <a:pt x="216" y="125"/>
                    </a:lnTo>
                    <a:lnTo>
                      <a:pt x="219" y="121"/>
                    </a:lnTo>
                    <a:lnTo>
                      <a:pt x="223" y="117"/>
                    </a:lnTo>
                    <a:lnTo>
                      <a:pt x="234" y="110"/>
                    </a:lnTo>
                    <a:lnTo>
                      <a:pt x="245" y="104"/>
                    </a:lnTo>
                    <a:lnTo>
                      <a:pt x="258" y="99"/>
                    </a:lnTo>
                    <a:lnTo>
                      <a:pt x="270" y="94"/>
                    </a:lnTo>
                    <a:lnTo>
                      <a:pt x="283" y="77"/>
                    </a:lnTo>
                    <a:lnTo>
                      <a:pt x="298" y="61"/>
                    </a:lnTo>
                    <a:lnTo>
                      <a:pt x="315" y="48"/>
                    </a:lnTo>
                    <a:lnTo>
                      <a:pt x="332" y="35"/>
                    </a:lnTo>
                    <a:lnTo>
                      <a:pt x="351" y="25"/>
                    </a:lnTo>
                    <a:lnTo>
                      <a:pt x="371" y="15"/>
                    </a:lnTo>
                    <a:lnTo>
                      <a:pt x="391" y="7"/>
                    </a:lnTo>
                    <a:lnTo>
                      <a:pt x="412" y="0"/>
                    </a:lnTo>
                    <a:lnTo>
                      <a:pt x="424" y="3"/>
                    </a:lnTo>
                    <a:lnTo>
                      <a:pt x="434" y="6"/>
                    </a:lnTo>
                    <a:lnTo>
                      <a:pt x="443" y="8"/>
                    </a:lnTo>
                    <a:lnTo>
                      <a:pt x="449" y="11"/>
                    </a:lnTo>
                    <a:lnTo>
                      <a:pt x="455" y="13"/>
                    </a:lnTo>
                    <a:lnTo>
                      <a:pt x="459" y="16"/>
                    </a:lnTo>
                    <a:lnTo>
                      <a:pt x="465" y="23"/>
                    </a:lnTo>
                    <a:lnTo>
                      <a:pt x="469" y="33"/>
                    </a:lnTo>
                    <a:lnTo>
                      <a:pt x="472" y="45"/>
                    </a:lnTo>
                    <a:lnTo>
                      <a:pt x="473" y="52"/>
                    </a:lnTo>
                    <a:lnTo>
                      <a:pt x="476" y="61"/>
                    </a:lnTo>
                    <a:lnTo>
                      <a:pt x="478" y="71"/>
                    </a:lnTo>
                    <a:lnTo>
                      <a:pt x="482" y="82"/>
                    </a:lnTo>
                    <a:lnTo>
                      <a:pt x="480" y="106"/>
                    </a:lnTo>
                    <a:lnTo>
                      <a:pt x="479" y="130"/>
                    </a:lnTo>
                    <a:lnTo>
                      <a:pt x="476" y="153"/>
                    </a:lnTo>
                    <a:lnTo>
                      <a:pt x="474" y="165"/>
                    </a:lnTo>
                    <a:lnTo>
                      <a:pt x="470" y="176"/>
                    </a:lnTo>
                    <a:lnTo>
                      <a:pt x="468" y="180"/>
                    </a:lnTo>
                    <a:lnTo>
                      <a:pt x="464" y="184"/>
                    </a:lnTo>
                    <a:lnTo>
                      <a:pt x="454" y="189"/>
                    </a:lnTo>
                    <a:lnTo>
                      <a:pt x="444" y="194"/>
                    </a:lnTo>
                    <a:lnTo>
                      <a:pt x="435" y="200"/>
                    </a:lnTo>
                    <a:lnTo>
                      <a:pt x="425" y="211"/>
                    </a:lnTo>
                    <a:lnTo>
                      <a:pt x="418" y="219"/>
                    </a:lnTo>
                    <a:lnTo>
                      <a:pt x="414" y="225"/>
                    </a:lnTo>
                    <a:lnTo>
                      <a:pt x="412" y="230"/>
                    </a:lnTo>
                    <a:lnTo>
                      <a:pt x="412" y="233"/>
                    </a:lnTo>
                    <a:lnTo>
                      <a:pt x="412" y="235"/>
                    </a:lnTo>
                    <a:lnTo>
                      <a:pt x="414" y="237"/>
                    </a:lnTo>
                    <a:lnTo>
                      <a:pt x="414" y="237"/>
                    </a:lnTo>
                    <a:lnTo>
                      <a:pt x="412" y="238"/>
                    </a:lnTo>
                    <a:lnTo>
                      <a:pt x="409" y="238"/>
                    </a:lnTo>
                    <a:lnTo>
                      <a:pt x="403" y="240"/>
                    </a:lnTo>
                    <a:lnTo>
                      <a:pt x="393" y="242"/>
                    </a:lnTo>
                    <a:lnTo>
                      <a:pt x="387" y="244"/>
                    </a:lnTo>
                    <a:lnTo>
                      <a:pt x="380" y="246"/>
                    </a:lnTo>
                    <a:lnTo>
                      <a:pt x="372" y="248"/>
                    </a:lnTo>
                    <a:lnTo>
                      <a:pt x="363" y="251"/>
                    </a:lnTo>
                    <a:lnTo>
                      <a:pt x="353" y="254"/>
                    </a:lnTo>
                    <a:lnTo>
                      <a:pt x="341" y="258"/>
                    </a:lnTo>
                    <a:lnTo>
                      <a:pt x="306" y="268"/>
                    </a:lnTo>
                    <a:lnTo>
                      <a:pt x="271" y="277"/>
                    </a:lnTo>
                    <a:lnTo>
                      <a:pt x="235" y="285"/>
                    </a:lnTo>
                    <a:lnTo>
                      <a:pt x="200" y="294"/>
                    </a:lnTo>
                    <a:lnTo>
                      <a:pt x="193" y="296"/>
                    </a:lnTo>
                    <a:lnTo>
                      <a:pt x="186" y="297"/>
                    </a:lnTo>
                    <a:lnTo>
                      <a:pt x="171" y="301"/>
                    </a:lnTo>
                    <a:lnTo>
                      <a:pt x="164" y="303"/>
                    </a:lnTo>
                    <a:lnTo>
                      <a:pt x="158" y="304"/>
                    </a:lnTo>
                    <a:lnTo>
                      <a:pt x="154" y="305"/>
                    </a:lnTo>
                    <a:lnTo>
                      <a:pt x="153" y="305"/>
                    </a:lnTo>
                    <a:lnTo>
                      <a:pt x="135" y="314"/>
                    </a:lnTo>
                    <a:lnTo>
                      <a:pt x="119" y="322"/>
                    </a:lnTo>
                    <a:lnTo>
                      <a:pt x="105" y="329"/>
                    </a:lnTo>
                    <a:lnTo>
                      <a:pt x="93" y="335"/>
                    </a:lnTo>
                    <a:lnTo>
                      <a:pt x="82" y="340"/>
                    </a:lnTo>
                    <a:lnTo>
                      <a:pt x="73" y="346"/>
                    </a:lnTo>
                    <a:lnTo>
                      <a:pt x="65" y="352"/>
                    </a:lnTo>
                    <a:lnTo>
                      <a:pt x="57" y="358"/>
                    </a:lnTo>
                    <a:lnTo>
                      <a:pt x="50" y="364"/>
                    </a:lnTo>
                    <a:lnTo>
                      <a:pt x="44" y="372"/>
                    </a:lnTo>
                    <a:lnTo>
                      <a:pt x="37" y="380"/>
                    </a:lnTo>
                    <a:lnTo>
                      <a:pt x="31" y="390"/>
                    </a:lnTo>
                    <a:lnTo>
                      <a:pt x="24" y="401"/>
                    </a:lnTo>
                    <a:lnTo>
                      <a:pt x="17" y="414"/>
                    </a:lnTo>
                    <a:lnTo>
                      <a:pt x="9" y="430"/>
                    </a:lnTo>
                    <a:lnTo>
                      <a:pt x="0" y="447"/>
                    </a:lnTo>
                    <a:close/>
                  </a:path>
                </a:pathLst>
              </a:custGeom>
              <a:solidFill>
                <a:srgbClr val="0066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6095880"/>
            <a:ext cx="76176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1"/>
          </p:cNvPr>
          <p:cNvSpPr/>
          <p:nvPr/>
        </p:nvSpPr>
        <p:spPr>
          <a:xfrm>
            <a:off x="556272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257800" y="1905120"/>
            <a:ext cx="1676520" cy="2057400"/>
          </a:xfrm>
          <a:prstGeom prst="wedgeRoundRectCallout">
            <a:avLst>
              <a:gd name="adj1" fmla="val 52462"/>
              <a:gd name="adj2" fmla="val 6265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hh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e v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e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 le tue 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randi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lorat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086600" y="2514600"/>
            <a:ext cx="1568520" cy="1192320"/>
            <a:chOff x="7086600" y="2514600"/>
            <a:chExt cx="1568520" cy="1192320"/>
          </a:xfrm>
        </p:grpSpPr>
        <p:sp>
          <p:nvSpPr>
            <p:cNvPr id="225" name=""/>
            <p:cNvSpPr/>
            <p:nvPr/>
          </p:nvSpPr>
          <p:spPr>
            <a:xfrm>
              <a:off x="7588440" y="2928960"/>
              <a:ext cx="600120" cy="49860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86600" y="2514600"/>
              <a:ext cx="1568520" cy="119232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88440" y="2660760"/>
              <a:ext cx="291960" cy="60480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2920" y="2719440"/>
              <a:ext cx="438120" cy="40788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51840" y="3036960"/>
              <a:ext cx="230040" cy="18432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89880" y="3316320"/>
              <a:ext cx="168480" cy="25236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39400" y="2827440"/>
              <a:ext cx="215640" cy="16812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37640" y="2959200"/>
              <a:ext cx="252360" cy="1699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13680" y="260028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 rot="10800000">
              <a:off x="7272360" y="328464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895480" y="22860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85800" y="304920"/>
            <a:ext cx="1955880" cy="1887480"/>
            <a:chOff x="685800" y="304920"/>
            <a:chExt cx="1955880" cy="1887480"/>
          </a:xfrm>
        </p:grpSpPr>
        <p:sp>
          <p:nvSpPr>
            <p:cNvPr id="237" name=""/>
            <p:cNvSpPr/>
            <p:nvPr/>
          </p:nvSpPr>
          <p:spPr>
            <a:xfrm>
              <a:off x="990720" y="609480"/>
              <a:ext cx="1176120" cy="123372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66840" y="684360"/>
              <a:ext cx="47484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90880" y="1351080"/>
              <a:ext cx="401400" cy="37296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3360" y="1762200"/>
              <a:ext cx="430200" cy="40464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31920" y="163044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9560" y="1238400"/>
              <a:ext cx="522360" cy="37440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5800" y="304920"/>
              <a:ext cx="517680" cy="53640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0600" y="306360"/>
              <a:ext cx="384120" cy="33516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19320" y="1371600"/>
              <a:ext cx="834840" cy="20304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3000" y="838080"/>
              <a:ext cx="326880" cy="35244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14280" y="952560"/>
              <a:ext cx="279720" cy="10008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5280" y="1066680"/>
              <a:ext cx="15264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84360" y="685800"/>
              <a:ext cx="320760" cy="36972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43040" y="826920"/>
              <a:ext cx="358920" cy="13176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752120" y="914400"/>
              <a:ext cx="76320" cy="152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400" y="3828960"/>
            <a:ext cx="1792080" cy="603360"/>
          </a:xfrm>
          <a:custGeom>
            <a:avLst/>
            <a:gdLst/>
            <a:ahLst/>
            <a:rect l="l" t="t" r="r" b="b"/>
            <a:pathLst>
              <a:path w="1129" h="380">
                <a:moveTo>
                  <a:pt x="0" y="282"/>
                </a:moveTo>
                <a:cubicBezTo>
                  <a:pt x="16" y="259"/>
                  <a:pt x="32" y="235"/>
                  <a:pt x="47" y="212"/>
                </a:cubicBezTo>
                <a:cubicBezTo>
                  <a:pt x="55" y="200"/>
                  <a:pt x="70" y="176"/>
                  <a:pt x="70" y="176"/>
                </a:cubicBezTo>
                <a:cubicBezTo>
                  <a:pt x="86" y="114"/>
                  <a:pt x="78" y="61"/>
                  <a:pt x="59" y="0"/>
                </a:cubicBezTo>
                <a:cubicBezTo>
                  <a:pt x="39" y="79"/>
                  <a:pt x="44" y="16"/>
                  <a:pt x="70" y="94"/>
                </a:cubicBezTo>
                <a:cubicBezTo>
                  <a:pt x="80" y="125"/>
                  <a:pt x="94" y="188"/>
                  <a:pt x="94" y="188"/>
                </a:cubicBezTo>
                <a:cubicBezTo>
                  <a:pt x="126" y="139"/>
                  <a:pt x="147" y="91"/>
                  <a:pt x="164" y="35"/>
                </a:cubicBezTo>
                <a:cubicBezTo>
                  <a:pt x="172" y="66"/>
                  <a:pt x="180" y="98"/>
                  <a:pt x="188" y="129"/>
                </a:cubicBezTo>
                <a:cubicBezTo>
                  <a:pt x="192" y="145"/>
                  <a:pt x="200" y="176"/>
                  <a:pt x="200" y="176"/>
                </a:cubicBezTo>
                <a:cubicBezTo>
                  <a:pt x="219" y="116"/>
                  <a:pt x="227" y="64"/>
                  <a:pt x="235" y="0"/>
                </a:cubicBezTo>
                <a:cubicBezTo>
                  <a:pt x="256" y="82"/>
                  <a:pt x="239" y="31"/>
                  <a:pt x="294" y="141"/>
                </a:cubicBezTo>
                <a:cubicBezTo>
                  <a:pt x="302" y="157"/>
                  <a:pt x="309" y="172"/>
                  <a:pt x="317" y="188"/>
                </a:cubicBezTo>
                <a:cubicBezTo>
                  <a:pt x="325" y="204"/>
                  <a:pt x="341" y="235"/>
                  <a:pt x="341" y="235"/>
                </a:cubicBezTo>
                <a:cubicBezTo>
                  <a:pt x="375" y="183"/>
                  <a:pt x="378" y="143"/>
                  <a:pt x="400" y="82"/>
                </a:cubicBezTo>
                <a:cubicBezTo>
                  <a:pt x="406" y="66"/>
                  <a:pt x="416" y="51"/>
                  <a:pt x="423" y="35"/>
                </a:cubicBezTo>
                <a:cubicBezTo>
                  <a:pt x="428" y="24"/>
                  <a:pt x="431" y="12"/>
                  <a:pt x="435" y="0"/>
                </a:cubicBezTo>
                <a:cubicBezTo>
                  <a:pt x="468" y="48"/>
                  <a:pt x="492" y="119"/>
                  <a:pt x="506" y="176"/>
                </a:cubicBezTo>
                <a:cubicBezTo>
                  <a:pt x="511" y="160"/>
                  <a:pt x="515" y="105"/>
                  <a:pt x="553" y="153"/>
                </a:cubicBezTo>
                <a:cubicBezTo>
                  <a:pt x="586" y="195"/>
                  <a:pt x="596" y="236"/>
                  <a:pt x="611" y="282"/>
                </a:cubicBezTo>
                <a:cubicBezTo>
                  <a:pt x="615" y="260"/>
                  <a:pt x="637" y="149"/>
                  <a:pt x="647" y="141"/>
                </a:cubicBezTo>
                <a:cubicBezTo>
                  <a:pt x="661" y="130"/>
                  <a:pt x="658" y="176"/>
                  <a:pt x="670" y="188"/>
                </a:cubicBezTo>
                <a:cubicBezTo>
                  <a:pt x="690" y="208"/>
                  <a:pt x="741" y="235"/>
                  <a:pt x="741" y="235"/>
                </a:cubicBezTo>
                <a:cubicBezTo>
                  <a:pt x="745" y="247"/>
                  <a:pt x="741" y="268"/>
                  <a:pt x="753" y="271"/>
                </a:cubicBezTo>
                <a:cubicBezTo>
                  <a:pt x="785" y="279"/>
                  <a:pt x="795" y="226"/>
                  <a:pt x="800" y="212"/>
                </a:cubicBezTo>
                <a:cubicBezTo>
                  <a:pt x="826" y="229"/>
                  <a:pt x="860" y="237"/>
                  <a:pt x="882" y="259"/>
                </a:cubicBezTo>
                <a:cubicBezTo>
                  <a:pt x="902" y="279"/>
                  <a:pt x="929" y="329"/>
                  <a:pt x="929" y="329"/>
                </a:cubicBezTo>
                <a:cubicBezTo>
                  <a:pt x="933" y="317"/>
                  <a:pt x="932" y="303"/>
                  <a:pt x="941" y="294"/>
                </a:cubicBezTo>
                <a:cubicBezTo>
                  <a:pt x="961" y="274"/>
                  <a:pt x="1011" y="247"/>
                  <a:pt x="1011" y="247"/>
                </a:cubicBezTo>
                <a:cubicBezTo>
                  <a:pt x="1029" y="273"/>
                  <a:pt x="1034" y="309"/>
                  <a:pt x="1058" y="329"/>
                </a:cubicBezTo>
                <a:cubicBezTo>
                  <a:pt x="1070" y="339"/>
                  <a:pt x="1089" y="337"/>
                  <a:pt x="1105" y="341"/>
                </a:cubicBezTo>
                <a:cubicBezTo>
                  <a:pt x="1118" y="380"/>
                  <a:pt x="1105" y="376"/>
                  <a:pt x="1129" y="376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-157320" y="4648320"/>
            <a:ext cx="9677160" cy="2361600"/>
            <a:chOff x="-157320" y="4648320"/>
            <a:chExt cx="9677160" cy="2361600"/>
          </a:xfrm>
        </p:grpSpPr>
        <p:sp>
          <p:nvSpPr>
            <p:cNvPr id="254" name=""/>
            <p:cNvSpPr/>
            <p:nvPr/>
          </p:nvSpPr>
          <p:spPr>
            <a:xfrm>
              <a:off x="-157320" y="4648320"/>
              <a:ext cx="9677160" cy="2361600"/>
            </a:xfrm>
            <a:custGeom>
              <a:avLst/>
              <a:gdLst/>
              <a:ahLst/>
              <a:rect l="l" t="t" r="r" b="b"/>
              <a:pathLst>
                <a:path w="5940" h="1089">
                  <a:moveTo>
                    <a:pt x="47" y="118"/>
                  </a:moveTo>
                  <a:cubicBezTo>
                    <a:pt x="138" y="95"/>
                    <a:pt x="215" y="71"/>
                    <a:pt x="306" y="59"/>
                  </a:cubicBezTo>
                  <a:cubicBezTo>
                    <a:pt x="526" y="63"/>
                    <a:pt x="745" y="64"/>
                    <a:pt x="965" y="70"/>
                  </a:cubicBezTo>
                  <a:cubicBezTo>
                    <a:pt x="1098" y="74"/>
                    <a:pt x="1106" y="83"/>
                    <a:pt x="1212" y="59"/>
                  </a:cubicBezTo>
                  <a:cubicBezTo>
                    <a:pt x="1244" y="52"/>
                    <a:pt x="1306" y="35"/>
                    <a:pt x="1306" y="35"/>
                  </a:cubicBezTo>
                  <a:cubicBezTo>
                    <a:pt x="1592" y="44"/>
                    <a:pt x="1868" y="42"/>
                    <a:pt x="2153" y="23"/>
                  </a:cubicBezTo>
                  <a:cubicBezTo>
                    <a:pt x="2505" y="29"/>
                    <a:pt x="2737" y="24"/>
                    <a:pt x="3047" y="59"/>
                  </a:cubicBezTo>
                  <a:cubicBezTo>
                    <a:pt x="3156" y="84"/>
                    <a:pt x="3078" y="68"/>
                    <a:pt x="3282" y="94"/>
                  </a:cubicBezTo>
                  <a:cubicBezTo>
                    <a:pt x="3358" y="104"/>
                    <a:pt x="3430" y="130"/>
                    <a:pt x="3506" y="141"/>
                  </a:cubicBezTo>
                  <a:cubicBezTo>
                    <a:pt x="3646" y="133"/>
                    <a:pt x="3715" y="149"/>
                    <a:pt x="3823" y="94"/>
                  </a:cubicBezTo>
                  <a:cubicBezTo>
                    <a:pt x="3831" y="78"/>
                    <a:pt x="3832" y="56"/>
                    <a:pt x="3847" y="47"/>
                  </a:cubicBezTo>
                  <a:cubicBezTo>
                    <a:pt x="3882" y="26"/>
                    <a:pt x="4005" y="7"/>
                    <a:pt x="4047" y="0"/>
                  </a:cubicBezTo>
                  <a:cubicBezTo>
                    <a:pt x="4118" y="9"/>
                    <a:pt x="4188" y="17"/>
                    <a:pt x="4258" y="35"/>
                  </a:cubicBezTo>
                  <a:cubicBezTo>
                    <a:pt x="4411" y="13"/>
                    <a:pt x="4564" y="25"/>
                    <a:pt x="4717" y="47"/>
                  </a:cubicBezTo>
                  <a:cubicBezTo>
                    <a:pt x="4804" y="90"/>
                    <a:pt x="4730" y="60"/>
                    <a:pt x="4870" y="82"/>
                  </a:cubicBezTo>
                  <a:cubicBezTo>
                    <a:pt x="4951" y="95"/>
                    <a:pt x="5022" y="120"/>
                    <a:pt x="5105" y="129"/>
                  </a:cubicBezTo>
                  <a:cubicBezTo>
                    <a:pt x="5175" y="147"/>
                    <a:pt x="5250" y="161"/>
                    <a:pt x="5317" y="188"/>
                  </a:cubicBezTo>
                  <a:cubicBezTo>
                    <a:pt x="5333" y="195"/>
                    <a:pt x="5347" y="207"/>
                    <a:pt x="5364" y="212"/>
                  </a:cubicBezTo>
                  <a:cubicBezTo>
                    <a:pt x="5440" y="235"/>
                    <a:pt x="5419" y="211"/>
                    <a:pt x="5482" y="235"/>
                  </a:cubicBezTo>
                  <a:cubicBezTo>
                    <a:pt x="5498" y="241"/>
                    <a:pt x="5512" y="253"/>
                    <a:pt x="5529" y="259"/>
                  </a:cubicBezTo>
                  <a:cubicBezTo>
                    <a:pt x="5575" y="274"/>
                    <a:pt x="5623" y="282"/>
                    <a:pt x="5670" y="294"/>
                  </a:cubicBezTo>
                  <a:cubicBezTo>
                    <a:pt x="5686" y="298"/>
                    <a:pt x="5717" y="306"/>
                    <a:pt x="5717" y="306"/>
                  </a:cubicBezTo>
                  <a:cubicBezTo>
                    <a:pt x="5725" y="318"/>
                    <a:pt x="5729" y="333"/>
                    <a:pt x="5741" y="341"/>
                  </a:cubicBezTo>
                  <a:cubicBezTo>
                    <a:pt x="5754" y="350"/>
                    <a:pt x="5773" y="347"/>
                    <a:pt x="5788" y="353"/>
                  </a:cubicBezTo>
                  <a:cubicBezTo>
                    <a:pt x="5825" y="367"/>
                    <a:pt x="5839" y="379"/>
                    <a:pt x="5870" y="400"/>
                  </a:cubicBezTo>
                  <a:cubicBezTo>
                    <a:pt x="5940" y="507"/>
                    <a:pt x="5905" y="716"/>
                    <a:pt x="5835" y="823"/>
                  </a:cubicBezTo>
                  <a:cubicBezTo>
                    <a:pt x="5831" y="886"/>
                    <a:pt x="5851" y="956"/>
                    <a:pt x="5823" y="1012"/>
                  </a:cubicBezTo>
                  <a:cubicBezTo>
                    <a:pt x="5809" y="1041"/>
                    <a:pt x="5761" y="1033"/>
                    <a:pt x="5729" y="1035"/>
                  </a:cubicBezTo>
                  <a:cubicBezTo>
                    <a:pt x="5670" y="1039"/>
                    <a:pt x="5611" y="1044"/>
                    <a:pt x="5552" y="1047"/>
                  </a:cubicBezTo>
                  <a:cubicBezTo>
                    <a:pt x="5458" y="1052"/>
                    <a:pt x="5364" y="1055"/>
                    <a:pt x="5270" y="1059"/>
                  </a:cubicBezTo>
                  <a:cubicBezTo>
                    <a:pt x="5031" y="1089"/>
                    <a:pt x="4783" y="1061"/>
                    <a:pt x="4541" y="1071"/>
                  </a:cubicBezTo>
                  <a:cubicBezTo>
                    <a:pt x="3812" y="1041"/>
                    <a:pt x="4149" y="1041"/>
                    <a:pt x="3529" y="1059"/>
                  </a:cubicBezTo>
                  <a:cubicBezTo>
                    <a:pt x="2212" y="1053"/>
                    <a:pt x="1223" y="1038"/>
                    <a:pt x="0" y="1000"/>
                  </a:cubicBezTo>
                  <a:cubicBezTo>
                    <a:pt x="4" y="808"/>
                    <a:pt x="12" y="423"/>
                    <a:pt x="12" y="423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39320" y="4841280"/>
              <a:ext cx="112680" cy="979920"/>
            </a:xfrm>
            <a:custGeom>
              <a:avLst/>
              <a:gdLst/>
              <a:ahLst/>
              <a:rect l="l" t="t" r="r" b="b"/>
              <a:pathLst>
                <a:path w="60" h="459">
                  <a:moveTo>
                    <a:pt x="4" y="459"/>
                  </a:moveTo>
                  <a:cubicBezTo>
                    <a:pt x="8" y="334"/>
                    <a:pt x="0" y="207"/>
                    <a:pt x="15" y="83"/>
                  </a:cubicBezTo>
                  <a:cubicBezTo>
                    <a:pt x="17" y="70"/>
                    <a:pt x="46" y="83"/>
                    <a:pt x="51" y="71"/>
                  </a:cubicBezTo>
                  <a:cubicBezTo>
                    <a:pt x="60" y="49"/>
                    <a:pt x="51" y="24"/>
                    <a:pt x="51" y="0"/>
                  </a:cubicBezTo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-150840" y="4146480"/>
            <a:ext cx="6242040" cy="1035000"/>
          </a:xfrm>
          <a:custGeom>
            <a:avLst/>
            <a:gdLst/>
            <a:ahLst/>
            <a:rect l="l" t="t" r="r" b="b"/>
            <a:pathLst>
              <a:path w="1342" h="511">
                <a:moveTo>
                  <a:pt x="68" y="59"/>
                </a:moveTo>
                <a:cubicBezTo>
                  <a:pt x="125" y="30"/>
                  <a:pt x="185" y="20"/>
                  <a:pt x="245" y="0"/>
                </a:cubicBezTo>
                <a:cubicBezTo>
                  <a:pt x="251" y="1"/>
                  <a:pt x="485" y="20"/>
                  <a:pt x="504" y="24"/>
                </a:cubicBezTo>
                <a:cubicBezTo>
                  <a:pt x="653" y="58"/>
                  <a:pt x="434" y="39"/>
                  <a:pt x="574" y="59"/>
                </a:cubicBezTo>
                <a:cubicBezTo>
                  <a:pt x="617" y="65"/>
                  <a:pt x="661" y="67"/>
                  <a:pt x="704" y="71"/>
                </a:cubicBezTo>
                <a:cubicBezTo>
                  <a:pt x="836" y="136"/>
                  <a:pt x="871" y="141"/>
                  <a:pt x="1033" y="153"/>
                </a:cubicBezTo>
                <a:cubicBezTo>
                  <a:pt x="1049" y="157"/>
                  <a:pt x="1067" y="156"/>
                  <a:pt x="1080" y="165"/>
                </a:cubicBezTo>
                <a:cubicBezTo>
                  <a:pt x="1092" y="173"/>
                  <a:pt x="1093" y="191"/>
                  <a:pt x="1104" y="200"/>
                </a:cubicBezTo>
                <a:cubicBezTo>
                  <a:pt x="1118" y="211"/>
                  <a:pt x="1136" y="215"/>
                  <a:pt x="1151" y="224"/>
                </a:cubicBezTo>
                <a:cubicBezTo>
                  <a:pt x="1163" y="231"/>
                  <a:pt x="1173" y="242"/>
                  <a:pt x="1186" y="247"/>
                </a:cubicBezTo>
                <a:cubicBezTo>
                  <a:pt x="1205" y="254"/>
                  <a:pt x="1226" y="254"/>
                  <a:pt x="1245" y="259"/>
                </a:cubicBezTo>
                <a:cubicBezTo>
                  <a:pt x="1269" y="265"/>
                  <a:pt x="1315" y="282"/>
                  <a:pt x="1315" y="282"/>
                </a:cubicBezTo>
                <a:cubicBezTo>
                  <a:pt x="1323" y="294"/>
                  <a:pt x="1342" y="304"/>
                  <a:pt x="1339" y="318"/>
                </a:cubicBezTo>
                <a:cubicBezTo>
                  <a:pt x="1331" y="360"/>
                  <a:pt x="1270" y="332"/>
                  <a:pt x="1257" y="329"/>
                </a:cubicBezTo>
                <a:cubicBezTo>
                  <a:pt x="1167" y="337"/>
                  <a:pt x="1076" y="345"/>
                  <a:pt x="986" y="353"/>
                </a:cubicBezTo>
                <a:cubicBezTo>
                  <a:pt x="913" y="359"/>
                  <a:pt x="869" y="429"/>
                  <a:pt x="798" y="435"/>
                </a:cubicBezTo>
                <a:cubicBezTo>
                  <a:pt x="724" y="442"/>
                  <a:pt x="649" y="443"/>
                  <a:pt x="574" y="447"/>
                </a:cubicBezTo>
                <a:cubicBezTo>
                  <a:pt x="442" y="481"/>
                  <a:pt x="310" y="476"/>
                  <a:pt x="174" y="482"/>
                </a:cubicBezTo>
                <a:cubicBezTo>
                  <a:pt x="155" y="486"/>
                  <a:pt x="135" y="489"/>
                  <a:pt x="116" y="494"/>
                </a:cubicBezTo>
                <a:cubicBezTo>
                  <a:pt x="104" y="497"/>
                  <a:pt x="92" y="511"/>
                  <a:pt x="80" y="506"/>
                </a:cubicBezTo>
                <a:cubicBezTo>
                  <a:pt x="67" y="501"/>
                  <a:pt x="63" y="484"/>
                  <a:pt x="57" y="471"/>
                </a:cubicBezTo>
                <a:cubicBezTo>
                  <a:pt x="37" y="431"/>
                  <a:pt x="35" y="383"/>
                  <a:pt x="21" y="341"/>
                </a:cubicBezTo>
                <a:cubicBezTo>
                  <a:pt x="46" y="80"/>
                  <a:pt x="0" y="163"/>
                  <a:pt x="68" y="5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228600" y="5846760"/>
            <a:ext cx="9551880" cy="121428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6320" y="6168960"/>
            <a:ext cx="609480" cy="609840"/>
            <a:chOff x="76320" y="6168960"/>
            <a:chExt cx="609480" cy="609840"/>
          </a:xfrm>
        </p:grpSpPr>
        <p:grpSp>
          <p:nvGrpSpPr>
            <p:cNvPr id="259" name=""/>
            <p:cNvGrpSpPr/>
            <p:nvPr/>
          </p:nvGrpSpPr>
          <p:grpSpPr>
            <a:xfrm>
              <a:off x="76320" y="6168960"/>
              <a:ext cx="554040" cy="548640"/>
              <a:chOff x="76320" y="6168960"/>
              <a:chExt cx="554040" cy="548640"/>
            </a:xfrm>
          </p:grpSpPr>
          <p:sp>
            <p:nvSpPr>
              <p:cNvPr id="260" name=""/>
              <p:cNvSpPr/>
              <p:nvPr/>
            </p:nvSpPr>
            <p:spPr>
              <a:xfrm>
                <a:off x="253440" y="6359400"/>
                <a:ext cx="212040" cy="229320"/>
              </a:xfrm>
              <a:custGeom>
                <a:avLst/>
                <a:gdLst/>
                <a:ahLst/>
                <a:rect l="l" t="t" r="r" b="b"/>
                <a:pathLst>
                  <a:path w="378" h="314">
                    <a:moveTo>
                      <a:pt x="237" y="161"/>
                    </a:moveTo>
                    <a:cubicBezTo>
                      <a:pt x="214" y="91"/>
                      <a:pt x="243" y="155"/>
                      <a:pt x="190" y="102"/>
                    </a:cubicBezTo>
                    <a:cubicBezTo>
                      <a:pt x="123" y="35"/>
                      <a:pt x="219" y="92"/>
                      <a:pt x="119" y="43"/>
                    </a:cubicBezTo>
                    <a:cubicBezTo>
                      <a:pt x="115" y="31"/>
                      <a:pt x="119" y="11"/>
                      <a:pt x="107" y="8"/>
                    </a:cubicBezTo>
                    <a:cubicBezTo>
                      <a:pt x="80" y="0"/>
                      <a:pt x="0" y="7"/>
                      <a:pt x="48" y="55"/>
                    </a:cubicBezTo>
                    <a:cubicBezTo>
                      <a:pt x="57" y="64"/>
                      <a:pt x="72" y="62"/>
                      <a:pt x="84" y="66"/>
                    </a:cubicBezTo>
                    <a:cubicBezTo>
                      <a:pt x="111" y="108"/>
                      <a:pt x="131" y="121"/>
                      <a:pt x="178" y="137"/>
                    </a:cubicBezTo>
                    <a:cubicBezTo>
                      <a:pt x="264" y="268"/>
                      <a:pt x="132" y="78"/>
                      <a:pt x="237" y="196"/>
                    </a:cubicBezTo>
                    <a:cubicBezTo>
                      <a:pt x="309" y="277"/>
                      <a:pt x="267" y="264"/>
                      <a:pt x="366" y="314"/>
                    </a:cubicBezTo>
                    <a:cubicBezTo>
                      <a:pt x="370" y="302"/>
                      <a:pt x="378" y="291"/>
                      <a:pt x="378" y="278"/>
                    </a:cubicBezTo>
                    <a:cubicBezTo>
                      <a:pt x="378" y="204"/>
                      <a:pt x="348" y="210"/>
                      <a:pt x="296" y="184"/>
                    </a:cubicBezTo>
                    <a:cubicBezTo>
                      <a:pt x="241" y="157"/>
                      <a:pt x="281" y="161"/>
                      <a:pt x="237" y="161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320" y="6168960"/>
                <a:ext cx="554040" cy="548640"/>
              </a:xfrm>
              <a:custGeom>
                <a:avLst/>
                <a:gdLst/>
                <a:ahLst/>
                <a:rect l="l" t="t" r="r" b="b"/>
                <a:pathLst>
                  <a:path w="988" h="751">
                    <a:moveTo>
                      <a:pt x="506" y="433"/>
                    </a:moveTo>
                    <a:cubicBezTo>
                      <a:pt x="510" y="319"/>
                      <a:pt x="493" y="203"/>
                      <a:pt x="517" y="92"/>
                    </a:cubicBezTo>
                    <a:cubicBezTo>
                      <a:pt x="526" y="52"/>
                      <a:pt x="676" y="20"/>
                      <a:pt x="706" y="10"/>
                    </a:cubicBezTo>
                    <a:cubicBezTo>
                      <a:pt x="765" y="15"/>
                      <a:pt x="833" y="0"/>
                      <a:pt x="882" y="33"/>
                    </a:cubicBezTo>
                    <a:cubicBezTo>
                      <a:pt x="987" y="102"/>
                      <a:pt x="829" y="45"/>
                      <a:pt x="941" y="80"/>
                    </a:cubicBezTo>
                    <a:cubicBezTo>
                      <a:pt x="956" y="125"/>
                      <a:pt x="976" y="164"/>
                      <a:pt x="988" y="210"/>
                    </a:cubicBezTo>
                    <a:cubicBezTo>
                      <a:pt x="984" y="245"/>
                      <a:pt x="988" y="283"/>
                      <a:pt x="976" y="316"/>
                    </a:cubicBezTo>
                    <a:cubicBezTo>
                      <a:pt x="970" y="331"/>
                      <a:pt x="919" y="347"/>
                      <a:pt x="906" y="351"/>
                    </a:cubicBezTo>
                    <a:cubicBezTo>
                      <a:pt x="778" y="386"/>
                      <a:pt x="649" y="421"/>
                      <a:pt x="517" y="433"/>
                    </a:cubicBezTo>
                    <a:cubicBezTo>
                      <a:pt x="500" y="426"/>
                      <a:pt x="429" y="400"/>
                      <a:pt x="412" y="386"/>
                    </a:cubicBezTo>
                    <a:cubicBezTo>
                      <a:pt x="335" y="322"/>
                      <a:pt x="454" y="375"/>
                      <a:pt x="341" y="327"/>
                    </a:cubicBezTo>
                    <a:cubicBezTo>
                      <a:pt x="293" y="307"/>
                      <a:pt x="237" y="309"/>
                      <a:pt x="188" y="304"/>
                    </a:cubicBezTo>
                    <a:cubicBezTo>
                      <a:pt x="99" y="313"/>
                      <a:pt x="65" y="306"/>
                      <a:pt x="0" y="351"/>
                    </a:cubicBezTo>
                    <a:cubicBezTo>
                      <a:pt x="0" y="354"/>
                      <a:pt x="6" y="595"/>
                      <a:pt x="47" y="645"/>
                    </a:cubicBezTo>
                    <a:cubicBezTo>
                      <a:pt x="58" y="659"/>
                      <a:pt x="78" y="661"/>
                      <a:pt x="94" y="669"/>
                    </a:cubicBezTo>
                    <a:cubicBezTo>
                      <a:pt x="125" y="732"/>
                      <a:pt x="136" y="729"/>
                      <a:pt x="200" y="751"/>
                    </a:cubicBezTo>
                    <a:cubicBezTo>
                      <a:pt x="278" y="747"/>
                      <a:pt x="357" y="746"/>
                      <a:pt x="435" y="739"/>
                    </a:cubicBezTo>
                    <a:cubicBezTo>
                      <a:pt x="474" y="736"/>
                      <a:pt x="517" y="657"/>
                      <a:pt x="517" y="657"/>
                    </a:cubicBezTo>
                    <a:cubicBezTo>
                      <a:pt x="530" y="605"/>
                      <a:pt x="641" y="391"/>
                      <a:pt x="506" y="433"/>
                    </a:cubicBezTo>
                    <a:close/>
                  </a:path>
                </a:pathLst>
              </a:custGeom>
              <a:solidFill>
                <a:srgbClr val="ff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3440" y="6235920"/>
                <a:ext cx="102960" cy="278280"/>
              </a:xfrm>
              <a:custGeom>
                <a:avLst/>
                <a:gdLst/>
                <a:ahLst/>
                <a:rect l="l" t="t" r="r" b="b"/>
                <a:pathLst>
                  <a:path w="184" h="381">
                    <a:moveTo>
                      <a:pt x="178" y="330"/>
                    </a:moveTo>
                    <a:cubicBezTo>
                      <a:pt x="149" y="158"/>
                      <a:pt x="184" y="381"/>
                      <a:pt x="154" y="59"/>
                    </a:cubicBezTo>
                    <a:cubicBezTo>
                      <a:pt x="153" y="43"/>
                      <a:pt x="153" y="25"/>
                      <a:pt x="143" y="12"/>
                    </a:cubicBezTo>
                    <a:cubicBezTo>
                      <a:pt x="135" y="2"/>
                      <a:pt x="119" y="4"/>
                      <a:pt x="107" y="0"/>
                    </a:cubicBezTo>
                    <a:cubicBezTo>
                      <a:pt x="65" y="14"/>
                      <a:pt x="0" y="11"/>
                      <a:pt x="60" y="59"/>
                    </a:cubicBezTo>
                    <a:cubicBezTo>
                      <a:pt x="70" y="67"/>
                      <a:pt x="84" y="67"/>
                      <a:pt x="96" y="71"/>
                    </a:cubicBezTo>
                    <a:cubicBezTo>
                      <a:pt x="139" y="56"/>
                      <a:pt x="125" y="70"/>
                      <a:pt x="143" y="35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8360" y="6262920"/>
                <a:ext cx="154800" cy="187560"/>
              </a:xfrm>
              <a:custGeom>
                <a:avLst/>
                <a:gdLst/>
                <a:ahLst/>
                <a:rect l="l" t="t" r="r" b="b"/>
                <a:pathLst>
                  <a:path w="276" h="257">
                    <a:moveTo>
                      <a:pt x="276" y="257"/>
                    </a:moveTo>
                    <a:cubicBezTo>
                      <a:pt x="249" y="153"/>
                      <a:pt x="206" y="79"/>
                      <a:pt x="99" y="46"/>
                    </a:cubicBezTo>
                    <a:cubicBezTo>
                      <a:pt x="87" y="38"/>
                      <a:pt x="77" y="28"/>
                      <a:pt x="64" y="22"/>
                    </a:cubicBezTo>
                    <a:cubicBezTo>
                      <a:pt x="53" y="16"/>
                      <a:pt x="36" y="0"/>
                      <a:pt x="29" y="10"/>
                    </a:cubicBezTo>
                    <a:cubicBezTo>
                      <a:pt x="0" y="54"/>
                      <a:pt x="59" y="63"/>
                      <a:pt x="76" y="69"/>
                    </a:cubicBezTo>
                    <a:cubicBezTo>
                      <a:pt x="84" y="81"/>
                      <a:pt x="86" y="99"/>
                      <a:pt x="99" y="104"/>
                    </a:cubicBezTo>
                    <a:cubicBezTo>
                      <a:pt x="116" y="111"/>
                      <a:pt x="170" y="81"/>
                      <a:pt x="182" y="69"/>
                    </a:cubicBezTo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34640" y="6409080"/>
                <a:ext cx="81000" cy="84600"/>
              </a:xfrm>
              <a:custGeom>
                <a:avLst/>
                <a:gdLst/>
                <a:ahLst/>
                <a:rect l="l" t="t" r="r" b="b"/>
                <a:pathLst>
                  <a:path w="145" h="116">
                    <a:moveTo>
                      <a:pt x="143" y="69"/>
                    </a:moveTo>
                    <a:cubicBezTo>
                      <a:pt x="119" y="0"/>
                      <a:pt x="93" y="22"/>
                      <a:pt x="25" y="34"/>
                    </a:cubicBezTo>
                    <a:cubicBezTo>
                      <a:pt x="11" y="75"/>
                      <a:pt x="0" y="71"/>
                      <a:pt x="49" y="93"/>
                    </a:cubicBezTo>
                    <a:cubicBezTo>
                      <a:pt x="71" y="103"/>
                      <a:pt x="119" y="116"/>
                      <a:pt x="119" y="116"/>
                    </a:cubicBezTo>
                    <a:cubicBezTo>
                      <a:pt x="145" y="78"/>
                      <a:pt x="143" y="95"/>
                      <a:pt x="143" y="69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4160" y="6537960"/>
                <a:ext cx="59400" cy="115920"/>
              </a:xfrm>
              <a:custGeom>
                <a:avLst/>
                <a:gdLst/>
                <a:ahLst/>
                <a:rect l="l" t="t" r="r" b="b"/>
                <a:pathLst>
                  <a:path w="106" h="159">
                    <a:moveTo>
                      <a:pt x="0" y="46"/>
                    </a:moveTo>
                    <a:cubicBezTo>
                      <a:pt x="52" y="11"/>
                      <a:pt x="84" y="0"/>
                      <a:pt x="106" y="70"/>
                    </a:cubicBezTo>
                    <a:cubicBezTo>
                      <a:pt x="102" y="89"/>
                      <a:pt x="105" y="111"/>
                      <a:pt x="95" y="128"/>
                    </a:cubicBezTo>
                    <a:cubicBezTo>
                      <a:pt x="88" y="141"/>
                      <a:pt x="72" y="159"/>
                      <a:pt x="59" y="152"/>
                    </a:cubicBezTo>
                    <a:cubicBezTo>
                      <a:pt x="34" y="138"/>
                      <a:pt x="28" y="105"/>
                      <a:pt x="12" y="81"/>
                    </a:cubicBezTo>
                    <a:cubicBezTo>
                      <a:pt x="5" y="71"/>
                      <a:pt x="0" y="46"/>
                      <a:pt x="0" y="46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8760" y="6312960"/>
                <a:ext cx="75960" cy="77040"/>
              </a:xfrm>
              <a:custGeom>
                <a:avLst/>
                <a:gdLst/>
                <a:ahLst/>
                <a:rect l="l" t="t" r="r" b="b"/>
                <a:pathLst>
                  <a:path w="136" h="106">
                    <a:moveTo>
                      <a:pt x="43" y="82"/>
                    </a:moveTo>
                    <a:cubicBezTo>
                      <a:pt x="39" y="76"/>
                      <a:pt x="0" y="26"/>
                      <a:pt x="7" y="11"/>
                    </a:cubicBezTo>
                    <a:cubicBezTo>
                      <a:pt x="13" y="0"/>
                      <a:pt x="31" y="4"/>
                      <a:pt x="43" y="0"/>
                    </a:cubicBezTo>
                    <a:cubicBezTo>
                      <a:pt x="134" y="17"/>
                      <a:pt x="136" y="20"/>
                      <a:pt x="101" y="106"/>
                    </a:cubicBezTo>
                    <a:cubicBezTo>
                      <a:pt x="49" y="93"/>
                      <a:pt x="65" y="106"/>
                      <a:pt x="43" y="8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76920" y="6373440"/>
                <a:ext cx="88920" cy="78120"/>
              </a:xfrm>
              <a:custGeom>
                <a:avLst/>
                <a:gdLst/>
                <a:ahLst/>
                <a:rect l="l" t="t" r="r" b="b"/>
                <a:pathLst>
                  <a:path w="159" h="107">
                    <a:moveTo>
                      <a:pt x="76" y="71"/>
                    </a:moveTo>
                    <a:cubicBezTo>
                      <a:pt x="61" y="67"/>
                      <a:pt x="0" y="66"/>
                      <a:pt x="17" y="24"/>
                    </a:cubicBezTo>
                    <a:cubicBezTo>
                      <a:pt x="22" y="11"/>
                      <a:pt x="40" y="8"/>
                      <a:pt x="52" y="0"/>
                    </a:cubicBezTo>
                    <a:cubicBezTo>
                      <a:pt x="81" y="10"/>
                      <a:pt x="100" y="13"/>
                      <a:pt x="123" y="36"/>
                    </a:cubicBezTo>
                    <a:cubicBezTo>
                      <a:pt x="133" y="46"/>
                      <a:pt x="159" y="65"/>
                      <a:pt x="146" y="71"/>
                    </a:cubicBezTo>
                    <a:cubicBezTo>
                      <a:pt x="72" y="107"/>
                      <a:pt x="76" y="27"/>
                      <a:pt x="76" y="71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9200" y="6208200"/>
                <a:ext cx="81720" cy="9612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0" y="62"/>
                    </a:moveTo>
                    <a:cubicBezTo>
                      <a:pt x="63" y="51"/>
                      <a:pt x="41" y="0"/>
                      <a:pt x="12" y="15"/>
                    </a:cubicBezTo>
                    <a:cubicBezTo>
                      <a:pt x="1" y="21"/>
                      <a:pt x="4" y="38"/>
                      <a:pt x="0" y="50"/>
                    </a:cubicBezTo>
                    <a:cubicBezTo>
                      <a:pt x="80" y="104"/>
                      <a:pt x="61" y="70"/>
                      <a:pt x="82" y="132"/>
                    </a:cubicBezTo>
                    <a:cubicBezTo>
                      <a:pt x="139" y="94"/>
                      <a:pt x="146" y="94"/>
                      <a:pt x="129" y="26"/>
                    </a:cubicBezTo>
                    <a:cubicBezTo>
                      <a:pt x="73" y="40"/>
                      <a:pt x="89" y="24"/>
                      <a:pt x="70" y="6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 rot="10800000">
                <a:off x="141480" y="6522120"/>
                <a:ext cx="81720" cy="96120"/>
              </a:xfrm>
              <a:custGeom>
                <a:avLst/>
                <a:gdLst/>
                <a:ahLst/>
                <a:rect l="l" t="t" r="r" b="b"/>
                <a:pathLst>
                  <a:path w="146" h="132">
                    <a:moveTo>
                      <a:pt x="70" y="62"/>
                    </a:moveTo>
                    <a:cubicBezTo>
                      <a:pt x="63" y="51"/>
                      <a:pt x="41" y="0"/>
                      <a:pt x="12" y="15"/>
                    </a:cubicBezTo>
                    <a:cubicBezTo>
                      <a:pt x="1" y="21"/>
                      <a:pt x="4" y="38"/>
                      <a:pt x="0" y="50"/>
                    </a:cubicBezTo>
                    <a:cubicBezTo>
                      <a:pt x="80" y="104"/>
                      <a:pt x="61" y="70"/>
                      <a:pt x="82" y="132"/>
                    </a:cubicBezTo>
                    <a:cubicBezTo>
                      <a:pt x="139" y="94"/>
                      <a:pt x="146" y="94"/>
                      <a:pt x="129" y="26"/>
                    </a:cubicBezTo>
                    <a:cubicBezTo>
                      <a:pt x="73" y="40"/>
                      <a:pt x="89" y="24"/>
                      <a:pt x="70" y="62"/>
                    </a:cubicBez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>
              <a:hlinkClick r:id="" action="ppaction://hlinkshowjump?jump=previousslide"/>
            </p:cNvPr>
            <p:cNvSpPr/>
            <p:nvPr/>
          </p:nvSpPr>
          <p:spPr>
            <a:xfrm>
              <a:off x="76320" y="6168960"/>
              <a:ext cx="609480" cy="609840"/>
            </a:xfrm>
            <a:custGeom>
              <a:avLst/>
              <a:gdLst>
                <a:gd name="textAreaLeft" fmla="*/ 39240 w 609480"/>
                <a:gd name="textAreaRight" fmla="*/ 570240 w 609480"/>
                <a:gd name="textAreaTop" fmla="*/ 39240 h 609840"/>
                <a:gd name="textAreaBottom" fmla="*/ 570600 h 609840"/>
              </a:gdLst>
              <a:ahLst/>
              <a:rect l="textAreaLeft" t="textAreaTop" r="textAreaRight" b="textAreaBottom"/>
              <a:pathLst>
                <a:path w="21600" h="21613">
                  <a:moveTo>
                    <a:pt x="0" y="0"/>
                  </a:moveTo>
                  <a:lnTo>
                    <a:pt x="21600" y="0"/>
                  </a:lnTo>
                  <a:lnTo>
                    <a:pt x="21600" y="21613"/>
                  </a:lnTo>
                  <a:lnTo>
                    <a:pt x="0" y="21613"/>
                  </a:lnTo>
                  <a:close/>
                </a:path>
                <a:path fill="lightenLess" w="21600" h="2161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3">
                  <a:moveTo>
                    <a:pt x="21600" y="0"/>
                  </a:moveTo>
                  <a:lnTo>
                    <a:pt x="21600" y="21613"/>
                  </a:lnTo>
                  <a:lnTo>
                    <a:pt x="20200" y="20213"/>
                  </a:lnTo>
                  <a:lnTo>
                    <a:pt x="20200" y="1400"/>
                  </a:lnTo>
                  <a:close/>
                </a:path>
                <a:path fill="darkenLess" w="21600" h="21613">
                  <a:moveTo>
                    <a:pt x="21600" y="21613"/>
                  </a:moveTo>
                  <a:lnTo>
                    <a:pt x="0" y="21613"/>
                  </a:lnTo>
                  <a:lnTo>
                    <a:pt x="1400" y="20213"/>
                  </a:lnTo>
                  <a:lnTo>
                    <a:pt x="20200" y="20213"/>
                  </a:lnTo>
                  <a:close/>
                </a:path>
                <a:path fill="lighten" w="21600" h="21613">
                  <a:moveTo>
                    <a:pt x="0" y="2161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0" y="601668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09600" y="3828960"/>
            <a:ext cx="1722600" cy="546120"/>
          </a:xfrm>
          <a:custGeom>
            <a:avLst/>
            <a:gdLst/>
            <a:ahLst/>
            <a:rect l="l" t="t" r="r" b="b"/>
            <a:pathLst>
              <a:path w="1085" h="344">
                <a:moveTo>
                  <a:pt x="0" y="259"/>
                </a:moveTo>
                <a:cubicBezTo>
                  <a:pt x="31" y="195"/>
                  <a:pt x="30" y="206"/>
                  <a:pt x="47" y="118"/>
                </a:cubicBezTo>
                <a:cubicBezTo>
                  <a:pt x="55" y="79"/>
                  <a:pt x="70" y="0"/>
                  <a:pt x="70" y="0"/>
                </a:cubicBezTo>
                <a:cubicBezTo>
                  <a:pt x="82" y="47"/>
                  <a:pt x="96" y="75"/>
                  <a:pt x="117" y="118"/>
                </a:cubicBezTo>
                <a:cubicBezTo>
                  <a:pt x="130" y="144"/>
                  <a:pt x="123" y="178"/>
                  <a:pt x="141" y="200"/>
                </a:cubicBezTo>
                <a:cubicBezTo>
                  <a:pt x="149" y="210"/>
                  <a:pt x="164" y="208"/>
                  <a:pt x="176" y="212"/>
                </a:cubicBezTo>
                <a:cubicBezTo>
                  <a:pt x="180" y="224"/>
                  <a:pt x="179" y="238"/>
                  <a:pt x="188" y="247"/>
                </a:cubicBezTo>
                <a:cubicBezTo>
                  <a:pt x="231" y="290"/>
                  <a:pt x="229" y="233"/>
                  <a:pt x="247" y="212"/>
                </a:cubicBezTo>
                <a:cubicBezTo>
                  <a:pt x="256" y="201"/>
                  <a:pt x="270" y="196"/>
                  <a:pt x="282" y="188"/>
                </a:cubicBezTo>
                <a:cubicBezTo>
                  <a:pt x="297" y="144"/>
                  <a:pt x="317" y="105"/>
                  <a:pt x="329" y="59"/>
                </a:cubicBezTo>
                <a:cubicBezTo>
                  <a:pt x="364" y="195"/>
                  <a:pt x="315" y="27"/>
                  <a:pt x="364" y="141"/>
                </a:cubicBezTo>
                <a:cubicBezTo>
                  <a:pt x="409" y="246"/>
                  <a:pt x="341" y="136"/>
                  <a:pt x="400" y="224"/>
                </a:cubicBezTo>
                <a:cubicBezTo>
                  <a:pt x="443" y="209"/>
                  <a:pt x="444" y="216"/>
                  <a:pt x="470" y="165"/>
                </a:cubicBezTo>
                <a:cubicBezTo>
                  <a:pt x="481" y="143"/>
                  <a:pt x="494" y="94"/>
                  <a:pt x="494" y="94"/>
                </a:cubicBezTo>
                <a:cubicBezTo>
                  <a:pt x="510" y="98"/>
                  <a:pt x="528" y="96"/>
                  <a:pt x="541" y="106"/>
                </a:cubicBezTo>
                <a:cubicBezTo>
                  <a:pt x="551" y="114"/>
                  <a:pt x="543" y="132"/>
                  <a:pt x="552" y="141"/>
                </a:cubicBezTo>
                <a:cubicBezTo>
                  <a:pt x="561" y="150"/>
                  <a:pt x="576" y="149"/>
                  <a:pt x="588" y="153"/>
                </a:cubicBezTo>
                <a:cubicBezTo>
                  <a:pt x="596" y="165"/>
                  <a:pt x="604" y="176"/>
                  <a:pt x="611" y="188"/>
                </a:cubicBezTo>
                <a:cubicBezTo>
                  <a:pt x="620" y="203"/>
                  <a:pt x="620" y="226"/>
                  <a:pt x="635" y="235"/>
                </a:cubicBezTo>
                <a:cubicBezTo>
                  <a:pt x="645" y="241"/>
                  <a:pt x="658" y="228"/>
                  <a:pt x="670" y="224"/>
                </a:cubicBezTo>
                <a:cubicBezTo>
                  <a:pt x="672" y="220"/>
                  <a:pt x="701" y="142"/>
                  <a:pt x="729" y="153"/>
                </a:cubicBezTo>
                <a:cubicBezTo>
                  <a:pt x="745" y="160"/>
                  <a:pt x="740" y="188"/>
                  <a:pt x="752" y="200"/>
                </a:cubicBezTo>
                <a:cubicBezTo>
                  <a:pt x="761" y="209"/>
                  <a:pt x="776" y="208"/>
                  <a:pt x="788" y="212"/>
                </a:cubicBezTo>
                <a:cubicBezTo>
                  <a:pt x="823" y="317"/>
                  <a:pt x="799" y="293"/>
                  <a:pt x="823" y="247"/>
                </a:cubicBezTo>
                <a:cubicBezTo>
                  <a:pt x="829" y="234"/>
                  <a:pt x="839" y="224"/>
                  <a:pt x="847" y="212"/>
                </a:cubicBezTo>
                <a:cubicBezTo>
                  <a:pt x="851" y="200"/>
                  <a:pt x="846" y="179"/>
                  <a:pt x="858" y="176"/>
                </a:cubicBezTo>
                <a:cubicBezTo>
                  <a:pt x="899" y="165"/>
                  <a:pt x="900" y="234"/>
                  <a:pt x="905" y="247"/>
                </a:cubicBezTo>
                <a:cubicBezTo>
                  <a:pt x="911" y="260"/>
                  <a:pt x="921" y="270"/>
                  <a:pt x="929" y="282"/>
                </a:cubicBezTo>
                <a:cubicBezTo>
                  <a:pt x="941" y="278"/>
                  <a:pt x="953" y="276"/>
                  <a:pt x="964" y="271"/>
                </a:cubicBezTo>
                <a:cubicBezTo>
                  <a:pt x="980" y="264"/>
                  <a:pt x="994" y="242"/>
                  <a:pt x="1011" y="247"/>
                </a:cubicBezTo>
                <a:cubicBezTo>
                  <a:pt x="1028" y="252"/>
                  <a:pt x="1023" y="282"/>
                  <a:pt x="1035" y="294"/>
                </a:cubicBezTo>
                <a:cubicBezTo>
                  <a:pt x="1085" y="344"/>
                  <a:pt x="1082" y="295"/>
                  <a:pt x="1082" y="329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786280" y="4254120"/>
            <a:ext cx="1393920" cy="609840"/>
            <a:chOff x="5786280" y="4254120"/>
            <a:chExt cx="1393920" cy="609840"/>
          </a:xfrm>
        </p:grpSpPr>
        <p:sp>
          <p:nvSpPr>
            <p:cNvPr id="274" name=""/>
            <p:cNvSpPr/>
            <p:nvPr/>
          </p:nvSpPr>
          <p:spPr>
            <a:xfrm>
              <a:off x="5786280" y="4530600"/>
              <a:ext cx="403560" cy="33336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193" y="47"/>
                  </a:moveTo>
                  <a:cubicBezTo>
                    <a:pt x="181" y="39"/>
                    <a:pt x="171" y="30"/>
                    <a:pt x="158" y="24"/>
                  </a:cubicBezTo>
                  <a:cubicBezTo>
                    <a:pt x="135" y="14"/>
                    <a:pt x="87" y="0"/>
                    <a:pt x="87" y="0"/>
                  </a:cubicBezTo>
                  <a:cubicBezTo>
                    <a:pt x="0" y="30"/>
                    <a:pt x="41" y="119"/>
                    <a:pt x="87" y="165"/>
                  </a:cubicBezTo>
                  <a:cubicBezTo>
                    <a:pt x="109" y="187"/>
                    <a:pt x="130" y="191"/>
                    <a:pt x="158" y="200"/>
                  </a:cubicBezTo>
                  <a:cubicBezTo>
                    <a:pt x="185" y="196"/>
                    <a:pt x="224" y="210"/>
                    <a:pt x="240" y="188"/>
                  </a:cubicBezTo>
                  <a:cubicBezTo>
                    <a:pt x="254" y="168"/>
                    <a:pt x="222" y="142"/>
                    <a:pt x="217" y="118"/>
                  </a:cubicBezTo>
                  <a:cubicBezTo>
                    <a:pt x="213" y="98"/>
                    <a:pt x="211" y="78"/>
                    <a:pt x="205" y="59"/>
                  </a:cubicBezTo>
                  <a:cubicBezTo>
                    <a:pt x="203" y="54"/>
                    <a:pt x="197" y="51"/>
                    <a:pt x="193" y="47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73400">
              <a:off x="6864120" y="4267080"/>
              <a:ext cx="7596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986440" y="4267080"/>
              <a:ext cx="1193760" cy="541440"/>
              <a:chOff x="5986440" y="4267080"/>
              <a:chExt cx="1193760" cy="541440"/>
            </a:xfrm>
          </p:grpSpPr>
          <p:sp>
            <p:nvSpPr>
              <p:cNvPr id="277" name=""/>
              <p:cNvSpPr/>
              <p:nvPr/>
            </p:nvSpPr>
            <p:spPr>
              <a:xfrm>
                <a:off x="6705720" y="4267080"/>
                <a:ext cx="474480" cy="309600"/>
              </a:xfrm>
              <a:custGeom>
                <a:avLst/>
                <a:gdLst/>
                <a:ahLst/>
                <a:rect l="l" t="t" r="r" b="b"/>
                <a:pathLst>
                  <a:path w="299" h="195">
                    <a:moveTo>
                      <a:pt x="162" y="195"/>
                    </a:moveTo>
                    <a:cubicBezTo>
                      <a:pt x="101" y="185"/>
                      <a:pt x="70" y="182"/>
                      <a:pt x="21" y="148"/>
                    </a:cubicBezTo>
                    <a:cubicBezTo>
                      <a:pt x="0" y="87"/>
                      <a:pt x="2" y="67"/>
                      <a:pt x="56" y="31"/>
                    </a:cubicBezTo>
                    <a:cubicBezTo>
                      <a:pt x="299" y="47"/>
                      <a:pt x="176" y="0"/>
                      <a:pt x="256" y="125"/>
                    </a:cubicBezTo>
                    <a:cubicBezTo>
                      <a:pt x="248" y="150"/>
                      <a:pt x="247" y="181"/>
                      <a:pt x="209" y="184"/>
                    </a:cubicBezTo>
                    <a:cubicBezTo>
                      <a:pt x="135" y="190"/>
                      <a:pt x="41" y="147"/>
                      <a:pt x="162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59560" y="4343400"/>
                <a:ext cx="342720" cy="374760"/>
              </a:xfrm>
              <a:custGeom>
                <a:avLst/>
                <a:gdLst/>
                <a:ahLst/>
                <a:rect l="l" t="t" r="r" b="b"/>
                <a:pathLst>
                  <a:path w="216" h="236">
                    <a:moveTo>
                      <a:pt x="188" y="106"/>
                    </a:moveTo>
                    <a:cubicBezTo>
                      <a:pt x="175" y="49"/>
                      <a:pt x="187" y="31"/>
                      <a:pt x="129" y="12"/>
                    </a:cubicBezTo>
                    <a:cubicBezTo>
                      <a:pt x="119" y="13"/>
                      <a:pt x="0" y="0"/>
                      <a:pt x="0" y="59"/>
                    </a:cubicBezTo>
                    <a:cubicBezTo>
                      <a:pt x="0" y="136"/>
                      <a:pt x="64" y="176"/>
                      <a:pt x="118" y="212"/>
                    </a:cubicBezTo>
                    <a:cubicBezTo>
                      <a:pt x="130" y="220"/>
                      <a:pt x="153" y="236"/>
                      <a:pt x="153" y="236"/>
                    </a:cubicBezTo>
                    <a:cubicBezTo>
                      <a:pt x="165" y="232"/>
                      <a:pt x="179" y="233"/>
                      <a:pt x="188" y="224"/>
                    </a:cubicBezTo>
                    <a:cubicBezTo>
                      <a:pt x="216" y="196"/>
                      <a:pt x="188" y="140"/>
                      <a:pt x="188" y="106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6880" y="4357800"/>
                <a:ext cx="298440" cy="365040"/>
              </a:xfrm>
              <a:custGeom>
                <a:avLst/>
                <a:gdLst/>
                <a:ahLst/>
                <a:rect l="l" t="t" r="r" b="b"/>
                <a:pathLst>
                  <a:path w="188" h="230">
                    <a:moveTo>
                      <a:pt x="130" y="74"/>
                    </a:moveTo>
                    <a:cubicBezTo>
                      <a:pt x="126" y="58"/>
                      <a:pt x="133" y="32"/>
                      <a:pt x="118" y="27"/>
                    </a:cubicBezTo>
                    <a:cubicBezTo>
                      <a:pt x="38" y="0"/>
                      <a:pt x="29" y="31"/>
                      <a:pt x="0" y="74"/>
                    </a:cubicBezTo>
                    <a:cubicBezTo>
                      <a:pt x="13" y="137"/>
                      <a:pt x="19" y="156"/>
                      <a:pt x="71" y="192"/>
                    </a:cubicBezTo>
                    <a:cubicBezTo>
                      <a:pt x="79" y="204"/>
                      <a:pt x="82" y="223"/>
                      <a:pt x="95" y="227"/>
                    </a:cubicBezTo>
                    <a:cubicBezTo>
                      <a:pt x="103" y="230"/>
                      <a:pt x="166" y="207"/>
                      <a:pt x="177" y="203"/>
                    </a:cubicBezTo>
                    <a:cubicBezTo>
                      <a:pt x="151" y="78"/>
                      <a:pt x="188" y="104"/>
                      <a:pt x="130" y="74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53200" y="4365720"/>
                <a:ext cx="393840" cy="333360"/>
              </a:xfrm>
              <a:custGeom>
                <a:avLst/>
                <a:gdLst/>
                <a:ahLst/>
                <a:rect l="l" t="t" r="r" b="b"/>
                <a:pathLst>
                  <a:path w="248" h="210">
                    <a:moveTo>
                      <a:pt x="193" y="92"/>
                    </a:moveTo>
                    <a:cubicBezTo>
                      <a:pt x="139" y="12"/>
                      <a:pt x="173" y="31"/>
                      <a:pt x="111" y="10"/>
                    </a:cubicBezTo>
                    <a:cubicBezTo>
                      <a:pt x="80" y="14"/>
                      <a:pt x="39" y="0"/>
                      <a:pt x="17" y="22"/>
                    </a:cubicBezTo>
                    <a:cubicBezTo>
                      <a:pt x="0" y="39"/>
                      <a:pt x="23" y="69"/>
                      <a:pt x="28" y="92"/>
                    </a:cubicBezTo>
                    <a:cubicBezTo>
                      <a:pt x="44" y="167"/>
                      <a:pt x="113" y="193"/>
                      <a:pt x="181" y="210"/>
                    </a:cubicBezTo>
                    <a:cubicBezTo>
                      <a:pt x="193" y="206"/>
                      <a:pt x="207" y="206"/>
                      <a:pt x="217" y="198"/>
                    </a:cubicBezTo>
                    <a:cubicBezTo>
                      <a:pt x="248" y="174"/>
                      <a:pt x="248" y="152"/>
                      <a:pt x="217" y="128"/>
                    </a:cubicBezTo>
                    <a:cubicBezTo>
                      <a:pt x="207" y="120"/>
                      <a:pt x="188" y="127"/>
                      <a:pt x="181" y="116"/>
                    </a:cubicBezTo>
                    <a:cubicBezTo>
                      <a:pt x="176" y="109"/>
                      <a:pt x="189" y="100"/>
                      <a:pt x="193" y="92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51680" y="4433760"/>
                <a:ext cx="322200" cy="320760"/>
              </a:xfrm>
              <a:custGeom>
                <a:avLst/>
                <a:gdLst/>
                <a:ahLst/>
                <a:rect l="l" t="t" r="r" b="b"/>
                <a:pathLst>
                  <a:path w="203" h="202">
                    <a:moveTo>
                      <a:pt x="139" y="38"/>
                    </a:moveTo>
                    <a:cubicBezTo>
                      <a:pt x="56" y="9"/>
                      <a:pt x="89" y="0"/>
                      <a:pt x="34" y="38"/>
                    </a:cubicBezTo>
                    <a:cubicBezTo>
                      <a:pt x="26" y="50"/>
                      <a:pt x="11" y="59"/>
                      <a:pt x="10" y="73"/>
                    </a:cubicBezTo>
                    <a:cubicBezTo>
                      <a:pt x="0" y="172"/>
                      <a:pt x="55" y="180"/>
                      <a:pt x="128" y="202"/>
                    </a:cubicBezTo>
                    <a:cubicBezTo>
                      <a:pt x="147" y="198"/>
                      <a:pt x="170" y="202"/>
                      <a:pt x="186" y="191"/>
                    </a:cubicBezTo>
                    <a:cubicBezTo>
                      <a:pt x="197" y="184"/>
                      <a:pt x="198" y="168"/>
                      <a:pt x="198" y="155"/>
                    </a:cubicBezTo>
                    <a:cubicBezTo>
                      <a:pt x="198" y="107"/>
                      <a:pt x="203" y="38"/>
                      <a:pt x="139" y="38"/>
                    </a:cubicBez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86440" y="4475160"/>
                <a:ext cx="263520" cy="333360"/>
              </a:xfrm>
              <a:custGeom>
                <a:avLst/>
                <a:gdLst/>
                <a:ahLst/>
                <a:rect l="l" t="t" r="r" b="b"/>
                <a:pathLst>
                  <a:path w="208" h="276">
                    <a:moveTo>
                      <a:pt x="185" y="70"/>
                    </a:moveTo>
                    <a:cubicBezTo>
                      <a:pt x="169" y="62"/>
                      <a:pt x="153" y="56"/>
                      <a:pt x="138" y="47"/>
                    </a:cubicBezTo>
                    <a:cubicBezTo>
                      <a:pt x="114" y="33"/>
                      <a:pt x="67" y="0"/>
                      <a:pt x="67" y="0"/>
                    </a:cubicBezTo>
                    <a:cubicBezTo>
                      <a:pt x="0" y="44"/>
                      <a:pt x="18" y="80"/>
                      <a:pt x="32" y="165"/>
                    </a:cubicBezTo>
                    <a:cubicBezTo>
                      <a:pt x="34" y="177"/>
                      <a:pt x="34" y="191"/>
                      <a:pt x="43" y="200"/>
                    </a:cubicBezTo>
                    <a:cubicBezTo>
                      <a:pt x="56" y="212"/>
                      <a:pt x="75" y="215"/>
                      <a:pt x="91" y="223"/>
                    </a:cubicBezTo>
                    <a:cubicBezTo>
                      <a:pt x="121" y="269"/>
                      <a:pt x="133" y="276"/>
                      <a:pt x="185" y="259"/>
                    </a:cubicBezTo>
                    <a:cubicBezTo>
                      <a:pt x="192" y="235"/>
                      <a:pt x="208" y="213"/>
                      <a:pt x="208" y="188"/>
                    </a:cubicBezTo>
                    <a:cubicBezTo>
                      <a:pt x="208" y="145"/>
                      <a:pt x="185" y="111"/>
                      <a:pt x="185" y="70"/>
                    </a:cubicBez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34320" y="4368960"/>
                <a:ext cx="110880" cy="126720"/>
              </a:xfrm>
              <a:custGeom>
                <a:avLst/>
                <a:gdLst/>
                <a:ahLst/>
                <a:rect l="l" t="t" r="r" b="b"/>
                <a:pathLst>
                  <a:path w="118" h="78">
                    <a:moveTo>
                      <a:pt x="118" y="0"/>
                    </a:moveTo>
                    <a:cubicBezTo>
                      <a:pt x="102" y="11"/>
                      <a:pt x="0" y="78"/>
                      <a:pt x="0" y="12"/>
                    </a:cubicBez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3200400" y="6248520"/>
            <a:ext cx="685800" cy="609480"/>
            <a:chOff x="3200400" y="6248520"/>
            <a:chExt cx="685800" cy="609480"/>
          </a:xfrm>
        </p:grpSpPr>
        <p:grpSp>
          <p:nvGrpSpPr>
            <p:cNvPr id="285" name=""/>
            <p:cNvGrpSpPr/>
            <p:nvPr/>
          </p:nvGrpSpPr>
          <p:grpSpPr>
            <a:xfrm>
              <a:off x="3242880" y="6248520"/>
              <a:ext cx="628920" cy="562320"/>
              <a:chOff x="3242880" y="6248520"/>
              <a:chExt cx="628920" cy="562320"/>
            </a:xfrm>
          </p:grpSpPr>
          <p:sp>
            <p:nvSpPr>
              <p:cNvPr id="286" name=""/>
              <p:cNvSpPr/>
              <p:nvPr/>
            </p:nvSpPr>
            <p:spPr>
              <a:xfrm>
                <a:off x="334080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1916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9468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9244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1820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5044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4288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52404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2468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38976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280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3872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3160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5068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400000">
                <a:off x="358668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>
              <a:hlinkClick r:id="" action="ppaction://hlinkshowjump?jump=firstslide"/>
            </p:cNvPr>
            <p:cNvSpPr/>
            <p:nvPr/>
          </p:nvSpPr>
          <p:spPr>
            <a:xfrm>
              <a:off x="320040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304812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924680" y="6318360"/>
            <a:ext cx="914400" cy="533160"/>
            <a:chOff x="7924680" y="6318360"/>
            <a:chExt cx="914400" cy="533160"/>
          </a:xfrm>
        </p:grpSpPr>
        <p:grpSp>
          <p:nvGrpSpPr>
            <p:cNvPr id="304" name=""/>
            <p:cNvGrpSpPr/>
            <p:nvPr/>
          </p:nvGrpSpPr>
          <p:grpSpPr>
            <a:xfrm>
              <a:off x="7924680" y="6384600"/>
              <a:ext cx="846720" cy="333360"/>
              <a:chOff x="7924680" y="6384600"/>
              <a:chExt cx="846720" cy="333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7924680" y="6384600"/>
                <a:ext cx="846720" cy="333360"/>
                <a:chOff x="7924680" y="6384600"/>
                <a:chExt cx="846720" cy="3333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8476920" y="640188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7924680" y="6384600"/>
                  <a:ext cx="693000" cy="333360"/>
                  <a:chOff x="7924680" y="6384600"/>
                  <a:chExt cx="693000" cy="33336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8404920" y="638460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334720" y="639324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8214480" y="639864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8151480" y="6442200"/>
                    <a:ext cx="19980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048880" y="646884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924680" y="650448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4" name=""/>
              <p:cNvSpPr/>
              <p:nvPr/>
            </p:nvSpPr>
            <p:spPr>
              <a:xfrm>
                <a:off x="8634600" y="648180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>
              <a:hlinkClick r:id="" action="ppaction://hlinkshowjump?jump=nextslide"/>
            </p:cNvPr>
            <p:cNvSpPr/>
            <p:nvPr/>
          </p:nvSpPr>
          <p:spPr>
            <a:xfrm>
              <a:off x="7924680" y="6318360"/>
              <a:ext cx="914400" cy="53316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37035" h="21600">
                  <a:moveTo>
                    <a:pt x="0" y="0"/>
                  </a:moveTo>
                  <a:lnTo>
                    <a:pt x="37035" y="0"/>
                  </a:lnTo>
                  <a:lnTo>
                    <a:pt x="37035" y="21600"/>
                  </a:lnTo>
                  <a:lnTo>
                    <a:pt x="0" y="21600"/>
                  </a:lnTo>
                  <a:close/>
                </a:path>
                <a:path fill="lightenLess" w="37035" h="21600">
                  <a:moveTo>
                    <a:pt x="0" y="0"/>
                  </a:moveTo>
                  <a:lnTo>
                    <a:pt x="37035" y="0"/>
                  </a:lnTo>
                  <a:lnTo>
                    <a:pt x="35635" y="1400"/>
                  </a:lnTo>
                  <a:lnTo>
                    <a:pt x="1400" y="1400"/>
                  </a:lnTo>
                  <a:close/>
                </a:path>
                <a:path fill="darken" w="37035" h="21600">
                  <a:moveTo>
                    <a:pt x="37035" y="0"/>
                  </a:moveTo>
                  <a:lnTo>
                    <a:pt x="37035" y="21600"/>
                  </a:lnTo>
                  <a:lnTo>
                    <a:pt x="35635" y="20200"/>
                  </a:lnTo>
                  <a:lnTo>
                    <a:pt x="35635" y="1400"/>
                  </a:lnTo>
                  <a:close/>
                </a:path>
                <a:path fill="darkenLess" w="37035" h="21600">
                  <a:moveTo>
                    <a:pt x="370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35" y="20200"/>
                  </a:lnTo>
                  <a:close/>
                </a:path>
                <a:path fill="lighten" w="370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784872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054320" y="2971800"/>
            <a:ext cx="1101960" cy="1473120"/>
            <a:chOff x="4054320" y="2971800"/>
            <a:chExt cx="1101960" cy="1473120"/>
          </a:xfrm>
        </p:grpSpPr>
        <p:sp>
          <p:nvSpPr>
            <p:cNvPr id="318" name=""/>
            <p:cNvSpPr/>
            <p:nvPr/>
          </p:nvSpPr>
          <p:spPr>
            <a:xfrm>
              <a:off x="4054320" y="3343320"/>
              <a:ext cx="392400" cy="1101600"/>
            </a:xfrm>
            <a:custGeom>
              <a:avLst/>
              <a:gdLst/>
              <a:ahLst/>
              <a:rect l="l" t="t" r="r" b="b"/>
              <a:pathLst>
                <a:path w="247" h="694">
                  <a:moveTo>
                    <a:pt x="212" y="694"/>
                  </a:moveTo>
                  <a:lnTo>
                    <a:pt x="210" y="687"/>
                  </a:lnTo>
                  <a:lnTo>
                    <a:pt x="207" y="678"/>
                  </a:lnTo>
                  <a:lnTo>
                    <a:pt x="203" y="667"/>
                  </a:lnTo>
                  <a:lnTo>
                    <a:pt x="199" y="656"/>
                  </a:lnTo>
                  <a:lnTo>
                    <a:pt x="194" y="646"/>
                  </a:lnTo>
                  <a:lnTo>
                    <a:pt x="189" y="637"/>
                  </a:lnTo>
                  <a:lnTo>
                    <a:pt x="183" y="629"/>
                  </a:lnTo>
                  <a:lnTo>
                    <a:pt x="177" y="624"/>
                  </a:lnTo>
                  <a:lnTo>
                    <a:pt x="165" y="619"/>
                  </a:lnTo>
                  <a:lnTo>
                    <a:pt x="150" y="614"/>
                  </a:lnTo>
                  <a:lnTo>
                    <a:pt x="134" y="610"/>
                  </a:lnTo>
                  <a:lnTo>
                    <a:pt x="119" y="606"/>
                  </a:lnTo>
                  <a:lnTo>
                    <a:pt x="104" y="604"/>
                  </a:lnTo>
                  <a:lnTo>
                    <a:pt x="93" y="602"/>
                  </a:lnTo>
                  <a:lnTo>
                    <a:pt x="88" y="601"/>
                  </a:lnTo>
                  <a:lnTo>
                    <a:pt x="85" y="600"/>
                  </a:lnTo>
                  <a:lnTo>
                    <a:pt x="83" y="600"/>
                  </a:lnTo>
                  <a:lnTo>
                    <a:pt x="82" y="600"/>
                  </a:lnTo>
                  <a:lnTo>
                    <a:pt x="59" y="565"/>
                  </a:lnTo>
                  <a:lnTo>
                    <a:pt x="35" y="529"/>
                  </a:lnTo>
                  <a:lnTo>
                    <a:pt x="32" y="524"/>
                  </a:lnTo>
                  <a:lnTo>
                    <a:pt x="28" y="519"/>
                  </a:lnTo>
                  <a:lnTo>
                    <a:pt x="21" y="507"/>
                  </a:lnTo>
                  <a:lnTo>
                    <a:pt x="17" y="502"/>
                  </a:lnTo>
                  <a:lnTo>
                    <a:pt x="15" y="498"/>
                  </a:lnTo>
                  <a:lnTo>
                    <a:pt x="13" y="495"/>
                  </a:lnTo>
                  <a:lnTo>
                    <a:pt x="12" y="494"/>
                  </a:lnTo>
                  <a:lnTo>
                    <a:pt x="9" y="481"/>
                  </a:lnTo>
                  <a:lnTo>
                    <a:pt x="6" y="470"/>
                  </a:lnTo>
                  <a:lnTo>
                    <a:pt x="3" y="461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0" y="444"/>
                  </a:lnTo>
                  <a:lnTo>
                    <a:pt x="0" y="436"/>
                  </a:lnTo>
                  <a:lnTo>
                    <a:pt x="0" y="432"/>
                  </a:lnTo>
                  <a:lnTo>
                    <a:pt x="1" y="427"/>
                  </a:lnTo>
                  <a:lnTo>
                    <a:pt x="2" y="420"/>
                  </a:lnTo>
                  <a:lnTo>
                    <a:pt x="4" y="412"/>
                  </a:lnTo>
                  <a:lnTo>
                    <a:pt x="5" y="402"/>
                  </a:lnTo>
                  <a:lnTo>
                    <a:pt x="7" y="389"/>
                  </a:lnTo>
                  <a:lnTo>
                    <a:pt x="10" y="373"/>
                  </a:lnTo>
                  <a:lnTo>
                    <a:pt x="12" y="353"/>
                  </a:lnTo>
                  <a:lnTo>
                    <a:pt x="14" y="337"/>
                  </a:lnTo>
                  <a:lnTo>
                    <a:pt x="15" y="321"/>
                  </a:lnTo>
                  <a:lnTo>
                    <a:pt x="17" y="307"/>
                  </a:lnTo>
                  <a:lnTo>
                    <a:pt x="18" y="294"/>
                  </a:lnTo>
                  <a:lnTo>
                    <a:pt x="20" y="269"/>
                  </a:lnTo>
                  <a:lnTo>
                    <a:pt x="24" y="246"/>
                  </a:lnTo>
                  <a:lnTo>
                    <a:pt x="29" y="224"/>
                  </a:lnTo>
                  <a:lnTo>
                    <a:pt x="36" y="202"/>
                  </a:lnTo>
                  <a:lnTo>
                    <a:pt x="46" y="179"/>
                  </a:lnTo>
                  <a:lnTo>
                    <a:pt x="52" y="166"/>
                  </a:lnTo>
                  <a:lnTo>
                    <a:pt x="59" y="153"/>
                  </a:lnTo>
                  <a:lnTo>
                    <a:pt x="64" y="141"/>
                  </a:lnTo>
                  <a:lnTo>
                    <a:pt x="69" y="128"/>
                  </a:lnTo>
                  <a:lnTo>
                    <a:pt x="74" y="116"/>
                  </a:lnTo>
                  <a:lnTo>
                    <a:pt x="77" y="111"/>
                  </a:lnTo>
                  <a:lnTo>
                    <a:pt x="82" y="106"/>
                  </a:lnTo>
                  <a:lnTo>
                    <a:pt x="95" y="97"/>
                  </a:lnTo>
                  <a:lnTo>
                    <a:pt x="109" y="90"/>
                  </a:lnTo>
                  <a:lnTo>
                    <a:pt x="124" y="85"/>
                  </a:lnTo>
                  <a:lnTo>
                    <a:pt x="140" y="80"/>
                  </a:lnTo>
                  <a:lnTo>
                    <a:pt x="170" y="71"/>
                  </a:lnTo>
                  <a:lnTo>
                    <a:pt x="185" y="65"/>
                  </a:lnTo>
                  <a:lnTo>
                    <a:pt x="200" y="59"/>
                  </a:lnTo>
                  <a:lnTo>
                    <a:pt x="205" y="51"/>
                  </a:lnTo>
                  <a:lnTo>
                    <a:pt x="209" y="45"/>
                  </a:lnTo>
                  <a:lnTo>
                    <a:pt x="213" y="40"/>
                  </a:lnTo>
                  <a:lnTo>
                    <a:pt x="215" y="36"/>
                  </a:lnTo>
                  <a:lnTo>
                    <a:pt x="219" y="30"/>
                  </a:lnTo>
                  <a:lnTo>
                    <a:pt x="222" y="26"/>
                  </a:lnTo>
                  <a:lnTo>
                    <a:pt x="226" y="22"/>
                  </a:lnTo>
                  <a:lnTo>
                    <a:pt x="230" y="17"/>
                  </a:lnTo>
                  <a:lnTo>
                    <a:pt x="237" y="11"/>
                  </a:lnTo>
                  <a:lnTo>
                    <a:pt x="241" y="6"/>
                  </a:lnTo>
                  <a:lnTo>
                    <a:pt x="247" y="0"/>
                  </a:lnTo>
                </a:path>
              </a:pathLst>
            </a:custGeom>
            <a:noFill/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216320" y="2971800"/>
              <a:ext cx="939960" cy="1436760"/>
              <a:chOff x="4216320" y="2971800"/>
              <a:chExt cx="939960" cy="1436760"/>
            </a:xfrm>
          </p:grpSpPr>
          <p:sp>
            <p:nvSpPr>
              <p:cNvPr id="320" name=""/>
              <p:cNvSpPr/>
              <p:nvPr/>
            </p:nvSpPr>
            <p:spPr>
              <a:xfrm>
                <a:off x="4419720" y="3200400"/>
                <a:ext cx="306360" cy="15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19720" y="2971800"/>
                <a:ext cx="30636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21240" y="3284640"/>
                <a:ext cx="30636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16320" y="3056040"/>
                <a:ext cx="23040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218120" y="3282840"/>
                <a:ext cx="301320" cy="231840"/>
              </a:xfrm>
              <a:custGeom>
                <a:avLst/>
                <a:gdLst/>
                <a:ahLst/>
                <a:rect l="l" t="t" r="r" b="b"/>
                <a:pathLst>
                  <a:path w="190" h="146">
                    <a:moveTo>
                      <a:pt x="189" y="52"/>
                    </a:moveTo>
                    <a:lnTo>
                      <a:pt x="184" y="38"/>
                    </a:lnTo>
                    <a:lnTo>
                      <a:pt x="175" y="26"/>
                    </a:lnTo>
                    <a:lnTo>
                      <a:pt x="164" y="16"/>
                    </a:lnTo>
                    <a:lnTo>
                      <a:pt x="150" y="8"/>
                    </a:lnTo>
                    <a:lnTo>
                      <a:pt x="134" y="3"/>
                    </a:lnTo>
                    <a:lnTo>
                      <a:pt x="117" y="0"/>
                    </a:lnTo>
                    <a:lnTo>
                      <a:pt x="98" y="0"/>
                    </a:lnTo>
                    <a:lnTo>
                      <a:pt x="79" y="3"/>
                    </a:lnTo>
                    <a:lnTo>
                      <a:pt x="61" y="9"/>
                    </a:lnTo>
                    <a:lnTo>
                      <a:pt x="44" y="16"/>
                    </a:lnTo>
                    <a:lnTo>
                      <a:pt x="30" y="26"/>
                    </a:lnTo>
                    <a:lnTo>
                      <a:pt x="18" y="38"/>
                    </a:lnTo>
                    <a:lnTo>
                      <a:pt x="9" y="51"/>
                    </a:lnTo>
                    <a:lnTo>
                      <a:pt x="3" y="65"/>
                    </a:lnTo>
                    <a:lnTo>
                      <a:pt x="0" y="79"/>
                    </a:lnTo>
                    <a:lnTo>
                      <a:pt x="0" y="87"/>
                    </a:lnTo>
                    <a:lnTo>
                      <a:pt x="1" y="94"/>
                    </a:lnTo>
                    <a:lnTo>
                      <a:pt x="6" y="108"/>
                    </a:lnTo>
                    <a:lnTo>
                      <a:pt x="15" y="120"/>
                    </a:lnTo>
                    <a:lnTo>
                      <a:pt x="26" y="130"/>
                    </a:lnTo>
                    <a:lnTo>
                      <a:pt x="40" y="138"/>
                    </a:lnTo>
                    <a:lnTo>
                      <a:pt x="56" y="143"/>
                    </a:lnTo>
                    <a:lnTo>
                      <a:pt x="73" y="146"/>
                    </a:lnTo>
                    <a:lnTo>
                      <a:pt x="92" y="146"/>
                    </a:lnTo>
                    <a:lnTo>
                      <a:pt x="111" y="143"/>
                    </a:lnTo>
                    <a:lnTo>
                      <a:pt x="129" y="138"/>
                    </a:lnTo>
                    <a:lnTo>
                      <a:pt x="146" y="130"/>
                    </a:lnTo>
                    <a:lnTo>
                      <a:pt x="160" y="120"/>
                    </a:lnTo>
                    <a:lnTo>
                      <a:pt x="172" y="108"/>
                    </a:lnTo>
                    <a:lnTo>
                      <a:pt x="181" y="95"/>
                    </a:lnTo>
                    <a:lnTo>
                      <a:pt x="187" y="81"/>
                    </a:lnTo>
                    <a:lnTo>
                      <a:pt x="190" y="67"/>
                    </a:lnTo>
                    <a:lnTo>
                      <a:pt x="190" y="59"/>
                    </a:lnTo>
                    <a:lnTo>
                      <a:pt x="189" y="52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673520" y="3132000"/>
                <a:ext cx="230400" cy="154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90920" y="3699000"/>
                <a:ext cx="765360" cy="709560"/>
              </a:xfrm>
              <a:custGeom>
                <a:avLst/>
                <a:gdLst/>
                <a:ahLst/>
                <a:rect l="l" t="t" r="r" b="b"/>
                <a:pathLst>
                  <a:path w="482" h="447">
                    <a:moveTo>
                      <a:pt x="0" y="447"/>
                    </a:moveTo>
                    <a:lnTo>
                      <a:pt x="4" y="409"/>
                    </a:lnTo>
                    <a:lnTo>
                      <a:pt x="8" y="370"/>
                    </a:lnTo>
                    <a:lnTo>
                      <a:pt x="14" y="332"/>
                    </a:lnTo>
                    <a:lnTo>
                      <a:pt x="19" y="313"/>
                    </a:lnTo>
                    <a:lnTo>
                      <a:pt x="24" y="296"/>
                    </a:lnTo>
                    <a:lnTo>
                      <a:pt x="31" y="279"/>
                    </a:lnTo>
                    <a:lnTo>
                      <a:pt x="39" y="263"/>
                    </a:lnTo>
                    <a:lnTo>
                      <a:pt x="49" y="249"/>
                    </a:lnTo>
                    <a:lnTo>
                      <a:pt x="61" y="236"/>
                    </a:lnTo>
                    <a:lnTo>
                      <a:pt x="75" y="224"/>
                    </a:lnTo>
                    <a:lnTo>
                      <a:pt x="90" y="214"/>
                    </a:lnTo>
                    <a:lnTo>
                      <a:pt x="108" y="206"/>
                    </a:lnTo>
                    <a:lnTo>
                      <a:pt x="129" y="200"/>
                    </a:lnTo>
                    <a:lnTo>
                      <a:pt x="134" y="192"/>
                    </a:lnTo>
                    <a:lnTo>
                      <a:pt x="139" y="185"/>
                    </a:lnTo>
                    <a:lnTo>
                      <a:pt x="142" y="180"/>
                    </a:lnTo>
                    <a:lnTo>
                      <a:pt x="146" y="175"/>
                    </a:lnTo>
                    <a:lnTo>
                      <a:pt x="150" y="167"/>
                    </a:lnTo>
                    <a:lnTo>
                      <a:pt x="153" y="163"/>
                    </a:lnTo>
                    <a:lnTo>
                      <a:pt x="154" y="161"/>
                    </a:lnTo>
                    <a:lnTo>
                      <a:pt x="154" y="161"/>
                    </a:lnTo>
                    <a:lnTo>
                      <a:pt x="153" y="163"/>
                    </a:lnTo>
                    <a:lnTo>
                      <a:pt x="153" y="165"/>
                    </a:lnTo>
                    <a:lnTo>
                      <a:pt x="152" y="168"/>
                    </a:lnTo>
                    <a:lnTo>
                      <a:pt x="153" y="170"/>
                    </a:lnTo>
                    <a:lnTo>
                      <a:pt x="155" y="172"/>
                    </a:lnTo>
                    <a:lnTo>
                      <a:pt x="159" y="173"/>
                    </a:lnTo>
                    <a:lnTo>
                      <a:pt x="164" y="171"/>
                    </a:lnTo>
                    <a:lnTo>
                      <a:pt x="173" y="168"/>
                    </a:lnTo>
                    <a:lnTo>
                      <a:pt x="185" y="162"/>
                    </a:lnTo>
                    <a:lnTo>
                      <a:pt x="192" y="157"/>
                    </a:lnTo>
                    <a:lnTo>
                      <a:pt x="200" y="152"/>
                    </a:lnTo>
                    <a:lnTo>
                      <a:pt x="204" y="149"/>
                    </a:lnTo>
                    <a:lnTo>
                      <a:pt x="207" y="144"/>
                    </a:lnTo>
                    <a:lnTo>
                      <a:pt x="212" y="135"/>
                    </a:lnTo>
                    <a:lnTo>
                      <a:pt x="216" y="125"/>
                    </a:lnTo>
                    <a:lnTo>
                      <a:pt x="219" y="121"/>
                    </a:lnTo>
                    <a:lnTo>
                      <a:pt x="223" y="117"/>
                    </a:lnTo>
                    <a:lnTo>
                      <a:pt x="234" y="110"/>
                    </a:lnTo>
                    <a:lnTo>
                      <a:pt x="245" y="104"/>
                    </a:lnTo>
                    <a:lnTo>
                      <a:pt x="258" y="99"/>
                    </a:lnTo>
                    <a:lnTo>
                      <a:pt x="270" y="94"/>
                    </a:lnTo>
                    <a:lnTo>
                      <a:pt x="283" y="77"/>
                    </a:lnTo>
                    <a:lnTo>
                      <a:pt x="298" y="61"/>
                    </a:lnTo>
                    <a:lnTo>
                      <a:pt x="315" y="48"/>
                    </a:lnTo>
                    <a:lnTo>
                      <a:pt x="332" y="35"/>
                    </a:lnTo>
                    <a:lnTo>
                      <a:pt x="351" y="25"/>
                    </a:lnTo>
                    <a:lnTo>
                      <a:pt x="371" y="15"/>
                    </a:lnTo>
                    <a:lnTo>
                      <a:pt x="391" y="7"/>
                    </a:lnTo>
                    <a:lnTo>
                      <a:pt x="412" y="0"/>
                    </a:lnTo>
                    <a:lnTo>
                      <a:pt x="424" y="3"/>
                    </a:lnTo>
                    <a:lnTo>
                      <a:pt x="434" y="6"/>
                    </a:lnTo>
                    <a:lnTo>
                      <a:pt x="443" y="8"/>
                    </a:lnTo>
                    <a:lnTo>
                      <a:pt x="449" y="11"/>
                    </a:lnTo>
                    <a:lnTo>
                      <a:pt x="455" y="13"/>
                    </a:lnTo>
                    <a:lnTo>
                      <a:pt x="459" y="16"/>
                    </a:lnTo>
                    <a:lnTo>
                      <a:pt x="465" y="23"/>
                    </a:lnTo>
                    <a:lnTo>
                      <a:pt x="469" y="33"/>
                    </a:lnTo>
                    <a:lnTo>
                      <a:pt x="472" y="45"/>
                    </a:lnTo>
                    <a:lnTo>
                      <a:pt x="473" y="52"/>
                    </a:lnTo>
                    <a:lnTo>
                      <a:pt x="476" y="61"/>
                    </a:lnTo>
                    <a:lnTo>
                      <a:pt x="478" y="71"/>
                    </a:lnTo>
                    <a:lnTo>
                      <a:pt x="482" y="82"/>
                    </a:lnTo>
                    <a:lnTo>
                      <a:pt x="480" y="106"/>
                    </a:lnTo>
                    <a:lnTo>
                      <a:pt x="479" y="130"/>
                    </a:lnTo>
                    <a:lnTo>
                      <a:pt x="476" y="153"/>
                    </a:lnTo>
                    <a:lnTo>
                      <a:pt x="474" y="165"/>
                    </a:lnTo>
                    <a:lnTo>
                      <a:pt x="470" y="176"/>
                    </a:lnTo>
                    <a:lnTo>
                      <a:pt x="468" y="180"/>
                    </a:lnTo>
                    <a:lnTo>
                      <a:pt x="464" y="184"/>
                    </a:lnTo>
                    <a:lnTo>
                      <a:pt x="454" y="189"/>
                    </a:lnTo>
                    <a:lnTo>
                      <a:pt x="444" y="194"/>
                    </a:lnTo>
                    <a:lnTo>
                      <a:pt x="435" y="200"/>
                    </a:lnTo>
                    <a:lnTo>
                      <a:pt x="425" y="211"/>
                    </a:lnTo>
                    <a:lnTo>
                      <a:pt x="418" y="219"/>
                    </a:lnTo>
                    <a:lnTo>
                      <a:pt x="414" y="225"/>
                    </a:lnTo>
                    <a:lnTo>
                      <a:pt x="412" y="230"/>
                    </a:lnTo>
                    <a:lnTo>
                      <a:pt x="412" y="233"/>
                    </a:lnTo>
                    <a:lnTo>
                      <a:pt x="412" y="235"/>
                    </a:lnTo>
                    <a:lnTo>
                      <a:pt x="414" y="237"/>
                    </a:lnTo>
                    <a:lnTo>
                      <a:pt x="414" y="237"/>
                    </a:lnTo>
                    <a:lnTo>
                      <a:pt x="412" y="238"/>
                    </a:lnTo>
                    <a:lnTo>
                      <a:pt x="409" y="238"/>
                    </a:lnTo>
                    <a:lnTo>
                      <a:pt x="403" y="240"/>
                    </a:lnTo>
                    <a:lnTo>
                      <a:pt x="393" y="242"/>
                    </a:lnTo>
                    <a:lnTo>
                      <a:pt x="387" y="244"/>
                    </a:lnTo>
                    <a:lnTo>
                      <a:pt x="380" y="246"/>
                    </a:lnTo>
                    <a:lnTo>
                      <a:pt x="372" y="248"/>
                    </a:lnTo>
                    <a:lnTo>
                      <a:pt x="363" y="251"/>
                    </a:lnTo>
                    <a:lnTo>
                      <a:pt x="353" y="254"/>
                    </a:lnTo>
                    <a:lnTo>
                      <a:pt x="341" y="258"/>
                    </a:lnTo>
                    <a:lnTo>
                      <a:pt x="306" y="268"/>
                    </a:lnTo>
                    <a:lnTo>
                      <a:pt x="271" y="277"/>
                    </a:lnTo>
                    <a:lnTo>
                      <a:pt x="235" y="285"/>
                    </a:lnTo>
                    <a:lnTo>
                      <a:pt x="200" y="294"/>
                    </a:lnTo>
                    <a:lnTo>
                      <a:pt x="193" y="296"/>
                    </a:lnTo>
                    <a:lnTo>
                      <a:pt x="186" y="297"/>
                    </a:lnTo>
                    <a:lnTo>
                      <a:pt x="171" y="301"/>
                    </a:lnTo>
                    <a:lnTo>
                      <a:pt x="164" y="303"/>
                    </a:lnTo>
                    <a:lnTo>
                      <a:pt x="158" y="304"/>
                    </a:lnTo>
                    <a:lnTo>
                      <a:pt x="154" y="305"/>
                    </a:lnTo>
                    <a:lnTo>
                      <a:pt x="153" y="305"/>
                    </a:lnTo>
                    <a:lnTo>
                      <a:pt x="135" y="314"/>
                    </a:lnTo>
                    <a:lnTo>
                      <a:pt x="119" y="322"/>
                    </a:lnTo>
                    <a:lnTo>
                      <a:pt x="105" y="329"/>
                    </a:lnTo>
                    <a:lnTo>
                      <a:pt x="93" y="335"/>
                    </a:lnTo>
                    <a:lnTo>
                      <a:pt x="82" y="340"/>
                    </a:lnTo>
                    <a:lnTo>
                      <a:pt x="73" y="346"/>
                    </a:lnTo>
                    <a:lnTo>
                      <a:pt x="65" y="352"/>
                    </a:lnTo>
                    <a:lnTo>
                      <a:pt x="57" y="358"/>
                    </a:lnTo>
                    <a:lnTo>
                      <a:pt x="50" y="364"/>
                    </a:lnTo>
                    <a:lnTo>
                      <a:pt x="44" y="372"/>
                    </a:lnTo>
                    <a:lnTo>
                      <a:pt x="37" y="380"/>
                    </a:lnTo>
                    <a:lnTo>
                      <a:pt x="31" y="390"/>
                    </a:lnTo>
                    <a:lnTo>
                      <a:pt x="24" y="401"/>
                    </a:lnTo>
                    <a:lnTo>
                      <a:pt x="17" y="414"/>
                    </a:lnTo>
                    <a:lnTo>
                      <a:pt x="9" y="430"/>
                    </a:lnTo>
                    <a:lnTo>
                      <a:pt x="0" y="447"/>
                    </a:lnTo>
                    <a:close/>
                  </a:path>
                </a:pathLst>
              </a:custGeom>
              <a:solidFill>
                <a:srgbClr val="0066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2133720" y="51814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l bruco ammirava la farf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firstslide"/>
          </p:cNvPr>
          <p:cNvSpPr/>
          <p:nvPr/>
        </p:nvSpPr>
        <p:spPr>
          <a:xfrm>
            <a:off x="3124080" y="617220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10080" y="6095880"/>
            <a:ext cx="76212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11"/>
          </p:cNvPr>
          <p:cNvSpPr/>
          <p:nvPr/>
        </p:nvSpPr>
        <p:spPr>
          <a:xfrm>
            <a:off x="54100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-4680" y="3809880"/>
            <a:ext cx="7581960" cy="1295640"/>
          </a:xfrm>
          <a:custGeom>
            <a:avLst/>
            <a:gdLst/>
            <a:ahLst/>
            <a:rect l="l" t="t" r="r" b="b"/>
            <a:pathLst>
              <a:path w="4776" h="410">
                <a:moveTo>
                  <a:pt x="0" y="410"/>
                </a:moveTo>
                <a:cubicBezTo>
                  <a:pt x="75" y="391"/>
                  <a:pt x="114" y="382"/>
                  <a:pt x="176" y="339"/>
                </a:cubicBezTo>
                <a:cubicBezTo>
                  <a:pt x="180" y="327"/>
                  <a:pt x="183" y="315"/>
                  <a:pt x="188" y="304"/>
                </a:cubicBezTo>
                <a:cubicBezTo>
                  <a:pt x="194" y="291"/>
                  <a:pt x="206" y="281"/>
                  <a:pt x="211" y="268"/>
                </a:cubicBezTo>
                <a:cubicBezTo>
                  <a:pt x="236" y="200"/>
                  <a:pt x="255" y="102"/>
                  <a:pt x="270" y="33"/>
                </a:cubicBezTo>
                <a:cubicBezTo>
                  <a:pt x="298" y="197"/>
                  <a:pt x="270" y="0"/>
                  <a:pt x="270" y="292"/>
                </a:cubicBezTo>
                <a:cubicBezTo>
                  <a:pt x="270" y="304"/>
                  <a:pt x="279" y="269"/>
                  <a:pt x="282" y="257"/>
                </a:cubicBezTo>
                <a:cubicBezTo>
                  <a:pt x="302" y="185"/>
                  <a:pt x="299" y="181"/>
                  <a:pt x="317" y="127"/>
                </a:cubicBezTo>
                <a:cubicBezTo>
                  <a:pt x="325" y="104"/>
                  <a:pt x="341" y="57"/>
                  <a:pt x="341" y="57"/>
                </a:cubicBezTo>
                <a:cubicBezTo>
                  <a:pt x="349" y="88"/>
                  <a:pt x="367" y="119"/>
                  <a:pt x="364" y="151"/>
                </a:cubicBezTo>
                <a:cubicBezTo>
                  <a:pt x="360" y="198"/>
                  <a:pt x="344" y="246"/>
                  <a:pt x="353" y="292"/>
                </a:cubicBezTo>
                <a:cubicBezTo>
                  <a:pt x="355" y="304"/>
                  <a:pt x="376" y="284"/>
                  <a:pt x="388" y="280"/>
                </a:cubicBezTo>
                <a:cubicBezTo>
                  <a:pt x="392" y="264"/>
                  <a:pt x="391" y="246"/>
                  <a:pt x="400" y="233"/>
                </a:cubicBezTo>
                <a:cubicBezTo>
                  <a:pt x="457" y="148"/>
                  <a:pt x="420" y="273"/>
                  <a:pt x="447" y="174"/>
                </a:cubicBezTo>
                <a:cubicBezTo>
                  <a:pt x="455" y="143"/>
                  <a:pt x="470" y="80"/>
                  <a:pt x="470" y="80"/>
                </a:cubicBezTo>
                <a:cubicBezTo>
                  <a:pt x="466" y="123"/>
                  <a:pt x="464" y="167"/>
                  <a:pt x="459" y="210"/>
                </a:cubicBezTo>
                <a:cubicBezTo>
                  <a:pt x="456" y="234"/>
                  <a:pt x="438" y="258"/>
                  <a:pt x="447" y="280"/>
                </a:cubicBezTo>
                <a:cubicBezTo>
                  <a:pt x="453" y="295"/>
                  <a:pt x="478" y="288"/>
                  <a:pt x="494" y="292"/>
                </a:cubicBezTo>
                <a:cubicBezTo>
                  <a:pt x="541" y="288"/>
                  <a:pt x="588" y="286"/>
                  <a:pt x="635" y="280"/>
                </a:cubicBezTo>
                <a:cubicBezTo>
                  <a:pt x="651" y="278"/>
                  <a:pt x="666" y="268"/>
                  <a:pt x="682" y="268"/>
                </a:cubicBezTo>
                <a:cubicBezTo>
                  <a:pt x="741" y="268"/>
                  <a:pt x="799" y="285"/>
                  <a:pt x="858" y="292"/>
                </a:cubicBezTo>
                <a:cubicBezTo>
                  <a:pt x="933" y="288"/>
                  <a:pt x="1007" y="284"/>
                  <a:pt x="1082" y="280"/>
                </a:cubicBezTo>
                <a:cubicBezTo>
                  <a:pt x="1278" y="268"/>
                  <a:pt x="1310" y="293"/>
                  <a:pt x="1211" y="245"/>
                </a:cubicBezTo>
                <a:cubicBezTo>
                  <a:pt x="1168" y="179"/>
                  <a:pt x="1101" y="194"/>
                  <a:pt x="1023" y="186"/>
                </a:cubicBezTo>
                <a:cubicBezTo>
                  <a:pt x="1083" y="166"/>
                  <a:pt x="1096" y="163"/>
                  <a:pt x="1164" y="174"/>
                </a:cubicBezTo>
                <a:cubicBezTo>
                  <a:pt x="1248" y="202"/>
                  <a:pt x="1221" y="177"/>
                  <a:pt x="1258" y="233"/>
                </a:cubicBezTo>
                <a:cubicBezTo>
                  <a:pt x="1262" y="182"/>
                  <a:pt x="1255" y="129"/>
                  <a:pt x="1270" y="80"/>
                </a:cubicBezTo>
                <a:cubicBezTo>
                  <a:pt x="1274" y="66"/>
                  <a:pt x="1291" y="101"/>
                  <a:pt x="1294" y="115"/>
                </a:cubicBezTo>
                <a:cubicBezTo>
                  <a:pt x="1303" y="154"/>
                  <a:pt x="1301" y="194"/>
                  <a:pt x="1305" y="233"/>
                </a:cubicBezTo>
                <a:cubicBezTo>
                  <a:pt x="1385" y="182"/>
                  <a:pt x="1423" y="201"/>
                  <a:pt x="1529" y="210"/>
                </a:cubicBezTo>
                <a:cubicBezTo>
                  <a:pt x="1517" y="214"/>
                  <a:pt x="1506" y="219"/>
                  <a:pt x="1494" y="221"/>
                </a:cubicBezTo>
                <a:cubicBezTo>
                  <a:pt x="1467" y="226"/>
                  <a:pt x="1438" y="227"/>
                  <a:pt x="1411" y="233"/>
                </a:cubicBezTo>
                <a:cubicBezTo>
                  <a:pt x="1387" y="239"/>
                  <a:pt x="1341" y="257"/>
                  <a:pt x="1341" y="257"/>
                </a:cubicBezTo>
                <a:cubicBezTo>
                  <a:pt x="1333" y="269"/>
                  <a:pt x="1305" y="284"/>
                  <a:pt x="1317" y="292"/>
                </a:cubicBezTo>
                <a:cubicBezTo>
                  <a:pt x="1345" y="310"/>
                  <a:pt x="1400" y="259"/>
                  <a:pt x="1423" y="257"/>
                </a:cubicBezTo>
                <a:cubicBezTo>
                  <a:pt x="1521" y="247"/>
                  <a:pt x="1619" y="249"/>
                  <a:pt x="1717" y="245"/>
                </a:cubicBezTo>
                <a:cubicBezTo>
                  <a:pt x="1842" y="213"/>
                  <a:pt x="1686" y="245"/>
                  <a:pt x="1811" y="245"/>
                </a:cubicBezTo>
                <a:cubicBezTo>
                  <a:pt x="1933" y="245"/>
                  <a:pt x="2054" y="237"/>
                  <a:pt x="2176" y="233"/>
                </a:cubicBezTo>
                <a:cubicBezTo>
                  <a:pt x="2244" y="247"/>
                  <a:pt x="2310" y="257"/>
                  <a:pt x="2376" y="280"/>
                </a:cubicBezTo>
                <a:cubicBezTo>
                  <a:pt x="2394" y="229"/>
                  <a:pt x="2385" y="216"/>
                  <a:pt x="2341" y="186"/>
                </a:cubicBezTo>
                <a:cubicBezTo>
                  <a:pt x="2333" y="174"/>
                  <a:pt x="2305" y="159"/>
                  <a:pt x="2317" y="151"/>
                </a:cubicBezTo>
                <a:cubicBezTo>
                  <a:pt x="2325" y="146"/>
                  <a:pt x="2395" y="169"/>
                  <a:pt x="2411" y="174"/>
                </a:cubicBezTo>
                <a:cubicBezTo>
                  <a:pt x="2419" y="190"/>
                  <a:pt x="2424" y="207"/>
                  <a:pt x="2435" y="221"/>
                </a:cubicBezTo>
                <a:cubicBezTo>
                  <a:pt x="2444" y="232"/>
                  <a:pt x="2462" y="257"/>
                  <a:pt x="2470" y="245"/>
                </a:cubicBezTo>
                <a:cubicBezTo>
                  <a:pt x="2488" y="219"/>
                  <a:pt x="2478" y="182"/>
                  <a:pt x="2482" y="151"/>
                </a:cubicBezTo>
                <a:cubicBezTo>
                  <a:pt x="2483" y="155"/>
                  <a:pt x="2498" y="233"/>
                  <a:pt x="2517" y="233"/>
                </a:cubicBezTo>
                <a:cubicBezTo>
                  <a:pt x="2529" y="233"/>
                  <a:pt x="2525" y="210"/>
                  <a:pt x="2529" y="198"/>
                </a:cubicBezTo>
                <a:cubicBezTo>
                  <a:pt x="2557" y="212"/>
                  <a:pt x="2581" y="237"/>
                  <a:pt x="2611" y="245"/>
                </a:cubicBezTo>
                <a:cubicBezTo>
                  <a:pt x="2694" y="267"/>
                  <a:pt x="2795" y="277"/>
                  <a:pt x="2882" y="292"/>
                </a:cubicBezTo>
                <a:cubicBezTo>
                  <a:pt x="3029" y="254"/>
                  <a:pt x="3183" y="281"/>
                  <a:pt x="3329" y="315"/>
                </a:cubicBezTo>
                <a:cubicBezTo>
                  <a:pt x="3341" y="311"/>
                  <a:pt x="3362" y="316"/>
                  <a:pt x="3364" y="304"/>
                </a:cubicBezTo>
                <a:cubicBezTo>
                  <a:pt x="3373" y="234"/>
                  <a:pt x="3345" y="235"/>
                  <a:pt x="3305" y="221"/>
                </a:cubicBezTo>
                <a:cubicBezTo>
                  <a:pt x="3301" y="209"/>
                  <a:pt x="3301" y="196"/>
                  <a:pt x="3293" y="186"/>
                </a:cubicBezTo>
                <a:cubicBezTo>
                  <a:pt x="3256" y="140"/>
                  <a:pt x="3240" y="190"/>
                  <a:pt x="3282" y="127"/>
                </a:cubicBezTo>
                <a:cubicBezTo>
                  <a:pt x="3368" y="157"/>
                  <a:pt x="3330" y="140"/>
                  <a:pt x="3399" y="174"/>
                </a:cubicBezTo>
                <a:cubicBezTo>
                  <a:pt x="3403" y="190"/>
                  <a:pt x="3407" y="205"/>
                  <a:pt x="3411" y="221"/>
                </a:cubicBezTo>
                <a:cubicBezTo>
                  <a:pt x="3415" y="241"/>
                  <a:pt x="3404" y="286"/>
                  <a:pt x="3423" y="280"/>
                </a:cubicBezTo>
                <a:cubicBezTo>
                  <a:pt x="3446" y="273"/>
                  <a:pt x="3424" y="221"/>
                  <a:pt x="3446" y="210"/>
                </a:cubicBezTo>
                <a:cubicBezTo>
                  <a:pt x="3462" y="202"/>
                  <a:pt x="3477" y="194"/>
                  <a:pt x="3493" y="186"/>
                </a:cubicBezTo>
                <a:cubicBezTo>
                  <a:pt x="3497" y="174"/>
                  <a:pt x="3493" y="151"/>
                  <a:pt x="3505" y="151"/>
                </a:cubicBezTo>
                <a:cubicBezTo>
                  <a:pt x="3517" y="151"/>
                  <a:pt x="3513" y="174"/>
                  <a:pt x="3517" y="186"/>
                </a:cubicBezTo>
                <a:cubicBezTo>
                  <a:pt x="3525" y="213"/>
                  <a:pt x="3532" y="241"/>
                  <a:pt x="3540" y="268"/>
                </a:cubicBezTo>
                <a:cubicBezTo>
                  <a:pt x="3572" y="261"/>
                  <a:pt x="3603" y="246"/>
                  <a:pt x="3635" y="268"/>
                </a:cubicBezTo>
                <a:cubicBezTo>
                  <a:pt x="3647" y="276"/>
                  <a:pt x="3644" y="301"/>
                  <a:pt x="3658" y="304"/>
                </a:cubicBezTo>
                <a:cubicBezTo>
                  <a:pt x="3727" y="318"/>
                  <a:pt x="3799" y="311"/>
                  <a:pt x="3870" y="315"/>
                </a:cubicBezTo>
                <a:cubicBezTo>
                  <a:pt x="3932" y="305"/>
                  <a:pt x="3964" y="289"/>
                  <a:pt x="4023" y="304"/>
                </a:cubicBezTo>
                <a:cubicBezTo>
                  <a:pt x="4103" y="292"/>
                  <a:pt x="4167" y="294"/>
                  <a:pt x="4246" y="315"/>
                </a:cubicBezTo>
                <a:cubicBezTo>
                  <a:pt x="4277" y="323"/>
                  <a:pt x="4340" y="339"/>
                  <a:pt x="4340" y="339"/>
                </a:cubicBezTo>
                <a:cubicBezTo>
                  <a:pt x="4492" y="324"/>
                  <a:pt x="4434" y="322"/>
                  <a:pt x="4599" y="339"/>
                </a:cubicBezTo>
                <a:cubicBezTo>
                  <a:pt x="4630" y="342"/>
                  <a:pt x="4662" y="346"/>
                  <a:pt x="4693" y="351"/>
                </a:cubicBezTo>
                <a:cubicBezTo>
                  <a:pt x="4709" y="354"/>
                  <a:pt x="4724" y="359"/>
                  <a:pt x="4740" y="363"/>
                </a:cubicBezTo>
                <a:cubicBezTo>
                  <a:pt x="4752" y="366"/>
                  <a:pt x="4776" y="374"/>
                  <a:pt x="4776" y="37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09600" y="3828960"/>
            <a:ext cx="1722600" cy="546120"/>
          </a:xfrm>
          <a:custGeom>
            <a:avLst/>
            <a:gdLst/>
            <a:ahLst/>
            <a:rect l="l" t="t" r="r" b="b"/>
            <a:pathLst>
              <a:path w="1085" h="344">
                <a:moveTo>
                  <a:pt x="0" y="259"/>
                </a:moveTo>
                <a:cubicBezTo>
                  <a:pt x="31" y="195"/>
                  <a:pt x="30" y="206"/>
                  <a:pt x="47" y="118"/>
                </a:cubicBezTo>
                <a:cubicBezTo>
                  <a:pt x="55" y="79"/>
                  <a:pt x="70" y="0"/>
                  <a:pt x="70" y="0"/>
                </a:cubicBezTo>
                <a:cubicBezTo>
                  <a:pt x="82" y="47"/>
                  <a:pt x="96" y="75"/>
                  <a:pt x="117" y="118"/>
                </a:cubicBezTo>
                <a:cubicBezTo>
                  <a:pt x="130" y="144"/>
                  <a:pt x="123" y="178"/>
                  <a:pt x="141" y="200"/>
                </a:cubicBezTo>
                <a:cubicBezTo>
                  <a:pt x="149" y="210"/>
                  <a:pt x="164" y="208"/>
                  <a:pt x="176" y="212"/>
                </a:cubicBezTo>
                <a:cubicBezTo>
                  <a:pt x="180" y="224"/>
                  <a:pt x="179" y="238"/>
                  <a:pt x="188" y="247"/>
                </a:cubicBezTo>
                <a:cubicBezTo>
                  <a:pt x="231" y="290"/>
                  <a:pt x="229" y="233"/>
                  <a:pt x="247" y="212"/>
                </a:cubicBezTo>
                <a:cubicBezTo>
                  <a:pt x="256" y="201"/>
                  <a:pt x="270" y="196"/>
                  <a:pt x="282" y="188"/>
                </a:cubicBezTo>
                <a:cubicBezTo>
                  <a:pt x="297" y="144"/>
                  <a:pt x="317" y="105"/>
                  <a:pt x="329" y="59"/>
                </a:cubicBezTo>
                <a:cubicBezTo>
                  <a:pt x="364" y="195"/>
                  <a:pt x="315" y="27"/>
                  <a:pt x="364" y="141"/>
                </a:cubicBezTo>
                <a:cubicBezTo>
                  <a:pt x="409" y="246"/>
                  <a:pt x="341" y="136"/>
                  <a:pt x="400" y="224"/>
                </a:cubicBezTo>
                <a:cubicBezTo>
                  <a:pt x="443" y="209"/>
                  <a:pt x="444" y="216"/>
                  <a:pt x="470" y="165"/>
                </a:cubicBezTo>
                <a:cubicBezTo>
                  <a:pt x="481" y="143"/>
                  <a:pt x="494" y="94"/>
                  <a:pt x="494" y="94"/>
                </a:cubicBezTo>
                <a:cubicBezTo>
                  <a:pt x="510" y="98"/>
                  <a:pt x="528" y="96"/>
                  <a:pt x="541" y="106"/>
                </a:cubicBezTo>
                <a:cubicBezTo>
                  <a:pt x="551" y="114"/>
                  <a:pt x="543" y="132"/>
                  <a:pt x="552" y="141"/>
                </a:cubicBezTo>
                <a:cubicBezTo>
                  <a:pt x="561" y="150"/>
                  <a:pt x="576" y="149"/>
                  <a:pt x="588" y="153"/>
                </a:cubicBezTo>
                <a:cubicBezTo>
                  <a:pt x="596" y="165"/>
                  <a:pt x="604" y="176"/>
                  <a:pt x="611" y="188"/>
                </a:cubicBezTo>
                <a:cubicBezTo>
                  <a:pt x="620" y="203"/>
                  <a:pt x="620" y="226"/>
                  <a:pt x="635" y="235"/>
                </a:cubicBezTo>
                <a:cubicBezTo>
                  <a:pt x="645" y="241"/>
                  <a:pt x="658" y="228"/>
                  <a:pt x="670" y="224"/>
                </a:cubicBezTo>
                <a:cubicBezTo>
                  <a:pt x="672" y="220"/>
                  <a:pt x="701" y="142"/>
                  <a:pt x="729" y="153"/>
                </a:cubicBezTo>
                <a:cubicBezTo>
                  <a:pt x="745" y="160"/>
                  <a:pt x="740" y="188"/>
                  <a:pt x="752" y="200"/>
                </a:cubicBezTo>
                <a:cubicBezTo>
                  <a:pt x="761" y="209"/>
                  <a:pt x="776" y="208"/>
                  <a:pt x="788" y="212"/>
                </a:cubicBezTo>
                <a:cubicBezTo>
                  <a:pt x="823" y="317"/>
                  <a:pt x="799" y="293"/>
                  <a:pt x="823" y="247"/>
                </a:cubicBezTo>
                <a:cubicBezTo>
                  <a:pt x="829" y="234"/>
                  <a:pt x="839" y="224"/>
                  <a:pt x="847" y="212"/>
                </a:cubicBezTo>
                <a:cubicBezTo>
                  <a:pt x="851" y="200"/>
                  <a:pt x="846" y="179"/>
                  <a:pt x="858" y="176"/>
                </a:cubicBezTo>
                <a:cubicBezTo>
                  <a:pt x="899" y="165"/>
                  <a:pt x="900" y="234"/>
                  <a:pt x="905" y="247"/>
                </a:cubicBezTo>
                <a:cubicBezTo>
                  <a:pt x="911" y="260"/>
                  <a:pt x="921" y="270"/>
                  <a:pt x="929" y="282"/>
                </a:cubicBezTo>
                <a:cubicBezTo>
                  <a:pt x="941" y="278"/>
                  <a:pt x="953" y="276"/>
                  <a:pt x="964" y="271"/>
                </a:cubicBezTo>
                <a:cubicBezTo>
                  <a:pt x="980" y="264"/>
                  <a:pt x="994" y="242"/>
                  <a:pt x="1011" y="247"/>
                </a:cubicBezTo>
                <a:cubicBezTo>
                  <a:pt x="1028" y="252"/>
                  <a:pt x="1023" y="282"/>
                  <a:pt x="1035" y="294"/>
                </a:cubicBezTo>
                <a:cubicBezTo>
                  <a:pt x="1085" y="344"/>
                  <a:pt x="1082" y="295"/>
                  <a:pt x="1082" y="329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054320" y="2971800"/>
            <a:ext cx="1101960" cy="1473120"/>
            <a:chOff x="4054320" y="2971800"/>
            <a:chExt cx="1101960" cy="1473120"/>
          </a:xfrm>
        </p:grpSpPr>
        <p:sp>
          <p:nvSpPr>
            <p:cNvPr id="336" name=""/>
            <p:cNvSpPr/>
            <p:nvPr/>
          </p:nvSpPr>
          <p:spPr>
            <a:xfrm>
              <a:off x="4054320" y="3343320"/>
              <a:ext cx="392400" cy="1101600"/>
            </a:xfrm>
            <a:custGeom>
              <a:avLst/>
              <a:gdLst/>
              <a:ahLst/>
              <a:rect l="l" t="t" r="r" b="b"/>
              <a:pathLst>
                <a:path w="247" h="694">
                  <a:moveTo>
                    <a:pt x="212" y="694"/>
                  </a:moveTo>
                  <a:lnTo>
                    <a:pt x="210" y="687"/>
                  </a:lnTo>
                  <a:lnTo>
                    <a:pt x="207" y="678"/>
                  </a:lnTo>
                  <a:lnTo>
                    <a:pt x="203" y="667"/>
                  </a:lnTo>
                  <a:lnTo>
                    <a:pt x="199" y="656"/>
                  </a:lnTo>
                  <a:lnTo>
                    <a:pt x="194" y="646"/>
                  </a:lnTo>
                  <a:lnTo>
                    <a:pt x="189" y="637"/>
                  </a:lnTo>
                  <a:lnTo>
                    <a:pt x="183" y="629"/>
                  </a:lnTo>
                  <a:lnTo>
                    <a:pt x="177" y="624"/>
                  </a:lnTo>
                  <a:lnTo>
                    <a:pt x="165" y="619"/>
                  </a:lnTo>
                  <a:lnTo>
                    <a:pt x="150" y="614"/>
                  </a:lnTo>
                  <a:lnTo>
                    <a:pt x="134" y="610"/>
                  </a:lnTo>
                  <a:lnTo>
                    <a:pt x="119" y="606"/>
                  </a:lnTo>
                  <a:lnTo>
                    <a:pt x="104" y="604"/>
                  </a:lnTo>
                  <a:lnTo>
                    <a:pt x="93" y="602"/>
                  </a:lnTo>
                  <a:lnTo>
                    <a:pt x="88" y="601"/>
                  </a:lnTo>
                  <a:lnTo>
                    <a:pt x="85" y="600"/>
                  </a:lnTo>
                  <a:lnTo>
                    <a:pt x="83" y="600"/>
                  </a:lnTo>
                  <a:lnTo>
                    <a:pt x="82" y="600"/>
                  </a:lnTo>
                  <a:lnTo>
                    <a:pt x="59" y="565"/>
                  </a:lnTo>
                  <a:lnTo>
                    <a:pt x="35" y="529"/>
                  </a:lnTo>
                  <a:lnTo>
                    <a:pt x="32" y="524"/>
                  </a:lnTo>
                  <a:lnTo>
                    <a:pt x="28" y="519"/>
                  </a:lnTo>
                  <a:lnTo>
                    <a:pt x="21" y="507"/>
                  </a:lnTo>
                  <a:lnTo>
                    <a:pt x="17" y="502"/>
                  </a:lnTo>
                  <a:lnTo>
                    <a:pt x="15" y="498"/>
                  </a:lnTo>
                  <a:lnTo>
                    <a:pt x="13" y="495"/>
                  </a:lnTo>
                  <a:lnTo>
                    <a:pt x="12" y="494"/>
                  </a:lnTo>
                  <a:lnTo>
                    <a:pt x="9" y="481"/>
                  </a:lnTo>
                  <a:lnTo>
                    <a:pt x="6" y="470"/>
                  </a:lnTo>
                  <a:lnTo>
                    <a:pt x="3" y="461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0" y="444"/>
                  </a:lnTo>
                  <a:lnTo>
                    <a:pt x="0" y="436"/>
                  </a:lnTo>
                  <a:lnTo>
                    <a:pt x="0" y="432"/>
                  </a:lnTo>
                  <a:lnTo>
                    <a:pt x="1" y="427"/>
                  </a:lnTo>
                  <a:lnTo>
                    <a:pt x="2" y="420"/>
                  </a:lnTo>
                  <a:lnTo>
                    <a:pt x="4" y="412"/>
                  </a:lnTo>
                  <a:lnTo>
                    <a:pt x="5" y="402"/>
                  </a:lnTo>
                  <a:lnTo>
                    <a:pt x="7" y="389"/>
                  </a:lnTo>
                  <a:lnTo>
                    <a:pt x="10" y="373"/>
                  </a:lnTo>
                  <a:lnTo>
                    <a:pt x="12" y="353"/>
                  </a:lnTo>
                  <a:lnTo>
                    <a:pt x="14" y="337"/>
                  </a:lnTo>
                  <a:lnTo>
                    <a:pt x="15" y="321"/>
                  </a:lnTo>
                  <a:lnTo>
                    <a:pt x="17" y="307"/>
                  </a:lnTo>
                  <a:lnTo>
                    <a:pt x="18" y="294"/>
                  </a:lnTo>
                  <a:lnTo>
                    <a:pt x="20" y="269"/>
                  </a:lnTo>
                  <a:lnTo>
                    <a:pt x="24" y="246"/>
                  </a:lnTo>
                  <a:lnTo>
                    <a:pt x="29" y="224"/>
                  </a:lnTo>
                  <a:lnTo>
                    <a:pt x="36" y="202"/>
                  </a:lnTo>
                  <a:lnTo>
                    <a:pt x="46" y="179"/>
                  </a:lnTo>
                  <a:lnTo>
                    <a:pt x="52" y="166"/>
                  </a:lnTo>
                  <a:lnTo>
                    <a:pt x="59" y="153"/>
                  </a:lnTo>
                  <a:lnTo>
                    <a:pt x="64" y="141"/>
                  </a:lnTo>
                  <a:lnTo>
                    <a:pt x="69" y="128"/>
                  </a:lnTo>
                  <a:lnTo>
                    <a:pt x="74" y="116"/>
                  </a:lnTo>
                  <a:lnTo>
                    <a:pt x="77" y="111"/>
                  </a:lnTo>
                  <a:lnTo>
                    <a:pt x="82" y="106"/>
                  </a:lnTo>
                  <a:lnTo>
                    <a:pt x="95" y="97"/>
                  </a:lnTo>
                  <a:lnTo>
                    <a:pt x="109" y="90"/>
                  </a:lnTo>
                  <a:lnTo>
                    <a:pt x="124" y="85"/>
                  </a:lnTo>
                  <a:lnTo>
                    <a:pt x="140" y="80"/>
                  </a:lnTo>
                  <a:lnTo>
                    <a:pt x="170" y="71"/>
                  </a:lnTo>
                  <a:lnTo>
                    <a:pt x="185" y="65"/>
                  </a:lnTo>
                  <a:lnTo>
                    <a:pt x="200" y="59"/>
                  </a:lnTo>
                  <a:lnTo>
                    <a:pt x="205" y="51"/>
                  </a:lnTo>
                  <a:lnTo>
                    <a:pt x="209" y="45"/>
                  </a:lnTo>
                  <a:lnTo>
                    <a:pt x="213" y="40"/>
                  </a:lnTo>
                  <a:lnTo>
                    <a:pt x="215" y="36"/>
                  </a:lnTo>
                  <a:lnTo>
                    <a:pt x="219" y="30"/>
                  </a:lnTo>
                  <a:lnTo>
                    <a:pt x="222" y="26"/>
                  </a:lnTo>
                  <a:lnTo>
                    <a:pt x="226" y="22"/>
                  </a:lnTo>
                  <a:lnTo>
                    <a:pt x="230" y="17"/>
                  </a:lnTo>
                  <a:lnTo>
                    <a:pt x="237" y="11"/>
                  </a:lnTo>
                  <a:lnTo>
                    <a:pt x="241" y="6"/>
                  </a:lnTo>
                  <a:lnTo>
                    <a:pt x="247" y="0"/>
                  </a:lnTo>
                </a:path>
              </a:pathLst>
            </a:custGeom>
            <a:noFill/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4216320" y="2971800"/>
              <a:ext cx="939960" cy="1436760"/>
              <a:chOff x="4216320" y="2971800"/>
              <a:chExt cx="939960" cy="1436760"/>
            </a:xfrm>
          </p:grpSpPr>
          <p:sp>
            <p:nvSpPr>
              <p:cNvPr id="338" name=""/>
              <p:cNvSpPr/>
              <p:nvPr/>
            </p:nvSpPr>
            <p:spPr>
              <a:xfrm>
                <a:off x="4419720" y="3200400"/>
                <a:ext cx="306360" cy="15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19720" y="2971800"/>
                <a:ext cx="30636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21240" y="3284640"/>
                <a:ext cx="30636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216320" y="3056040"/>
                <a:ext cx="23040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18120" y="3282840"/>
                <a:ext cx="301320" cy="231840"/>
              </a:xfrm>
              <a:custGeom>
                <a:avLst/>
                <a:gdLst/>
                <a:ahLst/>
                <a:rect l="l" t="t" r="r" b="b"/>
                <a:pathLst>
                  <a:path w="190" h="146">
                    <a:moveTo>
                      <a:pt x="189" y="52"/>
                    </a:moveTo>
                    <a:lnTo>
                      <a:pt x="184" y="38"/>
                    </a:lnTo>
                    <a:lnTo>
                      <a:pt x="175" y="26"/>
                    </a:lnTo>
                    <a:lnTo>
                      <a:pt x="164" y="16"/>
                    </a:lnTo>
                    <a:lnTo>
                      <a:pt x="150" y="8"/>
                    </a:lnTo>
                    <a:lnTo>
                      <a:pt x="134" y="3"/>
                    </a:lnTo>
                    <a:lnTo>
                      <a:pt x="117" y="0"/>
                    </a:lnTo>
                    <a:lnTo>
                      <a:pt x="98" y="0"/>
                    </a:lnTo>
                    <a:lnTo>
                      <a:pt x="79" y="3"/>
                    </a:lnTo>
                    <a:lnTo>
                      <a:pt x="61" y="9"/>
                    </a:lnTo>
                    <a:lnTo>
                      <a:pt x="44" y="16"/>
                    </a:lnTo>
                    <a:lnTo>
                      <a:pt x="30" y="26"/>
                    </a:lnTo>
                    <a:lnTo>
                      <a:pt x="18" y="38"/>
                    </a:lnTo>
                    <a:lnTo>
                      <a:pt x="9" y="51"/>
                    </a:lnTo>
                    <a:lnTo>
                      <a:pt x="3" y="65"/>
                    </a:lnTo>
                    <a:lnTo>
                      <a:pt x="0" y="79"/>
                    </a:lnTo>
                    <a:lnTo>
                      <a:pt x="0" y="87"/>
                    </a:lnTo>
                    <a:lnTo>
                      <a:pt x="1" y="94"/>
                    </a:lnTo>
                    <a:lnTo>
                      <a:pt x="6" y="108"/>
                    </a:lnTo>
                    <a:lnTo>
                      <a:pt x="15" y="120"/>
                    </a:lnTo>
                    <a:lnTo>
                      <a:pt x="26" y="130"/>
                    </a:lnTo>
                    <a:lnTo>
                      <a:pt x="40" y="138"/>
                    </a:lnTo>
                    <a:lnTo>
                      <a:pt x="56" y="143"/>
                    </a:lnTo>
                    <a:lnTo>
                      <a:pt x="73" y="146"/>
                    </a:lnTo>
                    <a:lnTo>
                      <a:pt x="92" y="146"/>
                    </a:lnTo>
                    <a:lnTo>
                      <a:pt x="111" y="143"/>
                    </a:lnTo>
                    <a:lnTo>
                      <a:pt x="129" y="138"/>
                    </a:lnTo>
                    <a:lnTo>
                      <a:pt x="146" y="130"/>
                    </a:lnTo>
                    <a:lnTo>
                      <a:pt x="160" y="120"/>
                    </a:lnTo>
                    <a:lnTo>
                      <a:pt x="172" y="108"/>
                    </a:lnTo>
                    <a:lnTo>
                      <a:pt x="181" y="95"/>
                    </a:lnTo>
                    <a:lnTo>
                      <a:pt x="187" y="81"/>
                    </a:lnTo>
                    <a:lnTo>
                      <a:pt x="190" y="67"/>
                    </a:lnTo>
                    <a:lnTo>
                      <a:pt x="190" y="59"/>
                    </a:lnTo>
                    <a:lnTo>
                      <a:pt x="189" y="52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73520" y="3132000"/>
                <a:ext cx="230400" cy="1540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90920" y="3699000"/>
                <a:ext cx="765360" cy="709560"/>
              </a:xfrm>
              <a:custGeom>
                <a:avLst/>
                <a:gdLst/>
                <a:ahLst/>
                <a:rect l="l" t="t" r="r" b="b"/>
                <a:pathLst>
                  <a:path w="482" h="447">
                    <a:moveTo>
                      <a:pt x="0" y="447"/>
                    </a:moveTo>
                    <a:lnTo>
                      <a:pt x="4" y="409"/>
                    </a:lnTo>
                    <a:lnTo>
                      <a:pt x="8" y="370"/>
                    </a:lnTo>
                    <a:lnTo>
                      <a:pt x="14" y="332"/>
                    </a:lnTo>
                    <a:lnTo>
                      <a:pt x="19" y="313"/>
                    </a:lnTo>
                    <a:lnTo>
                      <a:pt x="24" y="296"/>
                    </a:lnTo>
                    <a:lnTo>
                      <a:pt x="31" y="279"/>
                    </a:lnTo>
                    <a:lnTo>
                      <a:pt x="39" y="263"/>
                    </a:lnTo>
                    <a:lnTo>
                      <a:pt x="49" y="249"/>
                    </a:lnTo>
                    <a:lnTo>
                      <a:pt x="61" y="236"/>
                    </a:lnTo>
                    <a:lnTo>
                      <a:pt x="75" y="224"/>
                    </a:lnTo>
                    <a:lnTo>
                      <a:pt x="90" y="214"/>
                    </a:lnTo>
                    <a:lnTo>
                      <a:pt x="108" y="206"/>
                    </a:lnTo>
                    <a:lnTo>
                      <a:pt x="129" y="200"/>
                    </a:lnTo>
                    <a:lnTo>
                      <a:pt x="134" y="192"/>
                    </a:lnTo>
                    <a:lnTo>
                      <a:pt x="139" y="185"/>
                    </a:lnTo>
                    <a:lnTo>
                      <a:pt x="142" y="180"/>
                    </a:lnTo>
                    <a:lnTo>
                      <a:pt x="146" y="175"/>
                    </a:lnTo>
                    <a:lnTo>
                      <a:pt x="150" y="167"/>
                    </a:lnTo>
                    <a:lnTo>
                      <a:pt x="153" y="163"/>
                    </a:lnTo>
                    <a:lnTo>
                      <a:pt x="154" y="161"/>
                    </a:lnTo>
                    <a:lnTo>
                      <a:pt x="154" y="161"/>
                    </a:lnTo>
                    <a:lnTo>
                      <a:pt x="153" y="163"/>
                    </a:lnTo>
                    <a:lnTo>
                      <a:pt x="153" y="165"/>
                    </a:lnTo>
                    <a:lnTo>
                      <a:pt x="152" y="168"/>
                    </a:lnTo>
                    <a:lnTo>
                      <a:pt x="153" y="170"/>
                    </a:lnTo>
                    <a:lnTo>
                      <a:pt x="155" y="172"/>
                    </a:lnTo>
                    <a:lnTo>
                      <a:pt x="159" y="173"/>
                    </a:lnTo>
                    <a:lnTo>
                      <a:pt x="164" y="171"/>
                    </a:lnTo>
                    <a:lnTo>
                      <a:pt x="173" y="168"/>
                    </a:lnTo>
                    <a:lnTo>
                      <a:pt x="185" y="162"/>
                    </a:lnTo>
                    <a:lnTo>
                      <a:pt x="192" y="157"/>
                    </a:lnTo>
                    <a:lnTo>
                      <a:pt x="200" y="152"/>
                    </a:lnTo>
                    <a:lnTo>
                      <a:pt x="204" y="149"/>
                    </a:lnTo>
                    <a:lnTo>
                      <a:pt x="207" y="144"/>
                    </a:lnTo>
                    <a:lnTo>
                      <a:pt x="212" y="135"/>
                    </a:lnTo>
                    <a:lnTo>
                      <a:pt x="216" y="125"/>
                    </a:lnTo>
                    <a:lnTo>
                      <a:pt x="219" y="121"/>
                    </a:lnTo>
                    <a:lnTo>
                      <a:pt x="223" y="117"/>
                    </a:lnTo>
                    <a:lnTo>
                      <a:pt x="234" y="110"/>
                    </a:lnTo>
                    <a:lnTo>
                      <a:pt x="245" y="104"/>
                    </a:lnTo>
                    <a:lnTo>
                      <a:pt x="258" y="99"/>
                    </a:lnTo>
                    <a:lnTo>
                      <a:pt x="270" y="94"/>
                    </a:lnTo>
                    <a:lnTo>
                      <a:pt x="283" y="77"/>
                    </a:lnTo>
                    <a:lnTo>
                      <a:pt x="298" y="61"/>
                    </a:lnTo>
                    <a:lnTo>
                      <a:pt x="315" y="48"/>
                    </a:lnTo>
                    <a:lnTo>
                      <a:pt x="332" y="35"/>
                    </a:lnTo>
                    <a:lnTo>
                      <a:pt x="351" y="25"/>
                    </a:lnTo>
                    <a:lnTo>
                      <a:pt x="371" y="15"/>
                    </a:lnTo>
                    <a:lnTo>
                      <a:pt x="391" y="7"/>
                    </a:lnTo>
                    <a:lnTo>
                      <a:pt x="412" y="0"/>
                    </a:lnTo>
                    <a:lnTo>
                      <a:pt x="424" y="3"/>
                    </a:lnTo>
                    <a:lnTo>
                      <a:pt x="434" y="6"/>
                    </a:lnTo>
                    <a:lnTo>
                      <a:pt x="443" y="8"/>
                    </a:lnTo>
                    <a:lnTo>
                      <a:pt x="449" y="11"/>
                    </a:lnTo>
                    <a:lnTo>
                      <a:pt x="455" y="13"/>
                    </a:lnTo>
                    <a:lnTo>
                      <a:pt x="459" y="16"/>
                    </a:lnTo>
                    <a:lnTo>
                      <a:pt x="465" y="23"/>
                    </a:lnTo>
                    <a:lnTo>
                      <a:pt x="469" y="33"/>
                    </a:lnTo>
                    <a:lnTo>
                      <a:pt x="472" y="45"/>
                    </a:lnTo>
                    <a:lnTo>
                      <a:pt x="473" y="52"/>
                    </a:lnTo>
                    <a:lnTo>
                      <a:pt x="476" y="61"/>
                    </a:lnTo>
                    <a:lnTo>
                      <a:pt x="478" y="71"/>
                    </a:lnTo>
                    <a:lnTo>
                      <a:pt x="482" y="82"/>
                    </a:lnTo>
                    <a:lnTo>
                      <a:pt x="480" y="106"/>
                    </a:lnTo>
                    <a:lnTo>
                      <a:pt x="479" y="130"/>
                    </a:lnTo>
                    <a:lnTo>
                      <a:pt x="476" y="153"/>
                    </a:lnTo>
                    <a:lnTo>
                      <a:pt x="474" y="165"/>
                    </a:lnTo>
                    <a:lnTo>
                      <a:pt x="470" y="176"/>
                    </a:lnTo>
                    <a:lnTo>
                      <a:pt x="468" y="180"/>
                    </a:lnTo>
                    <a:lnTo>
                      <a:pt x="464" y="184"/>
                    </a:lnTo>
                    <a:lnTo>
                      <a:pt x="454" y="189"/>
                    </a:lnTo>
                    <a:lnTo>
                      <a:pt x="444" y="194"/>
                    </a:lnTo>
                    <a:lnTo>
                      <a:pt x="435" y="200"/>
                    </a:lnTo>
                    <a:lnTo>
                      <a:pt x="425" y="211"/>
                    </a:lnTo>
                    <a:lnTo>
                      <a:pt x="418" y="219"/>
                    </a:lnTo>
                    <a:lnTo>
                      <a:pt x="414" y="225"/>
                    </a:lnTo>
                    <a:lnTo>
                      <a:pt x="412" y="230"/>
                    </a:lnTo>
                    <a:lnTo>
                      <a:pt x="412" y="233"/>
                    </a:lnTo>
                    <a:lnTo>
                      <a:pt x="412" y="235"/>
                    </a:lnTo>
                    <a:lnTo>
                      <a:pt x="414" y="237"/>
                    </a:lnTo>
                    <a:lnTo>
                      <a:pt x="414" y="237"/>
                    </a:lnTo>
                    <a:lnTo>
                      <a:pt x="412" y="238"/>
                    </a:lnTo>
                    <a:lnTo>
                      <a:pt x="409" y="238"/>
                    </a:lnTo>
                    <a:lnTo>
                      <a:pt x="403" y="240"/>
                    </a:lnTo>
                    <a:lnTo>
                      <a:pt x="393" y="242"/>
                    </a:lnTo>
                    <a:lnTo>
                      <a:pt x="387" y="244"/>
                    </a:lnTo>
                    <a:lnTo>
                      <a:pt x="380" y="246"/>
                    </a:lnTo>
                    <a:lnTo>
                      <a:pt x="372" y="248"/>
                    </a:lnTo>
                    <a:lnTo>
                      <a:pt x="363" y="251"/>
                    </a:lnTo>
                    <a:lnTo>
                      <a:pt x="353" y="254"/>
                    </a:lnTo>
                    <a:lnTo>
                      <a:pt x="341" y="258"/>
                    </a:lnTo>
                    <a:lnTo>
                      <a:pt x="306" y="268"/>
                    </a:lnTo>
                    <a:lnTo>
                      <a:pt x="271" y="277"/>
                    </a:lnTo>
                    <a:lnTo>
                      <a:pt x="235" y="285"/>
                    </a:lnTo>
                    <a:lnTo>
                      <a:pt x="200" y="294"/>
                    </a:lnTo>
                    <a:lnTo>
                      <a:pt x="193" y="296"/>
                    </a:lnTo>
                    <a:lnTo>
                      <a:pt x="186" y="297"/>
                    </a:lnTo>
                    <a:lnTo>
                      <a:pt x="171" y="301"/>
                    </a:lnTo>
                    <a:lnTo>
                      <a:pt x="164" y="303"/>
                    </a:lnTo>
                    <a:lnTo>
                      <a:pt x="158" y="304"/>
                    </a:lnTo>
                    <a:lnTo>
                      <a:pt x="154" y="305"/>
                    </a:lnTo>
                    <a:lnTo>
                      <a:pt x="153" y="305"/>
                    </a:lnTo>
                    <a:lnTo>
                      <a:pt x="135" y="314"/>
                    </a:lnTo>
                    <a:lnTo>
                      <a:pt x="119" y="322"/>
                    </a:lnTo>
                    <a:lnTo>
                      <a:pt x="105" y="329"/>
                    </a:lnTo>
                    <a:lnTo>
                      <a:pt x="93" y="335"/>
                    </a:lnTo>
                    <a:lnTo>
                      <a:pt x="82" y="340"/>
                    </a:lnTo>
                    <a:lnTo>
                      <a:pt x="73" y="346"/>
                    </a:lnTo>
                    <a:lnTo>
                      <a:pt x="65" y="352"/>
                    </a:lnTo>
                    <a:lnTo>
                      <a:pt x="57" y="358"/>
                    </a:lnTo>
                    <a:lnTo>
                      <a:pt x="50" y="364"/>
                    </a:lnTo>
                    <a:lnTo>
                      <a:pt x="44" y="372"/>
                    </a:lnTo>
                    <a:lnTo>
                      <a:pt x="37" y="380"/>
                    </a:lnTo>
                    <a:lnTo>
                      <a:pt x="31" y="390"/>
                    </a:lnTo>
                    <a:lnTo>
                      <a:pt x="24" y="401"/>
                    </a:lnTo>
                    <a:lnTo>
                      <a:pt x="17" y="414"/>
                    </a:lnTo>
                    <a:lnTo>
                      <a:pt x="9" y="430"/>
                    </a:lnTo>
                    <a:lnTo>
                      <a:pt x="0" y="447"/>
                    </a:lnTo>
                    <a:close/>
                  </a:path>
                </a:pathLst>
              </a:custGeom>
              <a:solidFill>
                <a:srgbClr val="006600"/>
              </a:solidFill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4114440" y="2286000"/>
            <a:ext cx="1568520" cy="1192320"/>
            <a:chOff x="4114440" y="2286000"/>
            <a:chExt cx="1568520" cy="1192320"/>
          </a:xfrm>
        </p:grpSpPr>
        <p:sp>
          <p:nvSpPr>
            <p:cNvPr id="346" name=""/>
            <p:cNvSpPr/>
            <p:nvPr/>
          </p:nvSpPr>
          <p:spPr>
            <a:xfrm flipH="1">
              <a:off x="4580640" y="2700360"/>
              <a:ext cx="600120" cy="49860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4114080" y="2286000"/>
              <a:ext cx="1568520" cy="119232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888800" y="2432160"/>
              <a:ext cx="291960" cy="60480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898160" y="2490840"/>
              <a:ext cx="438120" cy="40788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287320" y="2808360"/>
              <a:ext cx="230040" cy="18432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011200" y="3087720"/>
              <a:ext cx="168480" cy="25236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4214160" y="2598840"/>
              <a:ext cx="215640" cy="16812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579200" y="2730600"/>
              <a:ext cx="252360" cy="1699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4424040" y="237168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 rot="10800000">
              <a:off x="5265360" y="305604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85800" y="304920"/>
            <a:ext cx="1955880" cy="1887480"/>
            <a:chOff x="685800" y="304920"/>
            <a:chExt cx="1955880" cy="1887480"/>
          </a:xfrm>
        </p:grpSpPr>
        <p:sp>
          <p:nvSpPr>
            <p:cNvPr id="357" name=""/>
            <p:cNvSpPr/>
            <p:nvPr/>
          </p:nvSpPr>
          <p:spPr>
            <a:xfrm>
              <a:off x="990720" y="609480"/>
              <a:ext cx="1176120" cy="123372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66840" y="684360"/>
              <a:ext cx="47484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1295280"/>
              <a:ext cx="401760" cy="37332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360" y="1762200"/>
              <a:ext cx="430200" cy="40464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31920" y="163044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9560" y="1238400"/>
              <a:ext cx="522360" cy="37440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5800" y="304920"/>
              <a:ext cx="517680" cy="53640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60600" y="306360"/>
              <a:ext cx="384120" cy="33516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371600" y="1371600"/>
              <a:ext cx="533520" cy="7632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43000" y="838080"/>
              <a:ext cx="304920" cy="30492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14280" y="952560"/>
              <a:ext cx="309600" cy="7452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95280" y="990720"/>
              <a:ext cx="15264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84360" y="685800"/>
              <a:ext cx="320760" cy="36972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43040" y="826920"/>
              <a:ext cx="358920" cy="13176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1790640" y="876240"/>
              <a:ext cx="76320" cy="15264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2209680" y="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4120" y="1066680"/>
            <a:ext cx="2743200" cy="1447920"/>
          </a:xfrm>
          <a:prstGeom prst="wedgeRoundRectCallout">
            <a:avLst>
              <a:gd name="adj1" fmla="val -52606"/>
              <a:gd name="adj2" fmla="val 617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ch’io ero pe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 striscia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a presto anche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venterai come m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400" y="3828960"/>
            <a:ext cx="1792080" cy="603360"/>
          </a:xfrm>
          <a:custGeom>
            <a:avLst/>
            <a:gdLst/>
            <a:ahLst/>
            <a:rect l="l" t="t" r="r" b="b"/>
            <a:pathLst>
              <a:path w="1129" h="380">
                <a:moveTo>
                  <a:pt x="0" y="282"/>
                </a:moveTo>
                <a:cubicBezTo>
                  <a:pt x="16" y="259"/>
                  <a:pt x="32" y="235"/>
                  <a:pt x="47" y="212"/>
                </a:cubicBezTo>
                <a:cubicBezTo>
                  <a:pt x="55" y="200"/>
                  <a:pt x="70" y="176"/>
                  <a:pt x="70" y="176"/>
                </a:cubicBezTo>
                <a:cubicBezTo>
                  <a:pt x="86" y="114"/>
                  <a:pt x="78" y="61"/>
                  <a:pt x="59" y="0"/>
                </a:cubicBezTo>
                <a:cubicBezTo>
                  <a:pt x="39" y="79"/>
                  <a:pt x="44" y="16"/>
                  <a:pt x="70" y="94"/>
                </a:cubicBezTo>
                <a:cubicBezTo>
                  <a:pt x="80" y="125"/>
                  <a:pt x="94" y="188"/>
                  <a:pt x="94" y="188"/>
                </a:cubicBezTo>
                <a:cubicBezTo>
                  <a:pt x="126" y="139"/>
                  <a:pt x="147" y="91"/>
                  <a:pt x="164" y="35"/>
                </a:cubicBezTo>
                <a:cubicBezTo>
                  <a:pt x="172" y="66"/>
                  <a:pt x="180" y="98"/>
                  <a:pt x="188" y="129"/>
                </a:cubicBezTo>
                <a:cubicBezTo>
                  <a:pt x="192" y="145"/>
                  <a:pt x="200" y="176"/>
                  <a:pt x="200" y="176"/>
                </a:cubicBezTo>
                <a:cubicBezTo>
                  <a:pt x="219" y="116"/>
                  <a:pt x="227" y="64"/>
                  <a:pt x="235" y="0"/>
                </a:cubicBezTo>
                <a:cubicBezTo>
                  <a:pt x="256" y="82"/>
                  <a:pt x="239" y="31"/>
                  <a:pt x="294" y="141"/>
                </a:cubicBezTo>
                <a:cubicBezTo>
                  <a:pt x="302" y="157"/>
                  <a:pt x="309" y="172"/>
                  <a:pt x="317" y="188"/>
                </a:cubicBezTo>
                <a:cubicBezTo>
                  <a:pt x="325" y="204"/>
                  <a:pt x="341" y="235"/>
                  <a:pt x="341" y="235"/>
                </a:cubicBezTo>
                <a:cubicBezTo>
                  <a:pt x="375" y="183"/>
                  <a:pt x="378" y="143"/>
                  <a:pt x="400" y="82"/>
                </a:cubicBezTo>
                <a:cubicBezTo>
                  <a:pt x="406" y="66"/>
                  <a:pt x="416" y="51"/>
                  <a:pt x="423" y="35"/>
                </a:cubicBezTo>
                <a:cubicBezTo>
                  <a:pt x="428" y="24"/>
                  <a:pt x="431" y="12"/>
                  <a:pt x="435" y="0"/>
                </a:cubicBezTo>
                <a:cubicBezTo>
                  <a:pt x="468" y="48"/>
                  <a:pt x="492" y="119"/>
                  <a:pt x="506" y="176"/>
                </a:cubicBezTo>
                <a:cubicBezTo>
                  <a:pt x="511" y="160"/>
                  <a:pt x="515" y="105"/>
                  <a:pt x="553" y="153"/>
                </a:cubicBezTo>
                <a:cubicBezTo>
                  <a:pt x="586" y="195"/>
                  <a:pt x="596" y="236"/>
                  <a:pt x="611" y="282"/>
                </a:cubicBezTo>
                <a:cubicBezTo>
                  <a:pt x="615" y="260"/>
                  <a:pt x="637" y="149"/>
                  <a:pt x="647" y="141"/>
                </a:cubicBezTo>
                <a:cubicBezTo>
                  <a:pt x="661" y="130"/>
                  <a:pt x="658" y="176"/>
                  <a:pt x="670" y="188"/>
                </a:cubicBezTo>
                <a:cubicBezTo>
                  <a:pt x="690" y="208"/>
                  <a:pt x="741" y="235"/>
                  <a:pt x="741" y="235"/>
                </a:cubicBezTo>
                <a:cubicBezTo>
                  <a:pt x="745" y="247"/>
                  <a:pt x="741" y="268"/>
                  <a:pt x="753" y="271"/>
                </a:cubicBezTo>
                <a:cubicBezTo>
                  <a:pt x="785" y="279"/>
                  <a:pt x="795" y="226"/>
                  <a:pt x="800" y="212"/>
                </a:cubicBezTo>
                <a:cubicBezTo>
                  <a:pt x="826" y="229"/>
                  <a:pt x="860" y="237"/>
                  <a:pt x="882" y="259"/>
                </a:cubicBezTo>
                <a:cubicBezTo>
                  <a:pt x="902" y="279"/>
                  <a:pt x="929" y="329"/>
                  <a:pt x="929" y="329"/>
                </a:cubicBezTo>
                <a:cubicBezTo>
                  <a:pt x="933" y="317"/>
                  <a:pt x="932" y="303"/>
                  <a:pt x="941" y="294"/>
                </a:cubicBezTo>
                <a:cubicBezTo>
                  <a:pt x="961" y="274"/>
                  <a:pt x="1011" y="247"/>
                  <a:pt x="1011" y="247"/>
                </a:cubicBezTo>
                <a:cubicBezTo>
                  <a:pt x="1029" y="273"/>
                  <a:pt x="1034" y="309"/>
                  <a:pt x="1058" y="329"/>
                </a:cubicBezTo>
                <a:cubicBezTo>
                  <a:pt x="1070" y="339"/>
                  <a:pt x="1089" y="337"/>
                  <a:pt x="1105" y="341"/>
                </a:cubicBezTo>
                <a:cubicBezTo>
                  <a:pt x="1118" y="380"/>
                  <a:pt x="1105" y="376"/>
                  <a:pt x="1129" y="376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157320" y="4648320"/>
            <a:ext cx="9677520" cy="2361960"/>
          </a:xfrm>
          <a:custGeom>
            <a:avLst/>
            <a:gdLst/>
            <a:ahLst/>
            <a:rect l="l" t="t" r="r" b="b"/>
            <a:pathLst>
              <a:path w="5940" h="1089">
                <a:moveTo>
                  <a:pt x="47" y="118"/>
                </a:moveTo>
                <a:cubicBezTo>
                  <a:pt x="138" y="95"/>
                  <a:pt x="215" y="71"/>
                  <a:pt x="306" y="59"/>
                </a:cubicBezTo>
                <a:cubicBezTo>
                  <a:pt x="526" y="63"/>
                  <a:pt x="745" y="64"/>
                  <a:pt x="965" y="70"/>
                </a:cubicBezTo>
                <a:cubicBezTo>
                  <a:pt x="1098" y="74"/>
                  <a:pt x="1106" y="83"/>
                  <a:pt x="1212" y="59"/>
                </a:cubicBezTo>
                <a:cubicBezTo>
                  <a:pt x="1244" y="52"/>
                  <a:pt x="1306" y="35"/>
                  <a:pt x="1306" y="35"/>
                </a:cubicBezTo>
                <a:cubicBezTo>
                  <a:pt x="1592" y="44"/>
                  <a:pt x="1868" y="42"/>
                  <a:pt x="2153" y="23"/>
                </a:cubicBezTo>
                <a:cubicBezTo>
                  <a:pt x="2505" y="29"/>
                  <a:pt x="2737" y="24"/>
                  <a:pt x="3047" y="59"/>
                </a:cubicBezTo>
                <a:cubicBezTo>
                  <a:pt x="3156" y="84"/>
                  <a:pt x="3078" y="68"/>
                  <a:pt x="3282" y="94"/>
                </a:cubicBezTo>
                <a:cubicBezTo>
                  <a:pt x="3358" y="104"/>
                  <a:pt x="3430" y="130"/>
                  <a:pt x="3506" y="141"/>
                </a:cubicBezTo>
                <a:cubicBezTo>
                  <a:pt x="3646" y="133"/>
                  <a:pt x="3715" y="149"/>
                  <a:pt x="3823" y="94"/>
                </a:cubicBezTo>
                <a:cubicBezTo>
                  <a:pt x="3831" y="78"/>
                  <a:pt x="3832" y="56"/>
                  <a:pt x="3847" y="47"/>
                </a:cubicBezTo>
                <a:cubicBezTo>
                  <a:pt x="3882" y="26"/>
                  <a:pt x="4005" y="7"/>
                  <a:pt x="4047" y="0"/>
                </a:cubicBezTo>
                <a:cubicBezTo>
                  <a:pt x="4118" y="9"/>
                  <a:pt x="4188" y="17"/>
                  <a:pt x="4258" y="35"/>
                </a:cubicBezTo>
                <a:cubicBezTo>
                  <a:pt x="4411" y="13"/>
                  <a:pt x="4564" y="25"/>
                  <a:pt x="4717" y="47"/>
                </a:cubicBezTo>
                <a:cubicBezTo>
                  <a:pt x="4804" y="90"/>
                  <a:pt x="4730" y="60"/>
                  <a:pt x="4870" y="82"/>
                </a:cubicBezTo>
                <a:cubicBezTo>
                  <a:pt x="4951" y="95"/>
                  <a:pt x="5022" y="120"/>
                  <a:pt x="5105" y="129"/>
                </a:cubicBezTo>
                <a:cubicBezTo>
                  <a:pt x="5175" y="147"/>
                  <a:pt x="5250" y="161"/>
                  <a:pt x="5317" y="188"/>
                </a:cubicBezTo>
                <a:cubicBezTo>
                  <a:pt x="5333" y="195"/>
                  <a:pt x="5347" y="207"/>
                  <a:pt x="5364" y="212"/>
                </a:cubicBezTo>
                <a:cubicBezTo>
                  <a:pt x="5440" y="235"/>
                  <a:pt x="5419" y="211"/>
                  <a:pt x="5482" y="235"/>
                </a:cubicBezTo>
                <a:cubicBezTo>
                  <a:pt x="5498" y="241"/>
                  <a:pt x="5512" y="253"/>
                  <a:pt x="5529" y="259"/>
                </a:cubicBezTo>
                <a:cubicBezTo>
                  <a:pt x="5575" y="274"/>
                  <a:pt x="5623" y="282"/>
                  <a:pt x="5670" y="294"/>
                </a:cubicBezTo>
                <a:cubicBezTo>
                  <a:pt x="5686" y="298"/>
                  <a:pt x="5717" y="306"/>
                  <a:pt x="5717" y="306"/>
                </a:cubicBezTo>
                <a:cubicBezTo>
                  <a:pt x="5725" y="318"/>
                  <a:pt x="5729" y="333"/>
                  <a:pt x="5741" y="341"/>
                </a:cubicBezTo>
                <a:cubicBezTo>
                  <a:pt x="5754" y="350"/>
                  <a:pt x="5773" y="347"/>
                  <a:pt x="5788" y="353"/>
                </a:cubicBezTo>
                <a:cubicBezTo>
                  <a:pt x="5825" y="367"/>
                  <a:pt x="5839" y="379"/>
                  <a:pt x="5870" y="400"/>
                </a:cubicBezTo>
                <a:cubicBezTo>
                  <a:pt x="5940" y="507"/>
                  <a:pt x="5905" y="716"/>
                  <a:pt x="5835" y="823"/>
                </a:cubicBezTo>
                <a:cubicBezTo>
                  <a:pt x="5831" y="886"/>
                  <a:pt x="5851" y="956"/>
                  <a:pt x="5823" y="1012"/>
                </a:cubicBezTo>
                <a:cubicBezTo>
                  <a:pt x="5809" y="1041"/>
                  <a:pt x="5761" y="1033"/>
                  <a:pt x="5729" y="1035"/>
                </a:cubicBezTo>
                <a:cubicBezTo>
                  <a:pt x="5670" y="1039"/>
                  <a:pt x="5611" y="1044"/>
                  <a:pt x="5552" y="1047"/>
                </a:cubicBezTo>
                <a:cubicBezTo>
                  <a:pt x="5458" y="1052"/>
                  <a:pt x="5364" y="1055"/>
                  <a:pt x="5270" y="1059"/>
                </a:cubicBezTo>
                <a:cubicBezTo>
                  <a:pt x="5031" y="1089"/>
                  <a:pt x="4783" y="1061"/>
                  <a:pt x="4541" y="1071"/>
                </a:cubicBezTo>
                <a:cubicBezTo>
                  <a:pt x="3812" y="1041"/>
                  <a:pt x="4149" y="1041"/>
                  <a:pt x="3529" y="1059"/>
                </a:cubicBezTo>
                <a:cubicBezTo>
                  <a:pt x="2212" y="1053"/>
                  <a:pt x="1223" y="1038"/>
                  <a:pt x="0" y="1000"/>
                </a:cubicBezTo>
                <a:cubicBezTo>
                  <a:pt x="4" y="808"/>
                  <a:pt x="12" y="423"/>
                  <a:pt x="12" y="423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-139680" y="4842000"/>
            <a:ext cx="112680" cy="979200"/>
          </a:xfrm>
          <a:custGeom>
            <a:avLst/>
            <a:gdLst/>
            <a:ahLst/>
            <a:rect l="l" t="t" r="r" b="b"/>
            <a:pathLst>
              <a:path w="60" h="459">
                <a:moveTo>
                  <a:pt x="4" y="459"/>
                </a:moveTo>
                <a:cubicBezTo>
                  <a:pt x="8" y="334"/>
                  <a:pt x="0" y="207"/>
                  <a:pt x="15" y="83"/>
                </a:cubicBezTo>
                <a:cubicBezTo>
                  <a:pt x="17" y="70"/>
                  <a:pt x="46" y="83"/>
                  <a:pt x="51" y="71"/>
                </a:cubicBezTo>
                <a:cubicBezTo>
                  <a:pt x="60" y="49"/>
                  <a:pt x="51" y="24"/>
                  <a:pt x="51" y="0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150840" y="4146480"/>
            <a:ext cx="6242040" cy="1035000"/>
          </a:xfrm>
          <a:custGeom>
            <a:avLst/>
            <a:gdLst/>
            <a:ahLst/>
            <a:rect l="l" t="t" r="r" b="b"/>
            <a:pathLst>
              <a:path w="1342" h="511">
                <a:moveTo>
                  <a:pt x="68" y="59"/>
                </a:moveTo>
                <a:cubicBezTo>
                  <a:pt x="125" y="30"/>
                  <a:pt x="185" y="20"/>
                  <a:pt x="245" y="0"/>
                </a:cubicBezTo>
                <a:cubicBezTo>
                  <a:pt x="251" y="1"/>
                  <a:pt x="485" y="20"/>
                  <a:pt x="504" y="24"/>
                </a:cubicBezTo>
                <a:cubicBezTo>
                  <a:pt x="653" y="58"/>
                  <a:pt x="434" y="39"/>
                  <a:pt x="574" y="59"/>
                </a:cubicBezTo>
                <a:cubicBezTo>
                  <a:pt x="617" y="65"/>
                  <a:pt x="661" y="67"/>
                  <a:pt x="704" y="71"/>
                </a:cubicBezTo>
                <a:cubicBezTo>
                  <a:pt x="836" y="136"/>
                  <a:pt x="871" y="141"/>
                  <a:pt x="1033" y="153"/>
                </a:cubicBezTo>
                <a:cubicBezTo>
                  <a:pt x="1049" y="157"/>
                  <a:pt x="1067" y="156"/>
                  <a:pt x="1080" y="165"/>
                </a:cubicBezTo>
                <a:cubicBezTo>
                  <a:pt x="1092" y="173"/>
                  <a:pt x="1093" y="191"/>
                  <a:pt x="1104" y="200"/>
                </a:cubicBezTo>
                <a:cubicBezTo>
                  <a:pt x="1118" y="211"/>
                  <a:pt x="1136" y="215"/>
                  <a:pt x="1151" y="224"/>
                </a:cubicBezTo>
                <a:cubicBezTo>
                  <a:pt x="1163" y="231"/>
                  <a:pt x="1173" y="242"/>
                  <a:pt x="1186" y="247"/>
                </a:cubicBezTo>
                <a:cubicBezTo>
                  <a:pt x="1205" y="254"/>
                  <a:pt x="1226" y="254"/>
                  <a:pt x="1245" y="259"/>
                </a:cubicBezTo>
                <a:cubicBezTo>
                  <a:pt x="1269" y="265"/>
                  <a:pt x="1315" y="282"/>
                  <a:pt x="1315" y="282"/>
                </a:cubicBezTo>
                <a:cubicBezTo>
                  <a:pt x="1323" y="294"/>
                  <a:pt x="1342" y="304"/>
                  <a:pt x="1339" y="318"/>
                </a:cubicBezTo>
                <a:cubicBezTo>
                  <a:pt x="1331" y="360"/>
                  <a:pt x="1270" y="332"/>
                  <a:pt x="1257" y="329"/>
                </a:cubicBezTo>
                <a:cubicBezTo>
                  <a:pt x="1167" y="337"/>
                  <a:pt x="1076" y="345"/>
                  <a:pt x="986" y="353"/>
                </a:cubicBezTo>
                <a:cubicBezTo>
                  <a:pt x="913" y="359"/>
                  <a:pt x="869" y="429"/>
                  <a:pt x="798" y="435"/>
                </a:cubicBezTo>
                <a:cubicBezTo>
                  <a:pt x="724" y="442"/>
                  <a:pt x="649" y="443"/>
                  <a:pt x="574" y="447"/>
                </a:cubicBezTo>
                <a:cubicBezTo>
                  <a:pt x="442" y="481"/>
                  <a:pt x="310" y="476"/>
                  <a:pt x="174" y="482"/>
                </a:cubicBezTo>
                <a:cubicBezTo>
                  <a:pt x="155" y="486"/>
                  <a:pt x="135" y="489"/>
                  <a:pt x="116" y="494"/>
                </a:cubicBezTo>
                <a:cubicBezTo>
                  <a:pt x="104" y="497"/>
                  <a:pt x="92" y="511"/>
                  <a:pt x="80" y="506"/>
                </a:cubicBezTo>
                <a:cubicBezTo>
                  <a:pt x="67" y="501"/>
                  <a:pt x="63" y="484"/>
                  <a:pt x="57" y="471"/>
                </a:cubicBezTo>
                <a:cubicBezTo>
                  <a:pt x="37" y="431"/>
                  <a:pt x="35" y="383"/>
                  <a:pt x="21" y="341"/>
                </a:cubicBezTo>
                <a:cubicBezTo>
                  <a:pt x="46" y="80"/>
                  <a:pt x="0" y="163"/>
                  <a:pt x="68" y="5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4680" y="3809880"/>
            <a:ext cx="7581960" cy="1295640"/>
          </a:xfrm>
          <a:custGeom>
            <a:avLst/>
            <a:gdLst/>
            <a:ahLst/>
            <a:rect l="l" t="t" r="r" b="b"/>
            <a:pathLst>
              <a:path w="4776" h="410">
                <a:moveTo>
                  <a:pt x="0" y="410"/>
                </a:moveTo>
                <a:cubicBezTo>
                  <a:pt x="75" y="391"/>
                  <a:pt x="114" y="382"/>
                  <a:pt x="176" y="339"/>
                </a:cubicBezTo>
                <a:cubicBezTo>
                  <a:pt x="180" y="327"/>
                  <a:pt x="183" y="315"/>
                  <a:pt x="188" y="304"/>
                </a:cubicBezTo>
                <a:cubicBezTo>
                  <a:pt x="194" y="291"/>
                  <a:pt x="206" y="281"/>
                  <a:pt x="211" y="268"/>
                </a:cubicBezTo>
                <a:cubicBezTo>
                  <a:pt x="236" y="200"/>
                  <a:pt x="255" y="102"/>
                  <a:pt x="270" y="33"/>
                </a:cubicBezTo>
                <a:cubicBezTo>
                  <a:pt x="298" y="197"/>
                  <a:pt x="270" y="0"/>
                  <a:pt x="270" y="292"/>
                </a:cubicBezTo>
                <a:cubicBezTo>
                  <a:pt x="270" y="304"/>
                  <a:pt x="279" y="269"/>
                  <a:pt x="282" y="257"/>
                </a:cubicBezTo>
                <a:cubicBezTo>
                  <a:pt x="302" y="185"/>
                  <a:pt x="299" y="181"/>
                  <a:pt x="317" y="127"/>
                </a:cubicBezTo>
                <a:cubicBezTo>
                  <a:pt x="325" y="104"/>
                  <a:pt x="341" y="57"/>
                  <a:pt x="341" y="57"/>
                </a:cubicBezTo>
                <a:cubicBezTo>
                  <a:pt x="349" y="88"/>
                  <a:pt x="367" y="119"/>
                  <a:pt x="364" y="151"/>
                </a:cubicBezTo>
                <a:cubicBezTo>
                  <a:pt x="360" y="198"/>
                  <a:pt x="344" y="246"/>
                  <a:pt x="353" y="292"/>
                </a:cubicBezTo>
                <a:cubicBezTo>
                  <a:pt x="355" y="304"/>
                  <a:pt x="376" y="284"/>
                  <a:pt x="388" y="280"/>
                </a:cubicBezTo>
                <a:cubicBezTo>
                  <a:pt x="392" y="264"/>
                  <a:pt x="391" y="246"/>
                  <a:pt x="400" y="233"/>
                </a:cubicBezTo>
                <a:cubicBezTo>
                  <a:pt x="457" y="148"/>
                  <a:pt x="420" y="273"/>
                  <a:pt x="447" y="174"/>
                </a:cubicBezTo>
                <a:cubicBezTo>
                  <a:pt x="455" y="143"/>
                  <a:pt x="470" y="80"/>
                  <a:pt x="470" y="80"/>
                </a:cubicBezTo>
                <a:cubicBezTo>
                  <a:pt x="466" y="123"/>
                  <a:pt x="464" y="167"/>
                  <a:pt x="459" y="210"/>
                </a:cubicBezTo>
                <a:cubicBezTo>
                  <a:pt x="456" y="234"/>
                  <a:pt x="438" y="258"/>
                  <a:pt x="447" y="280"/>
                </a:cubicBezTo>
                <a:cubicBezTo>
                  <a:pt x="453" y="295"/>
                  <a:pt x="478" y="288"/>
                  <a:pt x="494" y="292"/>
                </a:cubicBezTo>
                <a:cubicBezTo>
                  <a:pt x="541" y="288"/>
                  <a:pt x="588" y="286"/>
                  <a:pt x="635" y="280"/>
                </a:cubicBezTo>
                <a:cubicBezTo>
                  <a:pt x="651" y="278"/>
                  <a:pt x="666" y="268"/>
                  <a:pt x="682" y="268"/>
                </a:cubicBezTo>
                <a:cubicBezTo>
                  <a:pt x="741" y="268"/>
                  <a:pt x="799" y="285"/>
                  <a:pt x="858" y="292"/>
                </a:cubicBezTo>
                <a:cubicBezTo>
                  <a:pt x="933" y="288"/>
                  <a:pt x="1007" y="284"/>
                  <a:pt x="1082" y="280"/>
                </a:cubicBezTo>
                <a:cubicBezTo>
                  <a:pt x="1278" y="268"/>
                  <a:pt x="1310" y="293"/>
                  <a:pt x="1211" y="245"/>
                </a:cubicBezTo>
                <a:cubicBezTo>
                  <a:pt x="1168" y="179"/>
                  <a:pt x="1101" y="194"/>
                  <a:pt x="1023" y="186"/>
                </a:cubicBezTo>
                <a:cubicBezTo>
                  <a:pt x="1083" y="166"/>
                  <a:pt x="1096" y="163"/>
                  <a:pt x="1164" y="174"/>
                </a:cubicBezTo>
                <a:cubicBezTo>
                  <a:pt x="1248" y="202"/>
                  <a:pt x="1221" y="177"/>
                  <a:pt x="1258" y="233"/>
                </a:cubicBezTo>
                <a:cubicBezTo>
                  <a:pt x="1262" y="182"/>
                  <a:pt x="1255" y="129"/>
                  <a:pt x="1270" y="80"/>
                </a:cubicBezTo>
                <a:cubicBezTo>
                  <a:pt x="1274" y="66"/>
                  <a:pt x="1291" y="101"/>
                  <a:pt x="1294" y="115"/>
                </a:cubicBezTo>
                <a:cubicBezTo>
                  <a:pt x="1303" y="154"/>
                  <a:pt x="1301" y="194"/>
                  <a:pt x="1305" y="233"/>
                </a:cubicBezTo>
                <a:cubicBezTo>
                  <a:pt x="1385" y="182"/>
                  <a:pt x="1423" y="201"/>
                  <a:pt x="1529" y="210"/>
                </a:cubicBezTo>
                <a:cubicBezTo>
                  <a:pt x="1517" y="214"/>
                  <a:pt x="1506" y="219"/>
                  <a:pt x="1494" y="221"/>
                </a:cubicBezTo>
                <a:cubicBezTo>
                  <a:pt x="1467" y="226"/>
                  <a:pt x="1438" y="227"/>
                  <a:pt x="1411" y="233"/>
                </a:cubicBezTo>
                <a:cubicBezTo>
                  <a:pt x="1387" y="239"/>
                  <a:pt x="1341" y="257"/>
                  <a:pt x="1341" y="257"/>
                </a:cubicBezTo>
                <a:cubicBezTo>
                  <a:pt x="1333" y="269"/>
                  <a:pt x="1305" y="284"/>
                  <a:pt x="1317" y="292"/>
                </a:cubicBezTo>
                <a:cubicBezTo>
                  <a:pt x="1345" y="310"/>
                  <a:pt x="1400" y="259"/>
                  <a:pt x="1423" y="257"/>
                </a:cubicBezTo>
                <a:cubicBezTo>
                  <a:pt x="1521" y="247"/>
                  <a:pt x="1619" y="249"/>
                  <a:pt x="1717" y="245"/>
                </a:cubicBezTo>
                <a:cubicBezTo>
                  <a:pt x="1842" y="213"/>
                  <a:pt x="1686" y="245"/>
                  <a:pt x="1811" y="245"/>
                </a:cubicBezTo>
                <a:cubicBezTo>
                  <a:pt x="1933" y="245"/>
                  <a:pt x="2054" y="237"/>
                  <a:pt x="2176" y="233"/>
                </a:cubicBezTo>
                <a:cubicBezTo>
                  <a:pt x="2244" y="247"/>
                  <a:pt x="2310" y="257"/>
                  <a:pt x="2376" y="280"/>
                </a:cubicBezTo>
                <a:cubicBezTo>
                  <a:pt x="2394" y="229"/>
                  <a:pt x="2385" y="216"/>
                  <a:pt x="2341" y="186"/>
                </a:cubicBezTo>
                <a:cubicBezTo>
                  <a:pt x="2333" y="174"/>
                  <a:pt x="2305" y="159"/>
                  <a:pt x="2317" y="151"/>
                </a:cubicBezTo>
                <a:cubicBezTo>
                  <a:pt x="2325" y="146"/>
                  <a:pt x="2395" y="169"/>
                  <a:pt x="2411" y="174"/>
                </a:cubicBezTo>
                <a:cubicBezTo>
                  <a:pt x="2419" y="190"/>
                  <a:pt x="2424" y="207"/>
                  <a:pt x="2435" y="221"/>
                </a:cubicBezTo>
                <a:cubicBezTo>
                  <a:pt x="2444" y="232"/>
                  <a:pt x="2462" y="257"/>
                  <a:pt x="2470" y="245"/>
                </a:cubicBezTo>
                <a:cubicBezTo>
                  <a:pt x="2488" y="219"/>
                  <a:pt x="2478" y="182"/>
                  <a:pt x="2482" y="151"/>
                </a:cubicBezTo>
                <a:cubicBezTo>
                  <a:pt x="2483" y="155"/>
                  <a:pt x="2498" y="233"/>
                  <a:pt x="2517" y="233"/>
                </a:cubicBezTo>
                <a:cubicBezTo>
                  <a:pt x="2529" y="233"/>
                  <a:pt x="2525" y="210"/>
                  <a:pt x="2529" y="198"/>
                </a:cubicBezTo>
                <a:cubicBezTo>
                  <a:pt x="2557" y="212"/>
                  <a:pt x="2581" y="237"/>
                  <a:pt x="2611" y="245"/>
                </a:cubicBezTo>
                <a:cubicBezTo>
                  <a:pt x="2694" y="267"/>
                  <a:pt x="2795" y="277"/>
                  <a:pt x="2882" y="292"/>
                </a:cubicBezTo>
                <a:cubicBezTo>
                  <a:pt x="3029" y="254"/>
                  <a:pt x="3183" y="281"/>
                  <a:pt x="3329" y="315"/>
                </a:cubicBezTo>
                <a:cubicBezTo>
                  <a:pt x="3341" y="311"/>
                  <a:pt x="3362" y="316"/>
                  <a:pt x="3364" y="304"/>
                </a:cubicBezTo>
                <a:cubicBezTo>
                  <a:pt x="3373" y="234"/>
                  <a:pt x="3345" y="235"/>
                  <a:pt x="3305" y="221"/>
                </a:cubicBezTo>
                <a:cubicBezTo>
                  <a:pt x="3301" y="209"/>
                  <a:pt x="3301" y="196"/>
                  <a:pt x="3293" y="186"/>
                </a:cubicBezTo>
                <a:cubicBezTo>
                  <a:pt x="3256" y="140"/>
                  <a:pt x="3240" y="190"/>
                  <a:pt x="3282" y="127"/>
                </a:cubicBezTo>
                <a:cubicBezTo>
                  <a:pt x="3368" y="157"/>
                  <a:pt x="3330" y="140"/>
                  <a:pt x="3399" y="174"/>
                </a:cubicBezTo>
                <a:cubicBezTo>
                  <a:pt x="3403" y="190"/>
                  <a:pt x="3407" y="205"/>
                  <a:pt x="3411" y="221"/>
                </a:cubicBezTo>
                <a:cubicBezTo>
                  <a:pt x="3415" y="241"/>
                  <a:pt x="3404" y="286"/>
                  <a:pt x="3423" y="280"/>
                </a:cubicBezTo>
                <a:cubicBezTo>
                  <a:pt x="3446" y="273"/>
                  <a:pt x="3424" y="221"/>
                  <a:pt x="3446" y="210"/>
                </a:cubicBezTo>
                <a:cubicBezTo>
                  <a:pt x="3462" y="202"/>
                  <a:pt x="3477" y="194"/>
                  <a:pt x="3493" y="186"/>
                </a:cubicBezTo>
                <a:cubicBezTo>
                  <a:pt x="3497" y="174"/>
                  <a:pt x="3493" y="151"/>
                  <a:pt x="3505" y="151"/>
                </a:cubicBezTo>
                <a:cubicBezTo>
                  <a:pt x="3517" y="151"/>
                  <a:pt x="3513" y="174"/>
                  <a:pt x="3517" y="186"/>
                </a:cubicBezTo>
                <a:cubicBezTo>
                  <a:pt x="3525" y="213"/>
                  <a:pt x="3532" y="241"/>
                  <a:pt x="3540" y="268"/>
                </a:cubicBezTo>
                <a:cubicBezTo>
                  <a:pt x="3572" y="261"/>
                  <a:pt x="3603" y="246"/>
                  <a:pt x="3635" y="268"/>
                </a:cubicBezTo>
                <a:cubicBezTo>
                  <a:pt x="3647" y="276"/>
                  <a:pt x="3644" y="301"/>
                  <a:pt x="3658" y="304"/>
                </a:cubicBezTo>
                <a:cubicBezTo>
                  <a:pt x="3727" y="318"/>
                  <a:pt x="3799" y="311"/>
                  <a:pt x="3870" y="315"/>
                </a:cubicBezTo>
                <a:cubicBezTo>
                  <a:pt x="3932" y="305"/>
                  <a:pt x="3964" y="289"/>
                  <a:pt x="4023" y="304"/>
                </a:cubicBezTo>
                <a:cubicBezTo>
                  <a:pt x="4103" y="292"/>
                  <a:pt x="4167" y="294"/>
                  <a:pt x="4246" y="315"/>
                </a:cubicBezTo>
                <a:cubicBezTo>
                  <a:pt x="4277" y="323"/>
                  <a:pt x="4340" y="339"/>
                  <a:pt x="4340" y="339"/>
                </a:cubicBezTo>
                <a:cubicBezTo>
                  <a:pt x="4492" y="324"/>
                  <a:pt x="4434" y="322"/>
                  <a:pt x="4599" y="339"/>
                </a:cubicBezTo>
                <a:cubicBezTo>
                  <a:pt x="4630" y="342"/>
                  <a:pt x="4662" y="346"/>
                  <a:pt x="4693" y="351"/>
                </a:cubicBezTo>
                <a:cubicBezTo>
                  <a:pt x="4709" y="354"/>
                  <a:pt x="4724" y="359"/>
                  <a:pt x="4740" y="363"/>
                </a:cubicBezTo>
                <a:cubicBezTo>
                  <a:pt x="4752" y="366"/>
                  <a:pt x="4776" y="374"/>
                  <a:pt x="4776" y="37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" action="ppaction://hlinkshowjump?jump=previousslide"/>
          </p:cNvPr>
          <p:cNvSpPr/>
          <p:nvPr/>
        </p:nvSpPr>
        <p:spPr>
          <a:xfrm>
            <a:off x="68580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previousslide"/>
          </p:cNvPr>
          <p:cNvSpPr/>
          <p:nvPr/>
        </p:nvSpPr>
        <p:spPr>
          <a:xfrm>
            <a:off x="609480" y="44956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785920" y="4254120"/>
            <a:ext cx="1394280" cy="609840"/>
            <a:chOff x="5785920" y="4254120"/>
            <a:chExt cx="1394280" cy="609840"/>
          </a:xfrm>
        </p:grpSpPr>
        <p:sp>
          <p:nvSpPr>
            <p:cNvPr id="382" name=""/>
            <p:cNvSpPr/>
            <p:nvPr/>
          </p:nvSpPr>
          <p:spPr>
            <a:xfrm flipH="1">
              <a:off x="6777000" y="4530600"/>
              <a:ext cx="403200" cy="33336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193" y="47"/>
                  </a:moveTo>
                  <a:cubicBezTo>
                    <a:pt x="181" y="39"/>
                    <a:pt x="171" y="30"/>
                    <a:pt x="158" y="24"/>
                  </a:cubicBezTo>
                  <a:cubicBezTo>
                    <a:pt x="135" y="14"/>
                    <a:pt x="87" y="0"/>
                    <a:pt x="87" y="0"/>
                  </a:cubicBezTo>
                  <a:cubicBezTo>
                    <a:pt x="0" y="30"/>
                    <a:pt x="41" y="119"/>
                    <a:pt x="87" y="165"/>
                  </a:cubicBezTo>
                  <a:cubicBezTo>
                    <a:pt x="109" y="187"/>
                    <a:pt x="130" y="191"/>
                    <a:pt x="158" y="200"/>
                  </a:cubicBezTo>
                  <a:cubicBezTo>
                    <a:pt x="185" y="196"/>
                    <a:pt x="224" y="210"/>
                    <a:pt x="240" y="188"/>
                  </a:cubicBezTo>
                  <a:cubicBezTo>
                    <a:pt x="254" y="168"/>
                    <a:pt x="222" y="142"/>
                    <a:pt x="217" y="118"/>
                  </a:cubicBezTo>
                  <a:cubicBezTo>
                    <a:pt x="213" y="98"/>
                    <a:pt x="211" y="78"/>
                    <a:pt x="205" y="59"/>
                  </a:cubicBezTo>
                  <a:cubicBezTo>
                    <a:pt x="203" y="54"/>
                    <a:pt x="197" y="51"/>
                    <a:pt x="193" y="47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rot="12426600">
              <a:off x="6026040" y="4267080"/>
              <a:ext cx="7632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785560" y="4267080"/>
              <a:ext cx="474840" cy="309600"/>
            </a:xfrm>
            <a:custGeom>
              <a:avLst/>
              <a:gdLst/>
              <a:ahLst/>
              <a:rect l="l" t="t" r="r" b="b"/>
              <a:pathLst>
                <a:path w="299" h="195">
                  <a:moveTo>
                    <a:pt x="162" y="195"/>
                  </a:moveTo>
                  <a:cubicBezTo>
                    <a:pt x="101" y="185"/>
                    <a:pt x="70" y="182"/>
                    <a:pt x="21" y="148"/>
                  </a:cubicBezTo>
                  <a:cubicBezTo>
                    <a:pt x="0" y="87"/>
                    <a:pt x="2" y="67"/>
                    <a:pt x="56" y="31"/>
                  </a:cubicBezTo>
                  <a:cubicBezTo>
                    <a:pt x="299" y="47"/>
                    <a:pt x="176" y="0"/>
                    <a:pt x="256" y="125"/>
                  </a:cubicBezTo>
                  <a:cubicBezTo>
                    <a:pt x="248" y="150"/>
                    <a:pt x="247" y="181"/>
                    <a:pt x="209" y="184"/>
                  </a:cubicBezTo>
                  <a:cubicBezTo>
                    <a:pt x="135" y="190"/>
                    <a:pt x="41" y="147"/>
                    <a:pt x="162" y="195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063480" y="4343400"/>
              <a:ext cx="343080" cy="37476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188" y="106"/>
                  </a:moveTo>
                  <a:cubicBezTo>
                    <a:pt x="175" y="49"/>
                    <a:pt x="187" y="31"/>
                    <a:pt x="129" y="12"/>
                  </a:cubicBezTo>
                  <a:cubicBezTo>
                    <a:pt x="119" y="13"/>
                    <a:pt x="0" y="0"/>
                    <a:pt x="0" y="59"/>
                  </a:cubicBezTo>
                  <a:cubicBezTo>
                    <a:pt x="0" y="136"/>
                    <a:pt x="64" y="176"/>
                    <a:pt x="118" y="212"/>
                  </a:cubicBezTo>
                  <a:cubicBezTo>
                    <a:pt x="130" y="220"/>
                    <a:pt x="153" y="236"/>
                    <a:pt x="153" y="236"/>
                  </a:cubicBezTo>
                  <a:cubicBezTo>
                    <a:pt x="165" y="232"/>
                    <a:pt x="179" y="233"/>
                    <a:pt x="188" y="224"/>
                  </a:cubicBezTo>
                  <a:cubicBezTo>
                    <a:pt x="216" y="196"/>
                    <a:pt x="188" y="140"/>
                    <a:pt x="188" y="106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6220800" y="4357800"/>
              <a:ext cx="298440" cy="365040"/>
            </a:xfrm>
            <a:custGeom>
              <a:avLst/>
              <a:gdLst/>
              <a:ahLst/>
              <a:rect l="l" t="t" r="r" b="b"/>
              <a:pathLst>
                <a:path w="188" h="230">
                  <a:moveTo>
                    <a:pt x="130" y="74"/>
                  </a:moveTo>
                  <a:cubicBezTo>
                    <a:pt x="126" y="58"/>
                    <a:pt x="133" y="32"/>
                    <a:pt x="118" y="27"/>
                  </a:cubicBezTo>
                  <a:cubicBezTo>
                    <a:pt x="38" y="0"/>
                    <a:pt x="29" y="31"/>
                    <a:pt x="0" y="74"/>
                  </a:cubicBezTo>
                  <a:cubicBezTo>
                    <a:pt x="13" y="137"/>
                    <a:pt x="19" y="156"/>
                    <a:pt x="71" y="192"/>
                  </a:cubicBezTo>
                  <a:cubicBezTo>
                    <a:pt x="79" y="204"/>
                    <a:pt x="82" y="223"/>
                    <a:pt x="95" y="227"/>
                  </a:cubicBezTo>
                  <a:cubicBezTo>
                    <a:pt x="103" y="230"/>
                    <a:pt x="166" y="207"/>
                    <a:pt x="177" y="203"/>
                  </a:cubicBezTo>
                  <a:cubicBezTo>
                    <a:pt x="151" y="78"/>
                    <a:pt x="188" y="104"/>
                    <a:pt x="130" y="7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319800" y="4365720"/>
              <a:ext cx="393840" cy="333360"/>
            </a:xfrm>
            <a:custGeom>
              <a:avLst/>
              <a:gdLst/>
              <a:ahLst/>
              <a:rect l="l" t="t" r="r" b="b"/>
              <a:pathLst>
                <a:path w="248" h="210">
                  <a:moveTo>
                    <a:pt x="193" y="92"/>
                  </a:moveTo>
                  <a:cubicBezTo>
                    <a:pt x="139" y="12"/>
                    <a:pt x="173" y="31"/>
                    <a:pt x="111" y="10"/>
                  </a:cubicBezTo>
                  <a:cubicBezTo>
                    <a:pt x="80" y="14"/>
                    <a:pt x="39" y="0"/>
                    <a:pt x="17" y="22"/>
                  </a:cubicBezTo>
                  <a:cubicBezTo>
                    <a:pt x="0" y="39"/>
                    <a:pt x="23" y="69"/>
                    <a:pt x="28" y="92"/>
                  </a:cubicBezTo>
                  <a:cubicBezTo>
                    <a:pt x="44" y="167"/>
                    <a:pt x="113" y="193"/>
                    <a:pt x="181" y="210"/>
                  </a:cubicBezTo>
                  <a:cubicBezTo>
                    <a:pt x="193" y="206"/>
                    <a:pt x="207" y="206"/>
                    <a:pt x="217" y="198"/>
                  </a:cubicBezTo>
                  <a:cubicBezTo>
                    <a:pt x="248" y="174"/>
                    <a:pt x="248" y="152"/>
                    <a:pt x="217" y="128"/>
                  </a:cubicBezTo>
                  <a:cubicBezTo>
                    <a:pt x="207" y="120"/>
                    <a:pt x="188" y="127"/>
                    <a:pt x="181" y="116"/>
                  </a:cubicBezTo>
                  <a:cubicBezTo>
                    <a:pt x="176" y="109"/>
                    <a:pt x="189" y="100"/>
                    <a:pt x="193" y="9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492240" y="443376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39" y="38"/>
                  </a:moveTo>
                  <a:cubicBezTo>
                    <a:pt x="56" y="9"/>
                    <a:pt x="89" y="0"/>
                    <a:pt x="34" y="38"/>
                  </a:cubicBezTo>
                  <a:cubicBezTo>
                    <a:pt x="26" y="50"/>
                    <a:pt x="11" y="59"/>
                    <a:pt x="10" y="73"/>
                  </a:cubicBezTo>
                  <a:cubicBezTo>
                    <a:pt x="0" y="172"/>
                    <a:pt x="55" y="180"/>
                    <a:pt x="128" y="202"/>
                  </a:cubicBezTo>
                  <a:cubicBezTo>
                    <a:pt x="147" y="198"/>
                    <a:pt x="170" y="202"/>
                    <a:pt x="186" y="191"/>
                  </a:cubicBezTo>
                  <a:cubicBezTo>
                    <a:pt x="197" y="184"/>
                    <a:pt x="198" y="168"/>
                    <a:pt x="198" y="155"/>
                  </a:cubicBezTo>
                  <a:cubicBezTo>
                    <a:pt x="198" y="107"/>
                    <a:pt x="203" y="38"/>
                    <a:pt x="139" y="38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716880" y="4475160"/>
              <a:ext cx="263520" cy="333360"/>
            </a:xfrm>
            <a:custGeom>
              <a:avLst/>
              <a:gdLst/>
              <a:ahLst/>
              <a:rect l="l" t="t" r="r" b="b"/>
              <a:pathLst>
                <a:path w="208" h="276">
                  <a:moveTo>
                    <a:pt x="185" y="70"/>
                  </a:moveTo>
                  <a:cubicBezTo>
                    <a:pt x="169" y="62"/>
                    <a:pt x="153" y="56"/>
                    <a:pt x="138" y="47"/>
                  </a:cubicBezTo>
                  <a:cubicBezTo>
                    <a:pt x="114" y="33"/>
                    <a:pt x="67" y="0"/>
                    <a:pt x="67" y="0"/>
                  </a:cubicBezTo>
                  <a:cubicBezTo>
                    <a:pt x="0" y="44"/>
                    <a:pt x="18" y="80"/>
                    <a:pt x="32" y="165"/>
                  </a:cubicBezTo>
                  <a:cubicBezTo>
                    <a:pt x="34" y="177"/>
                    <a:pt x="34" y="191"/>
                    <a:pt x="43" y="200"/>
                  </a:cubicBezTo>
                  <a:cubicBezTo>
                    <a:pt x="56" y="212"/>
                    <a:pt x="75" y="215"/>
                    <a:pt x="91" y="223"/>
                  </a:cubicBezTo>
                  <a:cubicBezTo>
                    <a:pt x="121" y="269"/>
                    <a:pt x="133" y="276"/>
                    <a:pt x="185" y="259"/>
                  </a:cubicBezTo>
                  <a:cubicBezTo>
                    <a:pt x="192" y="235"/>
                    <a:pt x="208" y="213"/>
                    <a:pt x="208" y="188"/>
                  </a:cubicBezTo>
                  <a:cubicBezTo>
                    <a:pt x="208" y="145"/>
                    <a:pt x="185" y="111"/>
                    <a:pt x="185" y="70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920560" y="4368960"/>
              <a:ext cx="111240" cy="1267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18" y="0"/>
                  </a:moveTo>
                  <a:cubicBezTo>
                    <a:pt x="102" y="11"/>
                    <a:pt x="0" y="78"/>
                    <a:pt x="0" y="12"/>
                  </a:cubicBez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>
            <a:hlinkClick r:id="" action="ppaction://hlinkshowjump?jump=firstslide"/>
          </p:cNvPr>
          <p:cNvSpPr/>
          <p:nvPr/>
        </p:nvSpPr>
        <p:spPr>
          <a:xfrm>
            <a:off x="3962520" y="4876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7620120" y="49528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5257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a farfalla si posò su un fiore lì vic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3352680"/>
            <a:ext cx="1904760" cy="685800"/>
          </a:xfrm>
          <a:prstGeom prst="wedgeRoundRectCallout">
            <a:avLst>
              <a:gd name="adj1" fmla="val -42250"/>
              <a:gd name="adj2" fmla="val 810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vver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-380880" y="5715000"/>
            <a:ext cx="9856800" cy="137160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28600" y="6095880"/>
            <a:ext cx="554040" cy="549360"/>
            <a:chOff x="228600" y="6095880"/>
            <a:chExt cx="554040" cy="549360"/>
          </a:xfrm>
        </p:grpSpPr>
        <p:sp>
          <p:nvSpPr>
            <p:cNvPr id="397" name=""/>
            <p:cNvSpPr/>
            <p:nvPr/>
          </p:nvSpPr>
          <p:spPr>
            <a:xfrm>
              <a:off x="405720" y="6286680"/>
              <a:ext cx="212040" cy="22968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8600" y="6095880"/>
              <a:ext cx="554040" cy="54936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5720" y="6163200"/>
              <a:ext cx="102960" cy="27864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0640" y="6190200"/>
              <a:ext cx="154800" cy="18792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6920" y="6336360"/>
              <a:ext cx="81000" cy="8460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6440" y="6465240"/>
              <a:ext cx="59400" cy="11628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1040" y="6239880"/>
              <a:ext cx="75960" cy="7740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9200" y="6300720"/>
              <a:ext cx="88920" cy="781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1480" y="613512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 rot="10800000">
              <a:off x="293760" y="645048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124080" y="6248520"/>
            <a:ext cx="685800" cy="609480"/>
            <a:chOff x="3124080" y="6248520"/>
            <a:chExt cx="685800" cy="609480"/>
          </a:xfrm>
        </p:grpSpPr>
        <p:grpSp>
          <p:nvGrpSpPr>
            <p:cNvPr id="408" name=""/>
            <p:cNvGrpSpPr/>
            <p:nvPr/>
          </p:nvGrpSpPr>
          <p:grpSpPr>
            <a:xfrm>
              <a:off x="3166560" y="6248520"/>
              <a:ext cx="628920" cy="562320"/>
              <a:chOff x="3166560" y="6248520"/>
              <a:chExt cx="628920" cy="562320"/>
            </a:xfrm>
          </p:grpSpPr>
          <p:sp>
            <p:nvSpPr>
              <p:cNvPr id="409" name=""/>
              <p:cNvSpPr/>
              <p:nvPr/>
            </p:nvSpPr>
            <p:spPr>
              <a:xfrm>
                <a:off x="326448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64284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1836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51612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34188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17412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16656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44772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34836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31344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33648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36240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45528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47436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5400000">
                <a:off x="351036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>
              <a:hlinkClick r:id="" action="ppaction://hlinkshowjump?jump=firstslide"/>
            </p:cNvPr>
            <p:cNvSpPr/>
            <p:nvPr/>
          </p:nvSpPr>
          <p:spPr>
            <a:xfrm>
              <a:off x="312408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8001000" y="6324480"/>
            <a:ext cx="914400" cy="533520"/>
            <a:chOff x="8001000" y="6324480"/>
            <a:chExt cx="914400" cy="533520"/>
          </a:xfrm>
        </p:grpSpPr>
        <p:grpSp>
          <p:nvGrpSpPr>
            <p:cNvPr id="426" name=""/>
            <p:cNvGrpSpPr/>
            <p:nvPr/>
          </p:nvGrpSpPr>
          <p:grpSpPr>
            <a:xfrm>
              <a:off x="8001000" y="6390720"/>
              <a:ext cx="846720" cy="333360"/>
              <a:chOff x="8001000" y="6390720"/>
              <a:chExt cx="846720" cy="333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8001000" y="6390720"/>
                <a:ext cx="846720" cy="333360"/>
                <a:chOff x="8001000" y="6390720"/>
                <a:chExt cx="846720" cy="3333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8553240" y="640800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8001000" y="6390720"/>
                  <a:ext cx="693000" cy="333360"/>
                  <a:chOff x="8001000" y="6390720"/>
                  <a:chExt cx="693000" cy="33336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8481240" y="639072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8411040" y="639972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8290800" y="640476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8227800" y="6448320"/>
                    <a:ext cx="199800" cy="20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8125200" y="647496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8001000" y="651060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6" name=""/>
              <p:cNvSpPr/>
              <p:nvPr/>
            </p:nvSpPr>
            <p:spPr>
              <a:xfrm>
                <a:off x="8710920" y="648828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>
              <a:hlinkClick r:id="" action="ppaction://hlinkshowjump?jump=nextslide"/>
            </p:cNvPr>
            <p:cNvSpPr/>
            <p:nvPr/>
          </p:nvSpPr>
          <p:spPr>
            <a:xfrm>
              <a:off x="8001000" y="6324480"/>
              <a:ext cx="914400" cy="53352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520"/>
                <a:gd name="textAreaBottom" fmla="*/ 498960 h 533520"/>
              </a:gdLst>
              <a:ahLst/>
              <a:rect l="textAreaLeft" t="textAreaTop" r="textAreaRight" b="textAreaBottom"/>
              <a:pathLst>
                <a:path w="37010" h="21600">
                  <a:moveTo>
                    <a:pt x="0" y="0"/>
                  </a:moveTo>
                  <a:lnTo>
                    <a:pt x="37010" y="0"/>
                  </a:lnTo>
                  <a:lnTo>
                    <a:pt x="37010" y="21600"/>
                  </a:lnTo>
                  <a:lnTo>
                    <a:pt x="0" y="21600"/>
                  </a:lnTo>
                  <a:close/>
                </a:path>
                <a:path fill="lightenLess" w="37010" h="21600">
                  <a:moveTo>
                    <a:pt x="0" y="0"/>
                  </a:moveTo>
                  <a:lnTo>
                    <a:pt x="37010" y="0"/>
                  </a:lnTo>
                  <a:lnTo>
                    <a:pt x="35610" y="1400"/>
                  </a:lnTo>
                  <a:lnTo>
                    <a:pt x="1400" y="1400"/>
                  </a:lnTo>
                  <a:close/>
                </a:path>
                <a:path fill="darken" w="37010" h="21600">
                  <a:moveTo>
                    <a:pt x="37010" y="0"/>
                  </a:moveTo>
                  <a:lnTo>
                    <a:pt x="37010" y="21600"/>
                  </a:lnTo>
                  <a:lnTo>
                    <a:pt x="35610" y="20200"/>
                  </a:lnTo>
                  <a:lnTo>
                    <a:pt x="35610" y="1400"/>
                  </a:lnTo>
                  <a:close/>
                </a:path>
                <a:path fill="darkenLess" w="37010" h="21600">
                  <a:moveTo>
                    <a:pt x="3701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10" y="20200"/>
                  </a:lnTo>
                  <a:close/>
                </a:path>
                <a:path fill="lighten" w="3701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>
            <a:hlinkClick r:id="" action="ppaction://hlinkshowjump?jump=previousslide"/>
          </p:cNvPr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firstslide"/>
          </p:cNvPr>
          <p:cNvSpPr/>
          <p:nvPr/>
        </p:nvSpPr>
        <p:spPr>
          <a:xfrm>
            <a:off x="3124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10080" y="6095880"/>
            <a:ext cx="76212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11"/>
          </p:cNvPr>
          <p:cNvSpPr/>
          <p:nvPr/>
        </p:nvSpPr>
        <p:spPr>
          <a:xfrm>
            <a:off x="5410080" y="60958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2331360" y="3634560"/>
            <a:ext cx="811080" cy="506520"/>
            <a:chOff x="2331360" y="3634560"/>
            <a:chExt cx="811080" cy="506520"/>
          </a:xfrm>
        </p:grpSpPr>
        <p:sp>
          <p:nvSpPr>
            <p:cNvPr id="444" name=""/>
            <p:cNvSpPr/>
            <p:nvPr/>
          </p:nvSpPr>
          <p:spPr>
            <a:xfrm rot="15625200">
              <a:off x="2586600" y="3557160"/>
              <a:ext cx="374400" cy="684360"/>
            </a:xfrm>
            <a:custGeom>
              <a:avLst/>
              <a:gdLst/>
              <a:ahLst/>
              <a:rect l="l" t="t" r="r" b="b"/>
              <a:pathLst>
                <a:path w="141" h="346">
                  <a:moveTo>
                    <a:pt x="141" y="0"/>
                  </a:moveTo>
                  <a:cubicBezTo>
                    <a:pt x="133" y="12"/>
                    <a:pt x="129" y="26"/>
                    <a:pt x="118" y="35"/>
                  </a:cubicBezTo>
                  <a:cubicBezTo>
                    <a:pt x="108" y="43"/>
                    <a:pt x="91" y="38"/>
                    <a:pt x="82" y="47"/>
                  </a:cubicBezTo>
                  <a:cubicBezTo>
                    <a:pt x="62" y="67"/>
                    <a:pt x="35" y="117"/>
                    <a:pt x="35" y="117"/>
                  </a:cubicBezTo>
                  <a:cubicBezTo>
                    <a:pt x="31" y="180"/>
                    <a:pt x="30" y="243"/>
                    <a:pt x="24" y="305"/>
                  </a:cubicBezTo>
                  <a:cubicBezTo>
                    <a:pt x="23" y="318"/>
                    <a:pt x="0" y="338"/>
                    <a:pt x="12" y="341"/>
                  </a:cubicBezTo>
                  <a:cubicBezTo>
                    <a:pt x="36" y="346"/>
                    <a:pt x="82" y="317"/>
                    <a:pt x="82" y="317"/>
                  </a:cubicBezTo>
                  <a:cubicBezTo>
                    <a:pt x="117" y="214"/>
                    <a:pt x="122" y="108"/>
                    <a:pt x="141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5625200">
              <a:off x="2490840" y="3534120"/>
              <a:ext cx="246240" cy="531720"/>
            </a:xfrm>
            <a:custGeom>
              <a:avLst/>
              <a:gdLst/>
              <a:ahLst/>
              <a:rect l="l" t="t" r="r" b="b"/>
              <a:pathLst>
                <a:path w="155" h="335">
                  <a:moveTo>
                    <a:pt x="141" y="17"/>
                  </a:moveTo>
                  <a:cubicBezTo>
                    <a:pt x="111" y="105"/>
                    <a:pt x="155" y="0"/>
                    <a:pt x="94" y="76"/>
                  </a:cubicBezTo>
                  <a:cubicBezTo>
                    <a:pt x="86" y="86"/>
                    <a:pt x="88" y="100"/>
                    <a:pt x="82" y="111"/>
                  </a:cubicBezTo>
                  <a:cubicBezTo>
                    <a:pt x="76" y="124"/>
                    <a:pt x="66" y="134"/>
                    <a:pt x="58" y="146"/>
                  </a:cubicBezTo>
                  <a:cubicBezTo>
                    <a:pt x="46" y="185"/>
                    <a:pt x="35" y="225"/>
                    <a:pt x="23" y="264"/>
                  </a:cubicBezTo>
                  <a:cubicBezTo>
                    <a:pt x="20" y="276"/>
                    <a:pt x="15" y="287"/>
                    <a:pt x="11" y="299"/>
                  </a:cubicBezTo>
                  <a:cubicBezTo>
                    <a:pt x="7" y="311"/>
                    <a:pt x="0" y="335"/>
                    <a:pt x="0" y="3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724280" y="3733920"/>
            <a:ext cx="307800" cy="939600"/>
            <a:chOff x="4724280" y="3733920"/>
            <a:chExt cx="307800" cy="939600"/>
          </a:xfrm>
        </p:grpSpPr>
        <p:sp>
          <p:nvSpPr>
            <p:cNvPr id="447" name=""/>
            <p:cNvSpPr/>
            <p:nvPr/>
          </p:nvSpPr>
          <p:spPr>
            <a:xfrm>
              <a:off x="4724280" y="3887640"/>
              <a:ext cx="299880" cy="785880"/>
            </a:xfrm>
            <a:custGeom>
              <a:avLst/>
              <a:gdLst/>
              <a:ahLst/>
              <a:rect l="l" t="t" r="r" b="b"/>
              <a:pathLst>
                <a:path w="189" h="495">
                  <a:moveTo>
                    <a:pt x="106" y="0"/>
                  </a:moveTo>
                  <a:cubicBezTo>
                    <a:pt x="42" y="44"/>
                    <a:pt x="77" y="11"/>
                    <a:pt x="24" y="118"/>
                  </a:cubicBezTo>
                  <a:cubicBezTo>
                    <a:pt x="10" y="147"/>
                    <a:pt x="0" y="212"/>
                    <a:pt x="0" y="212"/>
                  </a:cubicBezTo>
                  <a:cubicBezTo>
                    <a:pt x="10" y="240"/>
                    <a:pt x="26" y="266"/>
                    <a:pt x="35" y="294"/>
                  </a:cubicBezTo>
                  <a:cubicBezTo>
                    <a:pt x="46" y="328"/>
                    <a:pt x="36" y="372"/>
                    <a:pt x="59" y="400"/>
                  </a:cubicBezTo>
                  <a:cubicBezTo>
                    <a:pt x="77" y="422"/>
                    <a:pt x="113" y="417"/>
                    <a:pt x="141" y="424"/>
                  </a:cubicBezTo>
                  <a:cubicBezTo>
                    <a:pt x="152" y="456"/>
                    <a:pt x="164" y="495"/>
                    <a:pt x="141" y="412"/>
                  </a:cubicBezTo>
                  <a:cubicBezTo>
                    <a:pt x="129" y="368"/>
                    <a:pt x="130" y="376"/>
                    <a:pt x="106" y="329"/>
                  </a:cubicBezTo>
                  <a:cubicBezTo>
                    <a:pt x="110" y="317"/>
                    <a:pt x="112" y="305"/>
                    <a:pt x="118" y="294"/>
                  </a:cubicBezTo>
                  <a:cubicBezTo>
                    <a:pt x="132" y="269"/>
                    <a:pt x="165" y="224"/>
                    <a:pt x="165" y="224"/>
                  </a:cubicBezTo>
                  <a:cubicBezTo>
                    <a:pt x="187" y="159"/>
                    <a:pt x="189" y="123"/>
                    <a:pt x="130" y="82"/>
                  </a:cubicBezTo>
                  <a:cubicBezTo>
                    <a:pt x="122" y="70"/>
                    <a:pt x="117" y="56"/>
                    <a:pt x="106" y="47"/>
                  </a:cubicBezTo>
                  <a:cubicBezTo>
                    <a:pt x="68" y="17"/>
                    <a:pt x="45" y="61"/>
                    <a:pt x="10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6960" y="3733920"/>
              <a:ext cx="195120" cy="509400"/>
            </a:xfrm>
            <a:custGeom>
              <a:avLst/>
              <a:gdLst/>
              <a:ahLst/>
              <a:rect l="l" t="t" r="r" b="b"/>
              <a:pathLst>
                <a:path w="200" h="342">
                  <a:moveTo>
                    <a:pt x="200" y="0"/>
                  </a:moveTo>
                  <a:cubicBezTo>
                    <a:pt x="146" y="18"/>
                    <a:pt x="95" y="15"/>
                    <a:pt x="47" y="47"/>
                  </a:cubicBezTo>
                  <a:cubicBezTo>
                    <a:pt x="39" y="59"/>
                    <a:pt x="29" y="70"/>
                    <a:pt x="23" y="83"/>
                  </a:cubicBezTo>
                  <a:cubicBezTo>
                    <a:pt x="13" y="105"/>
                    <a:pt x="0" y="153"/>
                    <a:pt x="0" y="153"/>
                  </a:cubicBezTo>
                  <a:cubicBezTo>
                    <a:pt x="19" y="228"/>
                    <a:pt x="23" y="256"/>
                    <a:pt x="23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7138440" y="1477080"/>
            <a:ext cx="482040" cy="1487160"/>
            <a:chOff x="7138440" y="1477080"/>
            <a:chExt cx="482040" cy="1487160"/>
          </a:xfrm>
        </p:grpSpPr>
        <p:sp>
          <p:nvSpPr>
            <p:cNvPr id="450" name=""/>
            <p:cNvSpPr/>
            <p:nvPr/>
          </p:nvSpPr>
          <p:spPr>
            <a:xfrm rot="16911600">
              <a:off x="7210800" y="2566080"/>
              <a:ext cx="403200" cy="33336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193" y="47"/>
                  </a:moveTo>
                  <a:cubicBezTo>
                    <a:pt x="181" y="39"/>
                    <a:pt x="171" y="30"/>
                    <a:pt x="158" y="24"/>
                  </a:cubicBezTo>
                  <a:cubicBezTo>
                    <a:pt x="135" y="14"/>
                    <a:pt x="87" y="0"/>
                    <a:pt x="87" y="0"/>
                  </a:cubicBezTo>
                  <a:cubicBezTo>
                    <a:pt x="0" y="30"/>
                    <a:pt x="41" y="119"/>
                    <a:pt x="87" y="165"/>
                  </a:cubicBezTo>
                  <a:cubicBezTo>
                    <a:pt x="109" y="187"/>
                    <a:pt x="130" y="191"/>
                    <a:pt x="158" y="200"/>
                  </a:cubicBezTo>
                  <a:cubicBezTo>
                    <a:pt x="185" y="196"/>
                    <a:pt x="224" y="210"/>
                    <a:pt x="240" y="188"/>
                  </a:cubicBezTo>
                  <a:cubicBezTo>
                    <a:pt x="254" y="168"/>
                    <a:pt x="222" y="142"/>
                    <a:pt x="217" y="118"/>
                  </a:cubicBezTo>
                  <a:cubicBezTo>
                    <a:pt x="213" y="98"/>
                    <a:pt x="211" y="78"/>
                    <a:pt x="205" y="59"/>
                  </a:cubicBezTo>
                  <a:cubicBezTo>
                    <a:pt x="203" y="54"/>
                    <a:pt x="197" y="51"/>
                    <a:pt x="193" y="47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4484400">
              <a:off x="7178040" y="1719000"/>
              <a:ext cx="7668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911600">
              <a:off x="7101000" y="1586160"/>
              <a:ext cx="474840" cy="309600"/>
            </a:xfrm>
            <a:custGeom>
              <a:avLst/>
              <a:gdLst/>
              <a:ahLst/>
              <a:rect l="l" t="t" r="r" b="b"/>
              <a:pathLst>
                <a:path w="299" h="195">
                  <a:moveTo>
                    <a:pt x="162" y="195"/>
                  </a:moveTo>
                  <a:cubicBezTo>
                    <a:pt x="101" y="185"/>
                    <a:pt x="70" y="182"/>
                    <a:pt x="21" y="148"/>
                  </a:cubicBezTo>
                  <a:cubicBezTo>
                    <a:pt x="0" y="87"/>
                    <a:pt x="2" y="67"/>
                    <a:pt x="56" y="31"/>
                  </a:cubicBezTo>
                  <a:cubicBezTo>
                    <a:pt x="299" y="47"/>
                    <a:pt x="176" y="0"/>
                    <a:pt x="256" y="125"/>
                  </a:cubicBezTo>
                  <a:cubicBezTo>
                    <a:pt x="248" y="150"/>
                    <a:pt x="247" y="181"/>
                    <a:pt x="209" y="184"/>
                  </a:cubicBezTo>
                  <a:cubicBezTo>
                    <a:pt x="135" y="190"/>
                    <a:pt x="41" y="147"/>
                    <a:pt x="162" y="195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911600">
              <a:off x="7229880" y="1783800"/>
              <a:ext cx="343080" cy="37476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188" y="106"/>
                  </a:moveTo>
                  <a:cubicBezTo>
                    <a:pt x="175" y="49"/>
                    <a:pt x="187" y="31"/>
                    <a:pt x="129" y="12"/>
                  </a:cubicBezTo>
                  <a:cubicBezTo>
                    <a:pt x="119" y="13"/>
                    <a:pt x="0" y="0"/>
                    <a:pt x="0" y="59"/>
                  </a:cubicBezTo>
                  <a:cubicBezTo>
                    <a:pt x="0" y="136"/>
                    <a:pt x="64" y="176"/>
                    <a:pt x="118" y="212"/>
                  </a:cubicBezTo>
                  <a:cubicBezTo>
                    <a:pt x="130" y="220"/>
                    <a:pt x="153" y="236"/>
                    <a:pt x="153" y="236"/>
                  </a:cubicBezTo>
                  <a:cubicBezTo>
                    <a:pt x="165" y="232"/>
                    <a:pt x="179" y="233"/>
                    <a:pt x="188" y="224"/>
                  </a:cubicBezTo>
                  <a:cubicBezTo>
                    <a:pt x="216" y="196"/>
                    <a:pt x="188" y="140"/>
                    <a:pt x="188" y="106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911600">
              <a:off x="7234200" y="1922400"/>
              <a:ext cx="298440" cy="365040"/>
            </a:xfrm>
            <a:custGeom>
              <a:avLst/>
              <a:gdLst/>
              <a:ahLst/>
              <a:rect l="l" t="t" r="r" b="b"/>
              <a:pathLst>
                <a:path w="188" h="230">
                  <a:moveTo>
                    <a:pt x="130" y="74"/>
                  </a:moveTo>
                  <a:cubicBezTo>
                    <a:pt x="126" y="58"/>
                    <a:pt x="133" y="32"/>
                    <a:pt x="118" y="27"/>
                  </a:cubicBezTo>
                  <a:cubicBezTo>
                    <a:pt x="38" y="0"/>
                    <a:pt x="29" y="31"/>
                    <a:pt x="0" y="74"/>
                  </a:cubicBezTo>
                  <a:cubicBezTo>
                    <a:pt x="13" y="137"/>
                    <a:pt x="19" y="156"/>
                    <a:pt x="71" y="192"/>
                  </a:cubicBezTo>
                  <a:cubicBezTo>
                    <a:pt x="79" y="204"/>
                    <a:pt x="82" y="223"/>
                    <a:pt x="95" y="227"/>
                  </a:cubicBezTo>
                  <a:cubicBezTo>
                    <a:pt x="103" y="230"/>
                    <a:pt x="166" y="207"/>
                    <a:pt x="177" y="203"/>
                  </a:cubicBezTo>
                  <a:cubicBezTo>
                    <a:pt x="151" y="78"/>
                    <a:pt x="188" y="104"/>
                    <a:pt x="130" y="74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6911600">
              <a:off x="7148880" y="2080080"/>
              <a:ext cx="393840" cy="333720"/>
            </a:xfrm>
            <a:custGeom>
              <a:avLst/>
              <a:gdLst/>
              <a:ahLst/>
              <a:rect l="l" t="t" r="r" b="b"/>
              <a:pathLst>
                <a:path w="248" h="210">
                  <a:moveTo>
                    <a:pt x="193" y="92"/>
                  </a:moveTo>
                  <a:cubicBezTo>
                    <a:pt x="139" y="12"/>
                    <a:pt x="173" y="31"/>
                    <a:pt x="111" y="10"/>
                  </a:cubicBezTo>
                  <a:cubicBezTo>
                    <a:pt x="80" y="14"/>
                    <a:pt x="39" y="0"/>
                    <a:pt x="17" y="22"/>
                  </a:cubicBezTo>
                  <a:cubicBezTo>
                    <a:pt x="0" y="39"/>
                    <a:pt x="23" y="69"/>
                    <a:pt x="28" y="92"/>
                  </a:cubicBezTo>
                  <a:cubicBezTo>
                    <a:pt x="44" y="167"/>
                    <a:pt x="113" y="193"/>
                    <a:pt x="181" y="210"/>
                  </a:cubicBezTo>
                  <a:cubicBezTo>
                    <a:pt x="193" y="206"/>
                    <a:pt x="207" y="206"/>
                    <a:pt x="217" y="198"/>
                  </a:cubicBezTo>
                  <a:cubicBezTo>
                    <a:pt x="248" y="174"/>
                    <a:pt x="248" y="152"/>
                    <a:pt x="217" y="128"/>
                  </a:cubicBezTo>
                  <a:cubicBezTo>
                    <a:pt x="207" y="120"/>
                    <a:pt x="188" y="127"/>
                    <a:pt x="181" y="116"/>
                  </a:cubicBezTo>
                  <a:cubicBezTo>
                    <a:pt x="176" y="109"/>
                    <a:pt x="189" y="100"/>
                    <a:pt x="193" y="92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911600">
              <a:off x="7216560" y="223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39" y="38"/>
                  </a:moveTo>
                  <a:cubicBezTo>
                    <a:pt x="56" y="9"/>
                    <a:pt x="89" y="0"/>
                    <a:pt x="34" y="38"/>
                  </a:cubicBezTo>
                  <a:cubicBezTo>
                    <a:pt x="26" y="50"/>
                    <a:pt x="11" y="59"/>
                    <a:pt x="10" y="73"/>
                  </a:cubicBezTo>
                  <a:cubicBezTo>
                    <a:pt x="0" y="172"/>
                    <a:pt x="55" y="180"/>
                    <a:pt x="128" y="202"/>
                  </a:cubicBezTo>
                  <a:cubicBezTo>
                    <a:pt x="147" y="198"/>
                    <a:pt x="170" y="202"/>
                    <a:pt x="186" y="191"/>
                  </a:cubicBezTo>
                  <a:cubicBezTo>
                    <a:pt x="197" y="184"/>
                    <a:pt x="198" y="168"/>
                    <a:pt x="198" y="155"/>
                  </a:cubicBezTo>
                  <a:cubicBezTo>
                    <a:pt x="198" y="107"/>
                    <a:pt x="203" y="38"/>
                    <a:pt x="139" y="38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911600">
              <a:off x="7252920" y="2426760"/>
              <a:ext cx="263520" cy="333360"/>
            </a:xfrm>
            <a:custGeom>
              <a:avLst/>
              <a:gdLst/>
              <a:ahLst/>
              <a:rect l="l" t="t" r="r" b="b"/>
              <a:pathLst>
                <a:path w="208" h="276">
                  <a:moveTo>
                    <a:pt x="185" y="70"/>
                  </a:moveTo>
                  <a:cubicBezTo>
                    <a:pt x="169" y="62"/>
                    <a:pt x="153" y="56"/>
                    <a:pt x="138" y="47"/>
                  </a:cubicBezTo>
                  <a:cubicBezTo>
                    <a:pt x="114" y="33"/>
                    <a:pt x="67" y="0"/>
                    <a:pt x="67" y="0"/>
                  </a:cubicBezTo>
                  <a:cubicBezTo>
                    <a:pt x="0" y="44"/>
                    <a:pt x="18" y="80"/>
                    <a:pt x="32" y="165"/>
                  </a:cubicBezTo>
                  <a:cubicBezTo>
                    <a:pt x="34" y="177"/>
                    <a:pt x="34" y="191"/>
                    <a:pt x="43" y="200"/>
                  </a:cubicBezTo>
                  <a:cubicBezTo>
                    <a:pt x="56" y="212"/>
                    <a:pt x="75" y="215"/>
                    <a:pt x="91" y="223"/>
                  </a:cubicBezTo>
                  <a:cubicBezTo>
                    <a:pt x="121" y="269"/>
                    <a:pt x="133" y="276"/>
                    <a:pt x="185" y="259"/>
                  </a:cubicBezTo>
                  <a:cubicBezTo>
                    <a:pt x="192" y="235"/>
                    <a:pt x="208" y="213"/>
                    <a:pt x="208" y="188"/>
                  </a:cubicBezTo>
                  <a:cubicBezTo>
                    <a:pt x="208" y="145"/>
                    <a:pt x="185" y="111"/>
                    <a:pt x="185" y="70"/>
                  </a:cubicBez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 rot="16911000">
              <a:off x="7277760" y="1580760"/>
              <a:ext cx="152280" cy="15228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18" y="0"/>
                  </a:moveTo>
                  <a:cubicBezTo>
                    <a:pt x="102" y="11"/>
                    <a:pt x="0" y="78"/>
                    <a:pt x="0" y="12"/>
                  </a:cubicBez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371240" y="4038480"/>
            <a:ext cx="1394280" cy="596880"/>
            <a:chOff x="1371240" y="4038480"/>
            <a:chExt cx="1394280" cy="596880"/>
          </a:xfrm>
        </p:grpSpPr>
        <p:sp>
          <p:nvSpPr>
            <p:cNvPr id="460" name=""/>
            <p:cNvSpPr/>
            <p:nvPr/>
          </p:nvSpPr>
          <p:spPr>
            <a:xfrm flipH="1">
              <a:off x="2362320" y="4302000"/>
              <a:ext cx="403200" cy="33336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193" y="47"/>
                  </a:moveTo>
                  <a:cubicBezTo>
                    <a:pt x="181" y="39"/>
                    <a:pt x="171" y="30"/>
                    <a:pt x="158" y="24"/>
                  </a:cubicBezTo>
                  <a:cubicBezTo>
                    <a:pt x="135" y="14"/>
                    <a:pt x="87" y="0"/>
                    <a:pt x="87" y="0"/>
                  </a:cubicBezTo>
                  <a:cubicBezTo>
                    <a:pt x="0" y="30"/>
                    <a:pt x="41" y="119"/>
                    <a:pt x="87" y="165"/>
                  </a:cubicBezTo>
                  <a:cubicBezTo>
                    <a:pt x="109" y="187"/>
                    <a:pt x="130" y="191"/>
                    <a:pt x="158" y="200"/>
                  </a:cubicBezTo>
                  <a:cubicBezTo>
                    <a:pt x="185" y="196"/>
                    <a:pt x="224" y="210"/>
                    <a:pt x="240" y="188"/>
                  </a:cubicBezTo>
                  <a:cubicBezTo>
                    <a:pt x="254" y="168"/>
                    <a:pt x="222" y="142"/>
                    <a:pt x="217" y="118"/>
                  </a:cubicBezTo>
                  <a:cubicBezTo>
                    <a:pt x="213" y="98"/>
                    <a:pt x="211" y="78"/>
                    <a:pt x="205" y="59"/>
                  </a:cubicBezTo>
                  <a:cubicBezTo>
                    <a:pt x="203" y="54"/>
                    <a:pt x="197" y="51"/>
                    <a:pt x="193" y="47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1370880" y="4038480"/>
              <a:ext cx="474840" cy="309600"/>
            </a:xfrm>
            <a:custGeom>
              <a:avLst/>
              <a:gdLst/>
              <a:ahLst/>
              <a:rect l="l" t="t" r="r" b="b"/>
              <a:pathLst>
                <a:path w="299" h="195">
                  <a:moveTo>
                    <a:pt x="162" y="195"/>
                  </a:moveTo>
                  <a:cubicBezTo>
                    <a:pt x="101" y="185"/>
                    <a:pt x="70" y="182"/>
                    <a:pt x="21" y="148"/>
                  </a:cubicBezTo>
                  <a:cubicBezTo>
                    <a:pt x="0" y="87"/>
                    <a:pt x="2" y="67"/>
                    <a:pt x="56" y="31"/>
                  </a:cubicBezTo>
                  <a:cubicBezTo>
                    <a:pt x="299" y="47"/>
                    <a:pt x="176" y="0"/>
                    <a:pt x="256" y="125"/>
                  </a:cubicBezTo>
                  <a:cubicBezTo>
                    <a:pt x="248" y="150"/>
                    <a:pt x="247" y="181"/>
                    <a:pt x="209" y="184"/>
                  </a:cubicBezTo>
                  <a:cubicBezTo>
                    <a:pt x="135" y="190"/>
                    <a:pt x="41" y="147"/>
                    <a:pt x="162" y="195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649520" y="4114800"/>
              <a:ext cx="342720" cy="37476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188" y="106"/>
                  </a:moveTo>
                  <a:cubicBezTo>
                    <a:pt x="175" y="49"/>
                    <a:pt x="187" y="31"/>
                    <a:pt x="129" y="12"/>
                  </a:cubicBezTo>
                  <a:cubicBezTo>
                    <a:pt x="119" y="13"/>
                    <a:pt x="0" y="0"/>
                    <a:pt x="0" y="59"/>
                  </a:cubicBezTo>
                  <a:cubicBezTo>
                    <a:pt x="0" y="136"/>
                    <a:pt x="64" y="176"/>
                    <a:pt x="118" y="212"/>
                  </a:cubicBezTo>
                  <a:cubicBezTo>
                    <a:pt x="130" y="220"/>
                    <a:pt x="153" y="236"/>
                    <a:pt x="153" y="236"/>
                  </a:cubicBezTo>
                  <a:cubicBezTo>
                    <a:pt x="165" y="232"/>
                    <a:pt x="179" y="233"/>
                    <a:pt x="188" y="224"/>
                  </a:cubicBezTo>
                  <a:cubicBezTo>
                    <a:pt x="216" y="196"/>
                    <a:pt x="188" y="140"/>
                    <a:pt x="188" y="106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1805760" y="4129200"/>
              <a:ext cx="298440" cy="365040"/>
            </a:xfrm>
            <a:custGeom>
              <a:avLst/>
              <a:gdLst/>
              <a:ahLst/>
              <a:rect l="l" t="t" r="r" b="b"/>
              <a:pathLst>
                <a:path w="188" h="230">
                  <a:moveTo>
                    <a:pt x="130" y="74"/>
                  </a:moveTo>
                  <a:cubicBezTo>
                    <a:pt x="126" y="58"/>
                    <a:pt x="133" y="32"/>
                    <a:pt x="118" y="27"/>
                  </a:cubicBezTo>
                  <a:cubicBezTo>
                    <a:pt x="38" y="0"/>
                    <a:pt x="29" y="31"/>
                    <a:pt x="0" y="74"/>
                  </a:cubicBezTo>
                  <a:cubicBezTo>
                    <a:pt x="13" y="137"/>
                    <a:pt x="19" y="156"/>
                    <a:pt x="71" y="192"/>
                  </a:cubicBezTo>
                  <a:cubicBezTo>
                    <a:pt x="79" y="204"/>
                    <a:pt x="82" y="223"/>
                    <a:pt x="95" y="227"/>
                  </a:cubicBezTo>
                  <a:cubicBezTo>
                    <a:pt x="103" y="230"/>
                    <a:pt x="166" y="207"/>
                    <a:pt x="177" y="203"/>
                  </a:cubicBezTo>
                  <a:cubicBezTo>
                    <a:pt x="151" y="78"/>
                    <a:pt x="188" y="104"/>
                    <a:pt x="130" y="74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904400" y="4137120"/>
              <a:ext cx="393480" cy="333360"/>
            </a:xfrm>
            <a:custGeom>
              <a:avLst/>
              <a:gdLst/>
              <a:ahLst/>
              <a:rect l="l" t="t" r="r" b="b"/>
              <a:pathLst>
                <a:path w="248" h="210">
                  <a:moveTo>
                    <a:pt x="193" y="92"/>
                  </a:moveTo>
                  <a:cubicBezTo>
                    <a:pt x="139" y="12"/>
                    <a:pt x="173" y="31"/>
                    <a:pt x="111" y="10"/>
                  </a:cubicBezTo>
                  <a:cubicBezTo>
                    <a:pt x="80" y="14"/>
                    <a:pt x="39" y="0"/>
                    <a:pt x="17" y="22"/>
                  </a:cubicBezTo>
                  <a:cubicBezTo>
                    <a:pt x="0" y="39"/>
                    <a:pt x="23" y="69"/>
                    <a:pt x="28" y="92"/>
                  </a:cubicBezTo>
                  <a:cubicBezTo>
                    <a:pt x="44" y="167"/>
                    <a:pt x="113" y="193"/>
                    <a:pt x="181" y="210"/>
                  </a:cubicBezTo>
                  <a:cubicBezTo>
                    <a:pt x="193" y="206"/>
                    <a:pt x="207" y="206"/>
                    <a:pt x="217" y="198"/>
                  </a:cubicBezTo>
                  <a:cubicBezTo>
                    <a:pt x="248" y="174"/>
                    <a:pt x="248" y="152"/>
                    <a:pt x="217" y="128"/>
                  </a:cubicBezTo>
                  <a:cubicBezTo>
                    <a:pt x="207" y="120"/>
                    <a:pt x="188" y="127"/>
                    <a:pt x="181" y="116"/>
                  </a:cubicBezTo>
                  <a:cubicBezTo>
                    <a:pt x="176" y="109"/>
                    <a:pt x="189" y="100"/>
                    <a:pt x="193" y="92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077920" y="4205160"/>
              <a:ext cx="32256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39" y="38"/>
                  </a:moveTo>
                  <a:cubicBezTo>
                    <a:pt x="56" y="9"/>
                    <a:pt x="89" y="0"/>
                    <a:pt x="34" y="38"/>
                  </a:cubicBezTo>
                  <a:cubicBezTo>
                    <a:pt x="26" y="50"/>
                    <a:pt x="11" y="59"/>
                    <a:pt x="10" y="73"/>
                  </a:cubicBezTo>
                  <a:cubicBezTo>
                    <a:pt x="0" y="172"/>
                    <a:pt x="55" y="180"/>
                    <a:pt x="128" y="202"/>
                  </a:cubicBezTo>
                  <a:cubicBezTo>
                    <a:pt x="147" y="198"/>
                    <a:pt x="170" y="202"/>
                    <a:pt x="186" y="191"/>
                  </a:cubicBezTo>
                  <a:cubicBezTo>
                    <a:pt x="197" y="184"/>
                    <a:pt x="198" y="168"/>
                    <a:pt x="198" y="155"/>
                  </a:cubicBezTo>
                  <a:cubicBezTo>
                    <a:pt x="198" y="107"/>
                    <a:pt x="203" y="38"/>
                    <a:pt x="139" y="38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301840" y="4246560"/>
              <a:ext cx="263520" cy="333360"/>
            </a:xfrm>
            <a:custGeom>
              <a:avLst/>
              <a:gdLst/>
              <a:ahLst/>
              <a:rect l="l" t="t" r="r" b="b"/>
              <a:pathLst>
                <a:path w="208" h="276">
                  <a:moveTo>
                    <a:pt x="185" y="70"/>
                  </a:moveTo>
                  <a:cubicBezTo>
                    <a:pt x="169" y="62"/>
                    <a:pt x="153" y="56"/>
                    <a:pt x="138" y="47"/>
                  </a:cubicBezTo>
                  <a:cubicBezTo>
                    <a:pt x="114" y="33"/>
                    <a:pt x="67" y="0"/>
                    <a:pt x="67" y="0"/>
                  </a:cubicBezTo>
                  <a:cubicBezTo>
                    <a:pt x="0" y="44"/>
                    <a:pt x="18" y="80"/>
                    <a:pt x="32" y="165"/>
                  </a:cubicBezTo>
                  <a:cubicBezTo>
                    <a:pt x="34" y="177"/>
                    <a:pt x="34" y="191"/>
                    <a:pt x="43" y="200"/>
                  </a:cubicBezTo>
                  <a:cubicBezTo>
                    <a:pt x="56" y="212"/>
                    <a:pt x="75" y="215"/>
                    <a:pt x="91" y="223"/>
                  </a:cubicBezTo>
                  <a:cubicBezTo>
                    <a:pt x="121" y="269"/>
                    <a:pt x="133" y="276"/>
                    <a:pt x="185" y="259"/>
                  </a:cubicBezTo>
                  <a:cubicBezTo>
                    <a:pt x="192" y="235"/>
                    <a:pt x="208" y="213"/>
                    <a:pt x="208" y="188"/>
                  </a:cubicBezTo>
                  <a:cubicBezTo>
                    <a:pt x="208" y="145"/>
                    <a:pt x="185" y="111"/>
                    <a:pt x="185" y="70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flipV="1">
              <a:off x="1523160" y="4194000"/>
              <a:ext cx="93960" cy="763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18" y="0"/>
                  </a:moveTo>
                  <a:cubicBezTo>
                    <a:pt x="102" y="11"/>
                    <a:pt x="0" y="78"/>
                    <a:pt x="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rot="12426600">
              <a:off x="1522800" y="4117680"/>
              <a:ext cx="7632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726160" y="3727440"/>
            <a:ext cx="3537000" cy="1654200"/>
          </a:xfrm>
          <a:custGeom>
            <a:avLst/>
            <a:gdLst/>
            <a:ahLst/>
            <a:rect l="l" t="t" r="r" b="b"/>
            <a:pathLst>
              <a:path w="2228" h="1042">
                <a:moveTo>
                  <a:pt x="40" y="429"/>
                </a:moveTo>
                <a:cubicBezTo>
                  <a:pt x="145" y="393"/>
                  <a:pt x="85" y="417"/>
                  <a:pt x="204" y="358"/>
                </a:cubicBezTo>
                <a:cubicBezTo>
                  <a:pt x="220" y="350"/>
                  <a:pt x="235" y="343"/>
                  <a:pt x="251" y="335"/>
                </a:cubicBezTo>
                <a:cubicBezTo>
                  <a:pt x="267" y="327"/>
                  <a:pt x="298" y="311"/>
                  <a:pt x="298" y="311"/>
                </a:cubicBezTo>
                <a:cubicBezTo>
                  <a:pt x="315" y="245"/>
                  <a:pt x="352" y="189"/>
                  <a:pt x="369" y="123"/>
                </a:cubicBezTo>
                <a:cubicBezTo>
                  <a:pt x="365" y="178"/>
                  <a:pt x="354" y="233"/>
                  <a:pt x="357" y="288"/>
                </a:cubicBezTo>
                <a:cubicBezTo>
                  <a:pt x="358" y="306"/>
                  <a:pt x="363" y="335"/>
                  <a:pt x="381" y="335"/>
                </a:cubicBezTo>
                <a:cubicBezTo>
                  <a:pt x="398" y="335"/>
                  <a:pt x="392" y="300"/>
                  <a:pt x="404" y="288"/>
                </a:cubicBezTo>
                <a:cubicBezTo>
                  <a:pt x="416" y="275"/>
                  <a:pt x="435" y="272"/>
                  <a:pt x="451" y="264"/>
                </a:cubicBezTo>
                <a:cubicBezTo>
                  <a:pt x="459" y="248"/>
                  <a:pt x="469" y="233"/>
                  <a:pt x="475" y="217"/>
                </a:cubicBezTo>
                <a:cubicBezTo>
                  <a:pt x="494" y="167"/>
                  <a:pt x="480" y="141"/>
                  <a:pt x="498" y="217"/>
                </a:cubicBezTo>
                <a:cubicBezTo>
                  <a:pt x="493" y="266"/>
                  <a:pt x="469" y="344"/>
                  <a:pt x="510" y="358"/>
                </a:cubicBezTo>
                <a:cubicBezTo>
                  <a:pt x="525" y="363"/>
                  <a:pt x="541" y="350"/>
                  <a:pt x="557" y="346"/>
                </a:cubicBezTo>
                <a:cubicBezTo>
                  <a:pt x="565" y="330"/>
                  <a:pt x="568" y="311"/>
                  <a:pt x="581" y="299"/>
                </a:cubicBezTo>
                <a:cubicBezTo>
                  <a:pt x="652" y="229"/>
                  <a:pt x="614" y="322"/>
                  <a:pt x="639" y="240"/>
                </a:cubicBezTo>
                <a:cubicBezTo>
                  <a:pt x="650" y="303"/>
                  <a:pt x="641" y="369"/>
                  <a:pt x="663" y="429"/>
                </a:cubicBezTo>
                <a:cubicBezTo>
                  <a:pt x="667" y="440"/>
                  <a:pt x="686" y="436"/>
                  <a:pt x="698" y="440"/>
                </a:cubicBezTo>
                <a:cubicBezTo>
                  <a:pt x="777" y="431"/>
                  <a:pt x="843" y="426"/>
                  <a:pt x="910" y="382"/>
                </a:cubicBezTo>
                <a:cubicBezTo>
                  <a:pt x="914" y="370"/>
                  <a:pt x="913" y="355"/>
                  <a:pt x="922" y="346"/>
                </a:cubicBezTo>
                <a:cubicBezTo>
                  <a:pt x="985" y="283"/>
                  <a:pt x="936" y="397"/>
                  <a:pt x="969" y="299"/>
                </a:cubicBezTo>
                <a:cubicBezTo>
                  <a:pt x="973" y="327"/>
                  <a:pt x="966" y="358"/>
                  <a:pt x="981" y="382"/>
                </a:cubicBezTo>
                <a:cubicBezTo>
                  <a:pt x="1018" y="441"/>
                  <a:pt x="1040" y="367"/>
                  <a:pt x="1051" y="358"/>
                </a:cubicBezTo>
                <a:cubicBezTo>
                  <a:pt x="1064" y="347"/>
                  <a:pt x="1082" y="343"/>
                  <a:pt x="1098" y="335"/>
                </a:cubicBezTo>
                <a:cubicBezTo>
                  <a:pt x="1163" y="205"/>
                  <a:pt x="1141" y="205"/>
                  <a:pt x="1157" y="358"/>
                </a:cubicBezTo>
                <a:cubicBezTo>
                  <a:pt x="1220" y="327"/>
                  <a:pt x="1233" y="334"/>
                  <a:pt x="1251" y="264"/>
                </a:cubicBezTo>
                <a:cubicBezTo>
                  <a:pt x="1247" y="209"/>
                  <a:pt x="1256" y="152"/>
                  <a:pt x="1239" y="99"/>
                </a:cubicBezTo>
                <a:cubicBezTo>
                  <a:pt x="1234" y="82"/>
                  <a:pt x="1205" y="87"/>
                  <a:pt x="1192" y="76"/>
                </a:cubicBezTo>
                <a:cubicBezTo>
                  <a:pt x="1102" y="0"/>
                  <a:pt x="1249" y="75"/>
                  <a:pt x="1251" y="76"/>
                </a:cubicBezTo>
                <a:cubicBezTo>
                  <a:pt x="1307" y="188"/>
                  <a:pt x="1311" y="224"/>
                  <a:pt x="1334" y="358"/>
                </a:cubicBezTo>
                <a:cubicBezTo>
                  <a:pt x="1372" y="280"/>
                  <a:pt x="1341" y="319"/>
                  <a:pt x="1451" y="264"/>
                </a:cubicBezTo>
                <a:cubicBezTo>
                  <a:pt x="1465" y="257"/>
                  <a:pt x="1482" y="257"/>
                  <a:pt x="1498" y="252"/>
                </a:cubicBezTo>
                <a:cubicBezTo>
                  <a:pt x="1510" y="249"/>
                  <a:pt x="1542" y="231"/>
                  <a:pt x="1533" y="240"/>
                </a:cubicBezTo>
                <a:cubicBezTo>
                  <a:pt x="1521" y="252"/>
                  <a:pt x="1502" y="256"/>
                  <a:pt x="1486" y="264"/>
                </a:cubicBezTo>
                <a:cubicBezTo>
                  <a:pt x="1473" y="319"/>
                  <a:pt x="1456" y="369"/>
                  <a:pt x="1486" y="429"/>
                </a:cubicBezTo>
                <a:cubicBezTo>
                  <a:pt x="1492" y="442"/>
                  <a:pt x="1509" y="412"/>
                  <a:pt x="1522" y="405"/>
                </a:cubicBezTo>
                <a:cubicBezTo>
                  <a:pt x="1549" y="392"/>
                  <a:pt x="1577" y="383"/>
                  <a:pt x="1604" y="370"/>
                </a:cubicBezTo>
                <a:cubicBezTo>
                  <a:pt x="1612" y="358"/>
                  <a:pt x="1617" y="344"/>
                  <a:pt x="1628" y="335"/>
                </a:cubicBezTo>
                <a:cubicBezTo>
                  <a:pt x="1702" y="276"/>
                  <a:pt x="1667" y="427"/>
                  <a:pt x="1675" y="452"/>
                </a:cubicBezTo>
                <a:cubicBezTo>
                  <a:pt x="1679" y="466"/>
                  <a:pt x="1698" y="468"/>
                  <a:pt x="1710" y="476"/>
                </a:cubicBezTo>
                <a:cubicBezTo>
                  <a:pt x="1718" y="492"/>
                  <a:pt x="1716" y="519"/>
                  <a:pt x="1733" y="523"/>
                </a:cubicBezTo>
                <a:cubicBezTo>
                  <a:pt x="1751" y="528"/>
                  <a:pt x="1764" y="457"/>
                  <a:pt x="1769" y="452"/>
                </a:cubicBezTo>
                <a:cubicBezTo>
                  <a:pt x="1785" y="436"/>
                  <a:pt x="1875" y="393"/>
                  <a:pt x="1898" y="382"/>
                </a:cubicBezTo>
                <a:cubicBezTo>
                  <a:pt x="1906" y="398"/>
                  <a:pt x="1916" y="413"/>
                  <a:pt x="1922" y="429"/>
                </a:cubicBezTo>
                <a:cubicBezTo>
                  <a:pt x="1923" y="432"/>
                  <a:pt x="1937" y="503"/>
                  <a:pt x="1945" y="511"/>
                </a:cubicBezTo>
                <a:cubicBezTo>
                  <a:pt x="1954" y="520"/>
                  <a:pt x="1968" y="519"/>
                  <a:pt x="1980" y="523"/>
                </a:cubicBezTo>
                <a:cubicBezTo>
                  <a:pt x="2087" y="496"/>
                  <a:pt x="2044" y="509"/>
                  <a:pt x="2110" y="488"/>
                </a:cubicBezTo>
                <a:cubicBezTo>
                  <a:pt x="2149" y="500"/>
                  <a:pt x="2157" y="492"/>
                  <a:pt x="2157" y="546"/>
                </a:cubicBezTo>
                <a:cubicBezTo>
                  <a:pt x="2157" y="628"/>
                  <a:pt x="2228" y="919"/>
                  <a:pt x="2098" y="1005"/>
                </a:cubicBezTo>
                <a:cubicBezTo>
                  <a:pt x="2094" y="1017"/>
                  <a:pt x="2099" y="1042"/>
                  <a:pt x="2086" y="1041"/>
                </a:cubicBezTo>
                <a:cubicBezTo>
                  <a:pt x="2039" y="1036"/>
                  <a:pt x="2002" y="996"/>
                  <a:pt x="1957" y="982"/>
                </a:cubicBezTo>
                <a:cubicBezTo>
                  <a:pt x="1905" y="946"/>
                  <a:pt x="1850" y="945"/>
                  <a:pt x="1792" y="923"/>
                </a:cubicBezTo>
                <a:cubicBezTo>
                  <a:pt x="1776" y="917"/>
                  <a:pt x="1761" y="905"/>
                  <a:pt x="1745" y="899"/>
                </a:cubicBezTo>
                <a:cubicBezTo>
                  <a:pt x="1686" y="877"/>
                  <a:pt x="1627" y="869"/>
                  <a:pt x="1569" y="841"/>
                </a:cubicBezTo>
                <a:cubicBezTo>
                  <a:pt x="1478" y="705"/>
                  <a:pt x="1207" y="750"/>
                  <a:pt x="1098" y="746"/>
                </a:cubicBezTo>
                <a:cubicBezTo>
                  <a:pt x="1047" y="738"/>
                  <a:pt x="995" y="734"/>
                  <a:pt x="945" y="723"/>
                </a:cubicBezTo>
                <a:cubicBezTo>
                  <a:pt x="827" y="698"/>
                  <a:pt x="919" y="706"/>
                  <a:pt x="828" y="676"/>
                </a:cubicBezTo>
                <a:cubicBezTo>
                  <a:pt x="741" y="647"/>
                  <a:pt x="661" y="626"/>
                  <a:pt x="569" y="617"/>
                </a:cubicBezTo>
                <a:cubicBezTo>
                  <a:pt x="402" y="532"/>
                  <a:pt x="194" y="546"/>
                  <a:pt x="16" y="535"/>
                </a:cubicBezTo>
                <a:cubicBezTo>
                  <a:pt x="29" y="411"/>
                  <a:pt x="0" y="389"/>
                  <a:pt x="40" y="42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1360" y="3673440"/>
            <a:ext cx="1792440" cy="603360"/>
          </a:xfrm>
          <a:custGeom>
            <a:avLst/>
            <a:gdLst/>
            <a:ahLst/>
            <a:rect l="l" t="t" r="r" b="b"/>
            <a:pathLst>
              <a:path w="1129" h="380">
                <a:moveTo>
                  <a:pt x="0" y="282"/>
                </a:moveTo>
                <a:cubicBezTo>
                  <a:pt x="16" y="259"/>
                  <a:pt x="32" y="235"/>
                  <a:pt x="47" y="212"/>
                </a:cubicBezTo>
                <a:cubicBezTo>
                  <a:pt x="55" y="200"/>
                  <a:pt x="70" y="176"/>
                  <a:pt x="70" y="176"/>
                </a:cubicBezTo>
                <a:cubicBezTo>
                  <a:pt x="86" y="114"/>
                  <a:pt x="78" y="61"/>
                  <a:pt x="59" y="0"/>
                </a:cubicBezTo>
                <a:cubicBezTo>
                  <a:pt x="39" y="79"/>
                  <a:pt x="44" y="16"/>
                  <a:pt x="70" y="94"/>
                </a:cubicBezTo>
                <a:cubicBezTo>
                  <a:pt x="80" y="125"/>
                  <a:pt x="94" y="188"/>
                  <a:pt x="94" y="188"/>
                </a:cubicBezTo>
                <a:cubicBezTo>
                  <a:pt x="126" y="139"/>
                  <a:pt x="147" y="91"/>
                  <a:pt x="164" y="35"/>
                </a:cubicBezTo>
                <a:cubicBezTo>
                  <a:pt x="172" y="66"/>
                  <a:pt x="180" y="98"/>
                  <a:pt x="188" y="129"/>
                </a:cubicBezTo>
                <a:cubicBezTo>
                  <a:pt x="192" y="145"/>
                  <a:pt x="200" y="176"/>
                  <a:pt x="200" y="176"/>
                </a:cubicBezTo>
                <a:cubicBezTo>
                  <a:pt x="219" y="116"/>
                  <a:pt x="227" y="64"/>
                  <a:pt x="235" y="0"/>
                </a:cubicBezTo>
                <a:cubicBezTo>
                  <a:pt x="256" y="82"/>
                  <a:pt x="239" y="31"/>
                  <a:pt x="294" y="141"/>
                </a:cubicBezTo>
                <a:cubicBezTo>
                  <a:pt x="302" y="157"/>
                  <a:pt x="309" y="172"/>
                  <a:pt x="317" y="188"/>
                </a:cubicBezTo>
                <a:cubicBezTo>
                  <a:pt x="325" y="204"/>
                  <a:pt x="341" y="235"/>
                  <a:pt x="341" y="235"/>
                </a:cubicBezTo>
                <a:cubicBezTo>
                  <a:pt x="375" y="183"/>
                  <a:pt x="378" y="143"/>
                  <a:pt x="400" y="82"/>
                </a:cubicBezTo>
                <a:cubicBezTo>
                  <a:pt x="406" y="66"/>
                  <a:pt x="416" y="51"/>
                  <a:pt x="423" y="35"/>
                </a:cubicBezTo>
                <a:cubicBezTo>
                  <a:pt x="428" y="24"/>
                  <a:pt x="431" y="12"/>
                  <a:pt x="435" y="0"/>
                </a:cubicBezTo>
                <a:cubicBezTo>
                  <a:pt x="468" y="48"/>
                  <a:pt x="492" y="119"/>
                  <a:pt x="506" y="176"/>
                </a:cubicBezTo>
                <a:cubicBezTo>
                  <a:pt x="511" y="160"/>
                  <a:pt x="515" y="105"/>
                  <a:pt x="553" y="153"/>
                </a:cubicBezTo>
                <a:cubicBezTo>
                  <a:pt x="586" y="195"/>
                  <a:pt x="596" y="236"/>
                  <a:pt x="611" y="282"/>
                </a:cubicBezTo>
                <a:cubicBezTo>
                  <a:pt x="615" y="260"/>
                  <a:pt x="637" y="149"/>
                  <a:pt x="647" y="141"/>
                </a:cubicBezTo>
                <a:cubicBezTo>
                  <a:pt x="661" y="130"/>
                  <a:pt x="658" y="176"/>
                  <a:pt x="670" y="188"/>
                </a:cubicBezTo>
                <a:cubicBezTo>
                  <a:pt x="690" y="208"/>
                  <a:pt x="741" y="235"/>
                  <a:pt x="741" y="235"/>
                </a:cubicBezTo>
                <a:cubicBezTo>
                  <a:pt x="745" y="247"/>
                  <a:pt x="741" y="268"/>
                  <a:pt x="753" y="271"/>
                </a:cubicBezTo>
                <a:cubicBezTo>
                  <a:pt x="785" y="279"/>
                  <a:pt x="795" y="226"/>
                  <a:pt x="800" y="212"/>
                </a:cubicBezTo>
                <a:cubicBezTo>
                  <a:pt x="826" y="229"/>
                  <a:pt x="860" y="237"/>
                  <a:pt x="882" y="259"/>
                </a:cubicBezTo>
                <a:cubicBezTo>
                  <a:pt x="902" y="279"/>
                  <a:pt x="929" y="329"/>
                  <a:pt x="929" y="329"/>
                </a:cubicBezTo>
                <a:cubicBezTo>
                  <a:pt x="933" y="317"/>
                  <a:pt x="932" y="303"/>
                  <a:pt x="941" y="294"/>
                </a:cubicBezTo>
                <a:cubicBezTo>
                  <a:pt x="961" y="274"/>
                  <a:pt x="1011" y="247"/>
                  <a:pt x="1011" y="247"/>
                </a:cubicBezTo>
                <a:cubicBezTo>
                  <a:pt x="1029" y="273"/>
                  <a:pt x="1034" y="309"/>
                  <a:pt x="1058" y="329"/>
                </a:cubicBezTo>
                <a:cubicBezTo>
                  <a:pt x="1070" y="339"/>
                  <a:pt x="1089" y="337"/>
                  <a:pt x="1105" y="341"/>
                </a:cubicBezTo>
                <a:cubicBezTo>
                  <a:pt x="1118" y="380"/>
                  <a:pt x="1105" y="376"/>
                  <a:pt x="1129" y="376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-228600" y="4419720"/>
            <a:ext cx="9677520" cy="2666880"/>
          </a:xfrm>
          <a:custGeom>
            <a:avLst/>
            <a:gdLst/>
            <a:ahLst/>
            <a:rect l="l" t="t" r="r" b="b"/>
            <a:pathLst>
              <a:path w="5940" h="1089">
                <a:moveTo>
                  <a:pt x="47" y="118"/>
                </a:moveTo>
                <a:cubicBezTo>
                  <a:pt x="138" y="95"/>
                  <a:pt x="215" y="71"/>
                  <a:pt x="306" y="59"/>
                </a:cubicBezTo>
                <a:cubicBezTo>
                  <a:pt x="526" y="63"/>
                  <a:pt x="745" y="64"/>
                  <a:pt x="965" y="70"/>
                </a:cubicBezTo>
                <a:cubicBezTo>
                  <a:pt x="1098" y="74"/>
                  <a:pt x="1106" y="83"/>
                  <a:pt x="1212" y="59"/>
                </a:cubicBezTo>
                <a:cubicBezTo>
                  <a:pt x="1244" y="52"/>
                  <a:pt x="1306" y="35"/>
                  <a:pt x="1306" y="35"/>
                </a:cubicBezTo>
                <a:cubicBezTo>
                  <a:pt x="1592" y="44"/>
                  <a:pt x="1868" y="42"/>
                  <a:pt x="2153" y="23"/>
                </a:cubicBezTo>
                <a:cubicBezTo>
                  <a:pt x="2505" y="29"/>
                  <a:pt x="2737" y="24"/>
                  <a:pt x="3047" y="59"/>
                </a:cubicBezTo>
                <a:cubicBezTo>
                  <a:pt x="3156" y="84"/>
                  <a:pt x="3078" y="68"/>
                  <a:pt x="3282" y="94"/>
                </a:cubicBezTo>
                <a:cubicBezTo>
                  <a:pt x="3358" y="104"/>
                  <a:pt x="3430" y="130"/>
                  <a:pt x="3506" y="141"/>
                </a:cubicBezTo>
                <a:cubicBezTo>
                  <a:pt x="3646" y="133"/>
                  <a:pt x="3715" y="149"/>
                  <a:pt x="3823" y="94"/>
                </a:cubicBezTo>
                <a:cubicBezTo>
                  <a:pt x="3831" y="78"/>
                  <a:pt x="3832" y="56"/>
                  <a:pt x="3847" y="47"/>
                </a:cubicBezTo>
                <a:cubicBezTo>
                  <a:pt x="3882" y="26"/>
                  <a:pt x="4005" y="7"/>
                  <a:pt x="4047" y="0"/>
                </a:cubicBezTo>
                <a:cubicBezTo>
                  <a:pt x="4118" y="9"/>
                  <a:pt x="4188" y="17"/>
                  <a:pt x="4258" y="35"/>
                </a:cubicBezTo>
                <a:cubicBezTo>
                  <a:pt x="4411" y="13"/>
                  <a:pt x="4564" y="25"/>
                  <a:pt x="4717" y="47"/>
                </a:cubicBezTo>
                <a:cubicBezTo>
                  <a:pt x="4804" y="90"/>
                  <a:pt x="4730" y="60"/>
                  <a:pt x="4870" y="82"/>
                </a:cubicBezTo>
                <a:cubicBezTo>
                  <a:pt x="4951" y="95"/>
                  <a:pt x="5022" y="120"/>
                  <a:pt x="5105" y="129"/>
                </a:cubicBezTo>
                <a:cubicBezTo>
                  <a:pt x="5175" y="147"/>
                  <a:pt x="5250" y="161"/>
                  <a:pt x="5317" y="188"/>
                </a:cubicBezTo>
                <a:cubicBezTo>
                  <a:pt x="5333" y="195"/>
                  <a:pt x="5347" y="207"/>
                  <a:pt x="5364" y="212"/>
                </a:cubicBezTo>
                <a:cubicBezTo>
                  <a:pt x="5440" y="235"/>
                  <a:pt x="5419" y="211"/>
                  <a:pt x="5482" y="235"/>
                </a:cubicBezTo>
                <a:cubicBezTo>
                  <a:pt x="5498" y="241"/>
                  <a:pt x="5512" y="253"/>
                  <a:pt x="5529" y="259"/>
                </a:cubicBezTo>
                <a:cubicBezTo>
                  <a:pt x="5575" y="274"/>
                  <a:pt x="5623" y="282"/>
                  <a:pt x="5670" y="294"/>
                </a:cubicBezTo>
                <a:cubicBezTo>
                  <a:pt x="5686" y="298"/>
                  <a:pt x="5717" y="306"/>
                  <a:pt x="5717" y="306"/>
                </a:cubicBezTo>
                <a:cubicBezTo>
                  <a:pt x="5725" y="318"/>
                  <a:pt x="5729" y="333"/>
                  <a:pt x="5741" y="341"/>
                </a:cubicBezTo>
                <a:cubicBezTo>
                  <a:pt x="5754" y="350"/>
                  <a:pt x="5773" y="347"/>
                  <a:pt x="5788" y="353"/>
                </a:cubicBezTo>
                <a:cubicBezTo>
                  <a:pt x="5825" y="367"/>
                  <a:pt x="5839" y="379"/>
                  <a:pt x="5870" y="400"/>
                </a:cubicBezTo>
                <a:cubicBezTo>
                  <a:pt x="5940" y="507"/>
                  <a:pt x="5905" y="716"/>
                  <a:pt x="5835" y="823"/>
                </a:cubicBezTo>
                <a:cubicBezTo>
                  <a:pt x="5831" y="886"/>
                  <a:pt x="5851" y="956"/>
                  <a:pt x="5823" y="1012"/>
                </a:cubicBezTo>
                <a:cubicBezTo>
                  <a:pt x="5809" y="1041"/>
                  <a:pt x="5761" y="1033"/>
                  <a:pt x="5729" y="1035"/>
                </a:cubicBezTo>
                <a:cubicBezTo>
                  <a:pt x="5670" y="1039"/>
                  <a:pt x="5611" y="1044"/>
                  <a:pt x="5552" y="1047"/>
                </a:cubicBezTo>
                <a:cubicBezTo>
                  <a:pt x="5458" y="1052"/>
                  <a:pt x="5364" y="1055"/>
                  <a:pt x="5270" y="1059"/>
                </a:cubicBezTo>
                <a:cubicBezTo>
                  <a:pt x="5031" y="1089"/>
                  <a:pt x="4783" y="1061"/>
                  <a:pt x="4541" y="1071"/>
                </a:cubicBezTo>
                <a:cubicBezTo>
                  <a:pt x="3812" y="1041"/>
                  <a:pt x="4149" y="1041"/>
                  <a:pt x="3529" y="1059"/>
                </a:cubicBezTo>
                <a:cubicBezTo>
                  <a:pt x="2212" y="1053"/>
                  <a:pt x="1223" y="1038"/>
                  <a:pt x="0" y="1000"/>
                </a:cubicBezTo>
                <a:cubicBezTo>
                  <a:pt x="4" y="808"/>
                  <a:pt x="12" y="423"/>
                  <a:pt x="12" y="423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4648320"/>
            <a:ext cx="112680" cy="979200"/>
          </a:xfrm>
          <a:custGeom>
            <a:avLst/>
            <a:gdLst/>
            <a:ahLst/>
            <a:rect l="l" t="t" r="r" b="b"/>
            <a:pathLst>
              <a:path w="60" h="459">
                <a:moveTo>
                  <a:pt x="4" y="459"/>
                </a:moveTo>
                <a:cubicBezTo>
                  <a:pt x="8" y="334"/>
                  <a:pt x="0" y="207"/>
                  <a:pt x="15" y="83"/>
                </a:cubicBezTo>
                <a:cubicBezTo>
                  <a:pt x="17" y="70"/>
                  <a:pt x="46" y="83"/>
                  <a:pt x="51" y="71"/>
                </a:cubicBezTo>
                <a:cubicBezTo>
                  <a:pt x="60" y="49"/>
                  <a:pt x="51" y="24"/>
                  <a:pt x="51" y="0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228600" y="3962520"/>
            <a:ext cx="6242040" cy="1035000"/>
          </a:xfrm>
          <a:custGeom>
            <a:avLst/>
            <a:gdLst/>
            <a:ahLst/>
            <a:rect l="l" t="t" r="r" b="b"/>
            <a:pathLst>
              <a:path w="1342" h="511">
                <a:moveTo>
                  <a:pt x="68" y="59"/>
                </a:moveTo>
                <a:cubicBezTo>
                  <a:pt x="125" y="30"/>
                  <a:pt x="185" y="20"/>
                  <a:pt x="245" y="0"/>
                </a:cubicBezTo>
                <a:cubicBezTo>
                  <a:pt x="251" y="1"/>
                  <a:pt x="485" y="20"/>
                  <a:pt x="504" y="24"/>
                </a:cubicBezTo>
                <a:cubicBezTo>
                  <a:pt x="653" y="58"/>
                  <a:pt x="434" y="39"/>
                  <a:pt x="574" y="59"/>
                </a:cubicBezTo>
                <a:cubicBezTo>
                  <a:pt x="617" y="65"/>
                  <a:pt x="661" y="67"/>
                  <a:pt x="704" y="71"/>
                </a:cubicBezTo>
                <a:cubicBezTo>
                  <a:pt x="836" y="136"/>
                  <a:pt x="871" y="141"/>
                  <a:pt x="1033" y="153"/>
                </a:cubicBezTo>
                <a:cubicBezTo>
                  <a:pt x="1049" y="157"/>
                  <a:pt x="1067" y="156"/>
                  <a:pt x="1080" y="165"/>
                </a:cubicBezTo>
                <a:cubicBezTo>
                  <a:pt x="1092" y="173"/>
                  <a:pt x="1093" y="191"/>
                  <a:pt x="1104" y="200"/>
                </a:cubicBezTo>
                <a:cubicBezTo>
                  <a:pt x="1118" y="211"/>
                  <a:pt x="1136" y="215"/>
                  <a:pt x="1151" y="224"/>
                </a:cubicBezTo>
                <a:cubicBezTo>
                  <a:pt x="1163" y="231"/>
                  <a:pt x="1173" y="242"/>
                  <a:pt x="1186" y="247"/>
                </a:cubicBezTo>
                <a:cubicBezTo>
                  <a:pt x="1205" y="254"/>
                  <a:pt x="1226" y="254"/>
                  <a:pt x="1245" y="259"/>
                </a:cubicBezTo>
                <a:cubicBezTo>
                  <a:pt x="1269" y="265"/>
                  <a:pt x="1315" y="282"/>
                  <a:pt x="1315" y="282"/>
                </a:cubicBezTo>
                <a:cubicBezTo>
                  <a:pt x="1323" y="294"/>
                  <a:pt x="1342" y="304"/>
                  <a:pt x="1339" y="318"/>
                </a:cubicBezTo>
                <a:cubicBezTo>
                  <a:pt x="1331" y="360"/>
                  <a:pt x="1270" y="332"/>
                  <a:pt x="1257" y="329"/>
                </a:cubicBezTo>
                <a:cubicBezTo>
                  <a:pt x="1167" y="337"/>
                  <a:pt x="1076" y="345"/>
                  <a:pt x="986" y="353"/>
                </a:cubicBezTo>
                <a:cubicBezTo>
                  <a:pt x="913" y="359"/>
                  <a:pt x="869" y="429"/>
                  <a:pt x="798" y="435"/>
                </a:cubicBezTo>
                <a:cubicBezTo>
                  <a:pt x="724" y="442"/>
                  <a:pt x="649" y="443"/>
                  <a:pt x="574" y="447"/>
                </a:cubicBezTo>
                <a:cubicBezTo>
                  <a:pt x="442" y="481"/>
                  <a:pt x="310" y="476"/>
                  <a:pt x="174" y="482"/>
                </a:cubicBezTo>
                <a:cubicBezTo>
                  <a:pt x="155" y="486"/>
                  <a:pt x="135" y="489"/>
                  <a:pt x="116" y="494"/>
                </a:cubicBezTo>
                <a:cubicBezTo>
                  <a:pt x="104" y="497"/>
                  <a:pt x="92" y="511"/>
                  <a:pt x="80" y="506"/>
                </a:cubicBezTo>
                <a:cubicBezTo>
                  <a:pt x="67" y="501"/>
                  <a:pt x="63" y="484"/>
                  <a:pt x="57" y="471"/>
                </a:cubicBezTo>
                <a:cubicBezTo>
                  <a:pt x="37" y="431"/>
                  <a:pt x="35" y="383"/>
                  <a:pt x="21" y="341"/>
                </a:cubicBezTo>
                <a:cubicBezTo>
                  <a:pt x="46" y="80"/>
                  <a:pt x="0" y="163"/>
                  <a:pt x="68" y="5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previousslide"/>
          </p:cNvPr>
          <p:cNvSpPr/>
          <p:nvPr/>
        </p:nvSpPr>
        <p:spPr>
          <a:xfrm>
            <a:off x="1219320" y="1828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1295280" y="17524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66920" y="3673440"/>
            <a:ext cx="1722240" cy="546120"/>
          </a:xfrm>
          <a:custGeom>
            <a:avLst/>
            <a:gdLst/>
            <a:ahLst/>
            <a:rect l="l" t="t" r="r" b="b"/>
            <a:pathLst>
              <a:path w="1085" h="344">
                <a:moveTo>
                  <a:pt x="0" y="259"/>
                </a:moveTo>
                <a:cubicBezTo>
                  <a:pt x="31" y="195"/>
                  <a:pt x="30" y="206"/>
                  <a:pt x="47" y="118"/>
                </a:cubicBezTo>
                <a:cubicBezTo>
                  <a:pt x="55" y="79"/>
                  <a:pt x="70" y="0"/>
                  <a:pt x="70" y="0"/>
                </a:cubicBezTo>
                <a:cubicBezTo>
                  <a:pt x="82" y="47"/>
                  <a:pt x="96" y="75"/>
                  <a:pt x="117" y="118"/>
                </a:cubicBezTo>
                <a:cubicBezTo>
                  <a:pt x="130" y="144"/>
                  <a:pt x="123" y="178"/>
                  <a:pt x="141" y="200"/>
                </a:cubicBezTo>
                <a:cubicBezTo>
                  <a:pt x="149" y="210"/>
                  <a:pt x="164" y="208"/>
                  <a:pt x="176" y="212"/>
                </a:cubicBezTo>
                <a:cubicBezTo>
                  <a:pt x="180" y="224"/>
                  <a:pt x="179" y="238"/>
                  <a:pt x="188" y="247"/>
                </a:cubicBezTo>
                <a:cubicBezTo>
                  <a:pt x="231" y="290"/>
                  <a:pt x="229" y="233"/>
                  <a:pt x="247" y="212"/>
                </a:cubicBezTo>
                <a:cubicBezTo>
                  <a:pt x="256" y="201"/>
                  <a:pt x="270" y="196"/>
                  <a:pt x="282" y="188"/>
                </a:cubicBezTo>
                <a:cubicBezTo>
                  <a:pt x="297" y="144"/>
                  <a:pt x="317" y="105"/>
                  <a:pt x="329" y="59"/>
                </a:cubicBezTo>
                <a:cubicBezTo>
                  <a:pt x="364" y="195"/>
                  <a:pt x="315" y="27"/>
                  <a:pt x="364" y="141"/>
                </a:cubicBezTo>
                <a:cubicBezTo>
                  <a:pt x="409" y="246"/>
                  <a:pt x="341" y="136"/>
                  <a:pt x="400" y="224"/>
                </a:cubicBezTo>
                <a:cubicBezTo>
                  <a:pt x="443" y="209"/>
                  <a:pt x="444" y="216"/>
                  <a:pt x="470" y="165"/>
                </a:cubicBezTo>
                <a:cubicBezTo>
                  <a:pt x="481" y="143"/>
                  <a:pt x="494" y="94"/>
                  <a:pt x="494" y="94"/>
                </a:cubicBezTo>
                <a:cubicBezTo>
                  <a:pt x="510" y="98"/>
                  <a:pt x="528" y="96"/>
                  <a:pt x="541" y="106"/>
                </a:cubicBezTo>
                <a:cubicBezTo>
                  <a:pt x="551" y="114"/>
                  <a:pt x="543" y="132"/>
                  <a:pt x="552" y="141"/>
                </a:cubicBezTo>
                <a:cubicBezTo>
                  <a:pt x="561" y="150"/>
                  <a:pt x="576" y="149"/>
                  <a:pt x="588" y="153"/>
                </a:cubicBezTo>
                <a:cubicBezTo>
                  <a:pt x="596" y="165"/>
                  <a:pt x="604" y="176"/>
                  <a:pt x="611" y="188"/>
                </a:cubicBezTo>
                <a:cubicBezTo>
                  <a:pt x="620" y="203"/>
                  <a:pt x="620" y="226"/>
                  <a:pt x="635" y="235"/>
                </a:cubicBezTo>
                <a:cubicBezTo>
                  <a:pt x="645" y="241"/>
                  <a:pt x="658" y="228"/>
                  <a:pt x="670" y="224"/>
                </a:cubicBezTo>
                <a:cubicBezTo>
                  <a:pt x="672" y="220"/>
                  <a:pt x="701" y="142"/>
                  <a:pt x="729" y="153"/>
                </a:cubicBezTo>
                <a:cubicBezTo>
                  <a:pt x="745" y="160"/>
                  <a:pt x="740" y="188"/>
                  <a:pt x="752" y="200"/>
                </a:cubicBezTo>
                <a:cubicBezTo>
                  <a:pt x="761" y="209"/>
                  <a:pt x="776" y="208"/>
                  <a:pt x="788" y="212"/>
                </a:cubicBezTo>
                <a:cubicBezTo>
                  <a:pt x="823" y="317"/>
                  <a:pt x="799" y="293"/>
                  <a:pt x="823" y="247"/>
                </a:cubicBezTo>
                <a:cubicBezTo>
                  <a:pt x="829" y="234"/>
                  <a:pt x="839" y="224"/>
                  <a:pt x="847" y="212"/>
                </a:cubicBezTo>
                <a:cubicBezTo>
                  <a:pt x="851" y="200"/>
                  <a:pt x="846" y="179"/>
                  <a:pt x="858" y="176"/>
                </a:cubicBezTo>
                <a:cubicBezTo>
                  <a:pt x="899" y="165"/>
                  <a:pt x="900" y="234"/>
                  <a:pt x="905" y="247"/>
                </a:cubicBezTo>
                <a:cubicBezTo>
                  <a:pt x="911" y="260"/>
                  <a:pt x="921" y="270"/>
                  <a:pt x="929" y="282"/>
                </a:cubicBezTo>
                <a:cubicBezTo>
                  <a:pt x="941" y="278"/>
                  <a:pt x="953" y="276"/>
                  <a:pt x="964" y="271"/>
                </a:cubicBezTo>
                <a:cubicBezTo>
                  <a:pt x="980" y="264"/>
                  <a:pt x="994" y="242"/>
                  <a:pt x="1011" y="247"/>
                </a:cubicBezTo>
                <a:cubicBezTo>
                  <a:pt x="1028" y="252"/>
                  <a:pt x="1023" y="282"/>
                  <a:pt x="1035" y="294"/>
                </a:cubicBezTo>
                <a:cubicBezTo>
                  <a:pt x="1085" y="344"/>
                  <a:pt x="1082" y="295"/>
                  <a:pt x="1082" y="329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792468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21497400">
            <a:off x="-380520" y="5486400"/>
            <a:ext cx="9856800" cy="167652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" action="ppaction://hlinkshowjump?jump=firstslide"/>
          </p:cNvPr>
          <p:cNvSpPr/>
          <p:nvPr/>
        </p:nvSpPr>
        <p:spPr>
          <a:xfrm>
            <a:off x="3809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85800" y="304920"/>
            <a:ext cx="1955880" cy="1887480"/>
            <a:chOff x="685800" y="304920"/>
            <a:chExt cx="1955880" cy="1887480"/>
          </a:xfrm>
        </p:grpSpPr>
        <p:sp>
          <p:nvSpPr>
            <p:cNvPr id="481" name=""/>
            <p:cNvSpPr/>
            <p:nvPr/>
          </p:nvSpPr>
          <p:spPr>
            <a:xfrm>
              <a:off x="990720" y="609480"/>
              <a:ext cx="1176120" cy="123372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66840" y="684360"/>
              <a:ext cx="47484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57400" y="1295280"/>
              <a:ext cx="401760" cy="37332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73360" y="1762200"/>
              <a:ext cx="430200" cy="40464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31920" y="163044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9560" y="1238400"/>
              <a:ext cx="522360" cy="37440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5800" y="304920"/>
              <a:ext cx="517680" cy="53640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60600" y="306360"/>
              <a:ext cx="384120" cy="33516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1447920" y="1370880"/>
              <a:ext cx="457200" cy="15228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43000" y="838080"/>
              <a:ext cx="304920" cy="30492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14280" y="952560"/>
              <a:ext cx="309600" cy="7452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95280" y="990720"/>
              <a:ext cx="15264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84360" y="685800"/>
              <a:ext cx="320760" cy="36972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43040" y="826920"/>
              <a:ext cx="358920" cy="13176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1752120" y="838080"/>
              <a:ext cx="76320" cy="228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1523880" y="7632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295280" y="3157200"/>
            <a:ext cx="1101960" cy="983160"/>
            <a:chOff x="1295280" y="3157200"/>
            <a:chExt cx="1101960" cy="983160"/>
          </a:xfrm>
        </p:grpSpPr>
        <p:sp>
          <p:nvSpPr>
            <p:cNvPr id="498" name=""/>
            <p:cNvSpPr/>
            <p:nvPr/>
          </p:nvSpPr>
          <p:spPr>
            <a:xfrm>
              <a:off x="1295280" y="3276720"/>
              <a:ext cx="533520" cy="863640"/>
            </a:xfrm>
            <a:custGeom>
              <a:avLst/>
              <a:gdLst/>
              <a:ahLst/>
              <a:rect l="l" t="t" r="r" b="b"/>
              <a:pathLst>
                <a:path w="247" h="694">
                  <a:moveTo>
                    <a:pt x="212" y="694"/>
                  </a:moveTo>
                  <a:lnTo>
                    <a:pt x="210" y="687"/>
                  </a:lnTo>
                  <a:lnTo>
                    <a:pt x="207" y="678"/>
                  </a:lnTo>
                  <a:lnTo>
                    <a:pt x="203" y="667"/>
                  </a:lnTo>
                  <a:lnTo>
                    <a:pt x="199" y="656"/>
                  </a:lnTo>
                  <a:lnTo>
                    <a:pt x="194" y="646"/>
                  </a:lnTo>
                  <a:lnTo>
                    <a:pt x="189" y="637"/>
                  </a:lnTo>
                  <a:lnTo>
                    <a:pt x="183" y="629"/>
                  </a:lnTo>
                  <a:lnTo>
                    <a:pt x="177" y="624"/>
                  </a:lnTo>
                  <a:lnTo>
                    <a:pt x="165" y="619"/>
                  </a:lnTo>
                  <a:lnTo>
                    <a:pt x="150" y="614"/>
                  </a:lnTo>
                  <a:lnTo>
                    <a:pt x="134" y="610"/>
                  </a:lnTo>
                  <a:lnTo>
                    <a:pt x="119" y="606"/>
                  </a:lnTo>
                  <a:lnTo>
                    <a:pt x="104" y="604"/>
                  </a:lnTo>
                  <a:lnTo>
                    <a:pt x="93" y="602"/>
                  </a:lnTo>
                  <a:lnTo>
                    <a:pt x="88" y="601"/>
                  </a:lnTo>
                  <a:lnTo>
                    <a:pt x="85" y="600"/>
                  </a:lnTo>
                  <a:lnTo>
                    <a:pt x="83" y="600"/>
                  </a:lnTo>
                  <a:lnTo>
                    <a:pt x="82" y="600"/>
                  </a:lnTo>
                  <a:lnTo>
                    <a:pt x="59" y="565"/>
                  </a:lnTo>
                  <a:lnTo>
                    <a:pt x="35" y="529"/>
                  </a:lnTo>
                  <a:lnTo>
                    <a:pt x="32" y="524"/>
                  </a:lnTo>
                  <a:lnTo>
                    <a:pt x="28" y="519"/>
                  </a:lnTo>
                  <a:lnTo>
                    <a:pt x="21" y="507"/>
                  </a:lnTo>
                  <a:lnTo>
                    <a:pt x="17" y="502"/>
                  </a:lnTo>
                  <a:lnTo>
                    <a:pt x="15" y="498"/>
                  </a:lnTo>
                  <a:lnTo>
                    <a:pt x="13" y="495"/>
                  </a:lnTo>
                  <a:lnTo>
                    <a:pt x="12" y="494"/>
                  </a:lnTo>
                  <a:lnTo>
                    <a:pt x="9" y="481"/>
                  </a:lnTo>
                  <a:lnTo>
                    <a:pt x="6" y="470"/>
                  </a:lnTo>
                  <a:lnTo>
                    <a:pt x="3" y="461"/>
                  </a:lnTo>
                  <a:lnTo>
                    <a:pt x="2" y="454"/>
                  </a:lnTo>
                  <a:lnTo>
                    <a:pt x="1" y="449"/>
                  </a:lnTo>
                  <a:lnTo>
                    <a:pt x="0" y="444"/>
                  </a:lnTo>
                  <a:lnTo>
                    <a:pt x="0" y="436"/>
                  </a:lnTo>
                  <a:lnTo>
                    <a:pt x="0" y="432"/>
                  </a:lnTo>
                  <a:lnTo>
                    <a:pt x="1" y="427"/>
                  </a:lnTo>
                  <a:lnTo>
                    <a:pt x="2" y="420"/>
                  </a:lnTo>
                  <a:lnTo>
                    <a:pt x="4" y="412"/>
                  </a:lnTo>
                  <a:lnTo>
                    <a:pt x="5" y="402"/>
                  </a:lnTo>
                  <a:lnTo>
                    <a:pt x="7" y="389"/>
                  </a:lnTo>
                  <a:lnTo>
                    <a:pt x="10" y="373"/>
                  </a:lnTo>
                  <a:lnTo>
                    <a:pt x="12" y="353"/>
                  </a:lnTo>
                  <a:lnTo>
                    <a:pt x="14" y="337"/>
                  </a:lnTo>
                  <a:lnTo>
                    <a:pt x="15" y="321"/>
                  </a:lnTo>
                  <a:lnTo>
                    <a:pt x="17" y="307"/>
                  </a:lnTo>
                  <a:lnTo>
                    <a:pt x="18" y="294"/>
                  </a:lnTo>
                  <a:lnTo>
                    <a:pt x="20" y="269"/>
                  </a:lnTo>
                  <a:lnTo>
                    <a:pt x="24" y="246"/>
                  </a:lnTo>
                  <a:lnTo>
                    <a:pt x="29" y="224"/>
                  </a:lnTo>
                  <a:lnTo>
                    <a:pt x="36" y="202"/>
                  </a:lnTo>
                  <a:lnTo>
                    <a:pt x="46" y="179"/>
                  </a:lnTo>
                  <a:lnTo>
                    <a:pt x="52" y="166"/>
                  </a:lnTo>
                  <a:lnTo>
                    <a:pt x="59" y="153"/>
                  </a:lnTo>
                  <a:lnTo>
                    <a:pt x="64" y="141"/>
                  </a:lnTo>
                  <a:lnTo>
                    <a:pt x="69" y="128"/>
                  </a:lnTo>
                  <a:lnTo>
                    <a:pt x="74" y="116"/>
                  </a:lnTo>
                  <a:lnTo>
                    <a:pt x="77" y="111"/>
                  </a:lnTo>
                  <a:lnTo>
                    <a:pt x="82" y="106"/>
                  </a:lnTo>
                  <a:lnTo>
                    <a:pt x="95" y="97"/>
                  </a:lnTo>
                  <a:lnTo>
                    <a:pt x="109" y="90"/>
                  </a:lnTo>
                  <a:lnTo>
                    <a:pt x="124" y="85"/>
                  </a:lnTo>
                  <a:lnTo>
                    <a:pt x="140" y="80"/>
                  </a:lnTo>
                  <a:lnTo>
                    <a:pt x="170" y="71"/>
                  </a:lnTo>
                  <a:lnTo>
                    <a:pt x="185" y="65"/>
                  </a:lnTo>
                  <a:lnTo>
                    <a:pt x="200" y="59"/>
                  </a:lnTo>
                  <a:lnTo>
                    <a:pt x="205" y="51"/>
                  </a:lnTo>
                  <a:lnTo>
                    <a:pt x="209" y="45"/>
                  </a:lnTo>
                  <a:lnTo>
                    <a:pt x="213" y="40"/>
                  </a:lnTo>
                  <a:lnTo>
                    <a:pt x="215" y="36"/>
                  </a:lnTo>
                  <a:lnTo>
                    <a:pt x="219" y="30"/>
                  </a:lnTo>
                  <a:lnTo>
                    <a:pt x="222" y="26"/>
                  </a:lnTo>
                  <a:lnTo>
                    <a:pt x="226" y="22"/>
                  </a:lnTo>
                  <a:lnTo>
                    <a:pt x="230" y="17"/>
                  </a:lnTo>
                  <a:lnTo>
                    <a:pt x="237" y="11"/>
                  </a:lnTo>
                  <a:lnTo>
                    <a:pt x="241" y="6"/>
                  </a:lnTo>
                  <a:lnTo>
                    <a:pt x="247" y="0"/>
                  </a:lnTo>
                </a:path>
              </a:pathLst>
            </a:custGeom>
            <a:noFill/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524960" y="3157200"/>
              <a:ext cx="739080" cy="763560"/>
              <a:chOff x="1524960" y="3157200"/>
              <a:chExt cx="739080" cy="763560"/>
            </a:xfrm>
          </p:grpSpPr>
          <p:sp>
            <p:nvSpPr>
              <p:cNvPr id="500" name=""/>
              <p:cNvSpPr/>
              <p:nvPr/>
            </p:nvSpPr>
            <p:spPr>
              <a:xfrm rot="3160200">
                <a:off x="1775160" y="3497400"/>
                <a:ext cx="306000" cy="154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3160200">
                <a:off x="1926720" y="3343680"/>
                <a:ext cx="306000" cy="2304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3160200">
                <a:off x="1739520" y="3614400"/>
                <a:ext cx="30600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3160200">
                <a:off x="1751760" y="3203280"/>
                <a:ext cx="230040" cy="2300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3160200">
                <a:off x="1557360" y="3369960"/>
                <a:ext cx="300960" cy="231480"/>
              </a:xfrm>
              <a:custGeom>
                <a:avLst/>
                <a:gdLst/>
                <a:ahLst/>
                <a:rect l="l" t="t" r="r" b="b"/>
                <a:pathLst>
                  <a:path w="190" h="146">
                    <a:moveTo>
                      <a:pt x="189" y="52"/>
                    </a:moveTo>
                    <a:lnTo>
                      <a:pt x="184" y="38"/>
                    </a:lnTo>
                    <a:lnTo>
                      <a:pt x="175" y="26"/>
                    </a:lnTo>
                    <a:lnTo>
                      <a:pt x="164" y="16"/>
                    </a:lnTo>
                    <a:lnTo>
                      <a:pt x="150" y="8"/>
                    </a:lnTo>
                    <a:lnTo>
                      <a:pt x="134" y="3"/>
                    </a:lnTo>
                    <a:lnTo>
                      <a:pt x="117" y="0"/>
                    </a:lnTo>
                    <a:lnTo>
                      <a:pt x="98" y="0"/>
                    </a:lnTo>
                    <a:lnTo>
                      <a:pt x="79" y="3"/>
                    </a:lnTo>
                    <a:lnTo>
                      <a:pt x="61" y="9"/>
                    </a:lnTo>
                    <a:lnTo>
                      <a:pt x="44" y="16"/>
                    </a:lnTo>
                    <a:lnTo>
                      <a:pt x="30" y="26"/>
                    </a:lnTo>
                    <a:lnTo>
                      <a:pt x="18" y="38"/>
                    </a:lnTo>
                    <a:lnTo>
                      <a:pt x="9" y="51"/>
                    </a:lnTo>
                    <a:lnTo>
                      <a:pt x="3" y="65"/>
                    </a:lnTo>
                    <a:lnTo>
                      <a:pt x="0" y="79"/>
                    </a:lnTo>
                    <a:lnTo>
                      <a:pt x="0" y="87"/>
                    </a:lnTo>
                    <a:lnTo>
                      <a:pt x="1" y="94"/>
                    </a:lnTo>
                    <a:lnTo>
                      <a:pt x="6" y="108"/>
                    </a:lnTo>
                    <a:lnTo>
                      <a:pt x="15" y="120"/>
                    </a:lnTo>
                    <a:lnTo>
                      <a:pt x="26" y="130"/>
                    </a:lnTo>
                    <a:lnTo>
                      <a:pt x="40" y="138"/>
                    </a:lnTo>
                    <a:lnTo>
                      <a:pt x="56" y="143"/>
                    </a:lnTo>
                    <a:lnTo>
                      <a:pt x="73" y="146"/>
                    </a:lnTo>
                    <a:lnTo>
                      <a:pt x="92" y="146"/>
                    </a:lnTo>
                    <a:lnTo>
                      <a:pt x="111" y="143"/>
                    </a:lnTo>
                    <a:lnTo>
                      <a:pt x="129" y="138"/>
                    </a:lnTo>
                    <a:lnTo>
                      <a:pt x="146" y="130"/>
                    </a:lnTo>
                    <a:lnTo>
                      <a:pt x="160" y="120"/>
                    </a:lnTo>
                    <a:lnTo>
                      <a:pt x="172" y="108"/>
                    </a:lnTo>
                    <a:lnTo>
                      <a:pt x="181" y="95"/>
                    </a:lnTo>
                    <a:lnTo>
                      <a:pt x="187" y="81"/>
                    </a:lnTo>
                    <a:lnTo>
                      <a:pt x="190" y="67"/>
                    </a:lnTo>
                    <a:lnTo>
                      <a:pt x="190" y="59"/>
                    </a:lnTo>
                    <a:lnTo>
                      <a:pt x="189" y="52"/>
                    </a:lnTo>
                    <a:close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3160200">
                <a:off x="1998360" y="3628080"/>
                <a:ext cx="230040" cy="15372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1631880" y="3394080"/>
              <a:ext cx="765360" cy="709560"/>
            </a:xfrm>
            <a:custGeom>
              <a:avLst/>
              <a:gdLst/>
              <a:ahLst/>
              <a:rect l="l" t="t" r="r" b="b"/>
              <a:pathLst>
                <a:path w="482" h="447">
                  <a:moveTo>
                    <a:pt x="0" y="447"/>
                  </a:moveTo>
                  <a:lnTo>
                    <a:pt x="4" y="409"/>
                  </a:lnTo>
                  <a:lnTo>
                    <a:pt x="8" y="370"/>
                  </a:lnTo>
                  <a:lnTo>
                    <a:pt x="14" y="332"/>
                  </a:lnTo>
                  <a:lnTo>
                    <a:pt x="19" y="313"/>
                  </a:lnTo>
                  <a:lnTo>
                    <a:pt x="24" y="296"/>
                  </a:lnTo>
                  <a:lnTo>
                    <a:pt x="31" y="279"/>
                  </a:lnTo>
                  <a:lnTo>
                    <a:pt x="39" y="263"/>
                  </a:lnTo>
                  <a:lnTo>
                    <a:pt x="49" y="249"/>
                  </a:lnTo>
                  <a:lnTo>
                    <a:pt x="61" y="236"/>
                  </a:lnTo>
                  <a:lnTo>
                    <a:pt x="75" y="224"/>
                  </a:lnTo>
                  <a:lnTo>
                    <a:pt x="90" y="214"/>
                  </a:lnTo>
                  <a:lnTo>
                    <a:pt x="108" y="206"/>
                  </a:lnTo>
                  <a:lnTo>
                    <a:pt x="129" y="200"/>
                  </a:lnTo>
                  <a:lnTo>
                    <a:pt x="134" y="192"/>
                  </a:lnTo>
                  <a:lnTo>
                    <a:pt x="139" y="185"/>
                  </a:lnTo>
                  <a:lnTo>
                    <a:pt x="142" y="180"/>
                  </a:lnTo>
                  <a:lnTo>
                    <a:pt x="146" y="175"/>
                  </a:lnTo>
                  <a:lnTo>
                    <a:pt x="150" y="167"/>
                  </a:lnTo>
                  <a:lnTo>
                    <a:pt x="153" y="163"/>
                  </a:lnTo>
                  <a:lnTo>
                    <a:pt x="154" y="161"/>
                  </a:lnTo>
                  <a:lnTo>
                    <a:pt x="154" y="161"/>
                  </a:lnTo>
                  <a:lnTo>
                    <a:pt x="153" y="163"/>
                  </a:lnTo>
                  <a:lnTo>
                    <a:pt x="153" y="165"/>
                  </a:lnTo>
                  <a:lnTo>
                    <a:pt x="152" y="168"/>
                  </a:lnTo>
                  <a:lnTo>
                    <a:pt x="153" y="170"/>
                  </a:lnTo>
                  <a:lnTo>
                    <a:pt x="155" y="172"/>
                  </a:lnTo>
                  <a:lnTo>
                    <a:pt x="159" y="173"/>
                  </a:lnTo>
                  <a:lnTo>
                    <a:pt x="164" y="171"/>
                  </a:lnTo>
                  <a:lnTo>
                    <a:pt x="173" y="168"/>
                  </a:lnTo>
                  <a:lnTo>
                    <a:pt x="185" y="162"/>
                  </a:lnTo>
                  <a:lnTo>
                    <a:pt x="192" y="157"/>
                  </a:lnTo>
                  <a:lnTo>
                    <a:pt x="200" y="152"/>
                  </a:lnTo>
                  <a:lnTo>
                    <a:pt x="204" y="149"/>
                  </a:lnTo>
                  <a:lnTo>
                    <a:pt x="207" y="144"/>
                  </a:lnTo>
                  <a:lnTo>
                    <a:pt x="212" y="135"/>
                  </a:lnTo>
                  <a:lnTo>
                    <a:pt x="216" y="125"/>
                  </a:lnTo>
                  <a:lnTo>
                    <a:pt x="219" y="121"/>
                  </a:lnTo>
                  <a:lnTo>
                    <a:pt x="223" y="117"/>
                  </a:lnTo>
                  <a:lnTo>
                    <a:pt x="234" y="110"/>
                  </a:lnTo>
                  <a:lnTo>
                    <a:pt x="245" y="104"/>
                  </a:lnTo>
                  <a:lnTo>
                    <a:pt x="258" y="99"/>
                  </a:lnTo>
                  <a:lnTo>
                    <a:pt x="270" y="94"/>
                  </a:lnTo>
                  <a:lnTo>
                    <a:pt x="283" y="77"/>
                  </a:lnTo>
                  <a:lnTo>
                    <a:pt x="298" y="61"/>
                  </a:lnTo>
                  <a:lnTo>
                    <a:pt x="315" y="48"/>
                  </a:lnTo>
                  <a:lnTo>
                    <a:pt x="332" y="35"/>
                  </a:lnTo>
                  <a:lnTo>
                    <a:pt x="351" y="25"/>
                  </a:lnTo>
                  <a:lnTo>
                    <a:pt x="371" y="15"/>
                  </a:lnTo>
                  <a:lnTo>
                    <a:pt x="391" y="7"/>
                  </a:lnTo>
                  <a:lnTo>
                    <a:pt x="412" y="0"/>
                  </a:lnTo>
                  <a:lnTo>
                    <a:pt x="424" y="3"/>
                  </a:lnTo>
                  <a:lnTo>
                    <a:pt x="434" y="6"/>
                  </a:lnTo>
                  <a:lnTo>
                    <a:pt x="443" y="8"/>
                  </a:lnTo>
                  <a:lnTo>
                    <a:pt x="449" y="11"/>
                  </a:lnTo>
                  <a:lnTo>
                    <a:pt x="455" y="13"/>
                  </a:lnTo>
                  <a:lnTo>
                    <a:pt x="459" y="16"/>
                  </a:lnTo>
                  <a:lnTo>
                    <a:pt x="465" y="23"/>
                  </a:lnTo>
                  <a:lnTo>
                    <a:pt x="469" y="33"/>
                  </a:lnTo>
                  <a:lnTo>
                    <a:pt x="472" y="45"/>
                  </a:lnTo>
                  <a:lnTo>
                    <a:pt x="473" y="52"/>
                  </a:lnTo>
                  <a:lnTo>
                    <a:pt x="476" y="61"/>
                  </a:lnTo>
                  <a:lnTo>
                    <a:pt x="478" y="71"/>
                  </a:lnTo>
                  <a:lnTo>
                    <a:pt x="482" y="82"/>
                  </a:lnTo>
                  <a:lnTo>
                    <a:pt x="480" y="106"/>
                  </a:lnTo>
                  <a:lnTo>
                    <a:pt x="479" y="130"/>
                  </a:lnTo>
                  <a:lnTo>
                    <a:pt x="476" y="153"/>
                  </a:lnTo>
                  <a:lnTo>
                    <a:pt x="474" y="165"/>
                  </a:lnTo>
                  <a:lnTo>
                    <a:pt x="470" y="176"/>
                  </a:lnTo>
                  <a:lnTo>
                    <a:pt x="468" y="180"/>
                  </a:lnTo>
                  <a:lnTo>
                    <a:pt x="464" y="184"/>
                  </a:lnTo>
                  <a:lnTo>
                    <a:pt x="454" y="189"/>
                  </a:lnTo>
                  <a:lnTo>
                    <a:pt x="444" y="194"/>
                  </a:lnTo>
                  <a:lnTo>
                    <a:pt x="435" y="200"/>
                  </a:lnTo>
                  <a:lnTo>
                    <a:pt x="425" y="211"/>
                  </a:lnTo>
                  <a:lnTo>
                    <a:pt x="418" y="219"/>
                  </a:lnTo>
                  <a:lnTo>
                    <a:pt x="414" y="225"/>
                  </a:lnTo>
                  <a:lnTo>
                    <a:pt x="412" y="230"/>
                  </a:lnTo>
                  <a:lnTo>
                    <a:pt x="412" y="233"/>
                  </a:lnTo>
                  <a:lnTo>
                    <a:pt x="412" y="235"/>
                  </a:lnTo>
                  <a:lnTo>
                    <a:pt x="414" y="237"/>
                  </a:lnTo>
                  <a:lnTo>
                    <a:pt x="414" y="237"/>
                  </a:lnTo>
                  <a:lnTo>
                    <a:pt x="412" y="238"/>
                  </a:lnTo>
                  <a:lnTo>
                    <a:pt x="409" y="238"/>
                  </a:lnTo>
                  <a:lnTo>
                    <a:pt x="403" y="240"/>
                  </a:lnTo>
                  <a:lnTo>
                    <a:pt x="393" y="242"/>
                  </a:lnTo>
                  <a:lnTo>
                    <a:pt x="387" y="244"/>
                  </a:lnTo>
                  <a:lnTo>
                    <a:pt x="380" y="246"/>
                  </a:lnTo>
                  <a:lnTo>
                    <a:pt x="372" y="248"/>
                  </a:lnTo>
                  <a:lnTo>
                    <a:pt x="363" y="251"/>
                  </a:lnTo>
                  <a:lnTo>
                    <a:pt x="353" y="254"/>
                  </a:lnTo>
                  <a:lnTo>
                    <a:pt x="341" y="258"/>
                  </a:lnTo>
                  <a:lnTo>
                    <a:pt x="306" y="268"/>
                  </a:lnTo>
                  <a:lnTo>
                    <a:pt x="271" y="277"/>
                  </a:lnTo>
                  <a:lnTo>
                    <a:pt x="235" y="285"/>
                  </a:lnTo>
                  <a:lnTo>
                    <a:pt x="200" y="294"/>
                  </a:lnTo>
                  <a:lnTo>
                    <a:pt x="193" y="296"/>
                  </a:lnTo>
                  <a:lnTo>
                    <a:pt x="186" y="297"/>
                  </a:lnTo>
                  <a:lnTo>
                    <a:pt x="171" y="301"/>
                  </a:lnTo>
                  <a:lnTo>
                    <a:pt x="164" y="303"/>
                  </a:lnTo>
                  <a:lnTo>
                    <a:pt x="158" y="304"/>
                  </a:lnTo>
                  <a:lnTo>
                    <a:pt x="154" y="305"/>
                  </a:lnTo>
                  <a:lnTo>
                    <a:pt x="153" y="305"/>
                  </a:lnTo>
                  <a:lnTo>
                    <a:pt x="135" y="314"/>
                  </a:lnTo>
                  <a:lnTo>
                    <a:pt x="119" y="322"/>
                  </a:lnTo>
                  <a:lnTo>
                    <a:pt x="105" y="329"/>
                  </a:lnTo>
                  <a:lnTo>
                    <a:pt x="93" y="335"/>
                  </a:lnTo>
                  <a:lnTo>
                    <a:pt x="82" y="340"/>
                  </a:lnTo>
                  <a:lnTo>
                    <a:pt x="73" y="346"/>
                  </a:lnTo>
                  <a:lnTo>
                    <a:pt x="65" y="352"/>
                  </a:lnTo>
                  <a:lnTo>
                    <a:pt x="57" y="358"/>
                  </a:lnTo>
                  <a:lnTo>
                    <a:pt x="50" y="364"/>
                  </a:lnTo>
                  <a:lnTo>
                    <a:pt x="44" y="372"/>
                  </a:lnTo>
                  <a:lnTo>
                    <a:pt x="37" y="380"/>
                  </a:lnTo>
                  <a:lnTo>
                    <a:pt x="31" y="390"/>
                  </a:lnTo>
                  <a:lnTo>
                    <a:pt x="24" y="401"/>
                  </a:lnTo>
                  <a:lnTo>
                    <a:pt x="17" y="414"/>
                  </a:lnTo>
                  <a:lnTo>
                    <a:pt x="9" y="430"/>
                  </a:lnTo>
                  <a:lnTo>
                    <a:pt x="0" y="447"/>
                  </a:ln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0" y="3654360"/>
            <a:ext cx="7734240" cy="1295640"/>
          </a:xfrm>
          <a:custGeom>
            <a:avLst/>
            <a:gdLst/>
            <a:ahLst/>
            <a:rect l="l" t="t" r="r" b="b"/>
            <a:pathLst>
              <a:path w="4776" h="410">
                <a:moveTo>
                  <a:pt x="0" y="410"/>
                </a:moveTo>
                <a:cubicBezTo>
                  <a:pt x="75" y="391"/>
                  <a:pt x="114" y="382"/>
                  <a:pt x="176" y="339"/>
                </a:cubicBezTo>
                <a:cubicBezTo>
                  <a:pt x="180" y="327"/>
                  <a:pt x="183" y="315"/>
                  <a:pt x="188" y="304"/>
                </a:cubicBezTo>
                <a:cubicBezTo>
                  <a:pt x="194" y="291"/>
                  <a:pt x="206" y="281"/>
                  <a:pt x="211" y="268"/>
                </a:cubicBezTo>
                <a:cubicBezTo>
                  <a:pt x="236" y="200"/>
                  <a:pt x="255" y="102"/>
                  <a:pt x="270" y="33"/>
                </a:cubicBezTo>
                <a:cubicBezTo>
                  <a:pt x="298" y="197"/>
                  <a:pt x="270" y="0"/>
                  <a:pt x="270" y="292"/>
                </a:cubicBezTo>
                <a:cubicBezTo>
                  <a:pt x="270" y="304"/>
                  <a:pt x="279" y="269"/>
                  <a:pt x="282" y="257"/>
                </a:cubicBezTo>
                <a:cubicBezTo>
                  <a:pt x="302" y="185"/>
                  <a:pt x="299" y="181"/>
                  <a:pt x="317" y="127"/>
                </a:cubicBezTo>
                <a:cubicBezTo>
                  <a:pt x="325" y="104"/>
                  <a:pt x="341" y="57"/>
                  <a:pt x="341" y="57"/>
                </a:cubicBezTo>
                <a:cubicBezTo>
                  <a:pt x="349" y="88"/>
                  <a:pt x="367" y="119"/>
                  <a:pt x="364" y="151"/>
                </a:cubicBezTo>
                <a:cubicBezTo>
                  <a:pt x="360" y="198"/>
                  <a:pt x="344" y="246"/>
                  <a:pt x="353" y="292"/>
                </a:cubicBezTo>
                <a:cubicBezTo>
                  <a:pt x="355" y="304"/>
                  <a:pt x="376" y="284"/>
                  <a:pt x="388" y="280"/>
                </a:cubicBezTo>
                <a:cubicBezTo>
                  <a:pt x="392" y="264"/>
                  <a:pt x="391" y="246"/>
                  <a:pt x="400" y="233"/>
                </a:cubicBezTo>
                <a:cubicBezTo>
                  <a:pt x="457" y="148"/>
                  <a:pt x="420" y="273"/>
                  <a:pt x="447" y="174"/>
                </a:cubicBezTo>
                <a:cubicBezTo>
                  <a:pt x="455" y="143"/>
                  <a:pt x="470" y="80"/>
                  <a:pt x="470" y="80"/>
                </a:cubicBezTo>
                <a:cubicBezTo>
                  <a:pt x="466" y="123"/>
                  <a:pt x="464" y="167"/>
                  <a:pt x="459" y="210"/>
                </a:cubicBezTo>
                <a:cubicBezTo>
                  <a:pt x="456" y="234"/>
                  <a:pt x="438" y="258"/>
                  <a:pt x="447" y="280"/>
                </a:cubicBezTo>
                <a:cubicBezTo>
                  <a:pt x="453" y="295"/>
                  <a:pt x="478" y="288"/>
                  <a:pt x="494" y="292"/>
                </a:cubicBezTo>
                <a:cubicBezTo>
                  <a:pt x="541" y="288"/>
                  <a:pt x="588" y="286"/>
                  <a:pt x="635" y="280"/>
                </a:cubicBezTo>
                <a:cubicBezTo>
                  <a:pt x="651" y="278"/>
                  <a:pt x="666" y="268"/>
                  <a:pt x="682" y="268"/>
                </a:cubicBezTo>
                <a:cubicBezTo>
                  <a:pt x="741" y="268"/>
                  <a:pt x="799" y="285"/>
                  <a:pt x="858" y="292"/>
                </a:cubicBezTo>
                <a:cubicBezTo>
                  <a:pt x="933" y="288"/>
                  <a:pt x="1007" y="284"/>
                  <a:pt x="1082" y="280"/>
                </a:cubicBezTo>
                <a:cubicBezTo>
                  <a:pt x="1278" y="268"/>
                  <a:pt x="1310" y="293"/>
                  <a:pt x="1211" y="245"/>
                </a:cubicBezTo>
                <a:cubicBezTo>
                  <a:pt x="1168" y="179"/>
                  <a:pt x="1101" y="194"/>
                  <a:pt x="1023" y="186"/>
                </a:cubicBezTo>
                <a:cubicBezTo>
                  <a:pt x="1083" y="166"/>
                  <a:pt x="1096" y="163"/>
                  <a:pt x="1164" y="174"/>
                </a:cubicBezTo>
                <a:cubicBezTo>
                  <a:pt x="1248" y="202"/>
                  <a:pt x="1221" y="177"/>
                  <a:pt x="1258" y="233"/>
                </a:cubicBezTo>
                <a:cubicBezTo>
                  <a:pt x="1262" y="182"/>
                  <a:pt x="1255" y="129"/>
                  <a:pt x="1270" y="80"/>
                </a:cubicBezTo>
                <a:cubicBezTo>
                  <a:pt x="1274" y="66"/>
                  <a:pt x="1291" y="101"/>
                  <a:pt x="1294" y="115"/>
                </a:cubicBezTo>
                <a:cubicBezTo>
                  <a:pt x="1303" y="154"/>
                  <a:pt x="1301" y="194"/>
                  <a:pt x="1305" y="233"/>
                </a:cubicBezTo>
                <a:cubicBezTo>
                  <a:pt x="1385" y="182"/>
                  <a:pt x="1423" y="201"/>
                  <a:pt x="1529" y="210"/>
                </a:cubicBezTo>
                <a:cubicBezTo>
                  <a:pt x="1517" y="214"/>
                  <a:pt x="1506" y="219"/>
                  <a:pt x="1494" y="221"/>
                </a:cubicBezTo>
                <a:cubicBezTo>
                  <a:pt x="1467" y="226"/>
                  <a:pt x="1438" y="227"/>
                  <a:pt x="1411" y="233"/>
                </a:cubicBezTo>
                <a:cubicBezTo>
                  <a:pt x="1387" y="239"/>
                  <a:pt x="1341" y="257"/>
                  <a:pt x="1341" y="257"/>
                </a:cubicBezTo>
                <a:cubicBezTo>
                  <a:pt x="1333" y="269"/>
                  <a:pt x="1305" y="284"/>
                  <a:pt x="1317" y="292"/>
                </a:cubicBezTo>
                <a:cubicBezTo>
                  <a:pt x="1345" y="310"/>
                  <a:pt x="1400" y="259"/>
                  <a:pt x="1423" y="257"/>
                </a:cubicBezTo>
                <a:cubicBezTo>
                  <a:pt x="1521" y="247"/>
                  <a:pt x="1619" y="249"/>
                  <a:pt x="1717" y="245"/>
                </a:cubicBezTo>
                <a:cubicBezTo>
                  <a:pt x="1842" y="213"/>
                  <a:pt x="1686" y="245"/>
                  <a:pt x="1811" y="245"/>
                </a:cubicBezTo>
                <a:cubicBezTo>
                  <a:pt x="1933" y="245"/>
                  <a:pt x="2054" y="237"/>
                  <a:pt x="2176" y="233"/>
                </a:cubicBezTo>
                <a:cubicBezTo>
                  <a:pt x="2244" y="247"/>
                  <a:pt x="2310" y="257"/>
                  <a:pt x="2376" y="280"/>
                </a:cubicBezTo>
                <a:cubicBezTo>
                  <a:pt x="2394" y="229"/>
                  <a:pt x="2385" y="216"/>
                  <a:pt x="2341" y="186"/>
                </a:cubicBezTo>
                <a:cubicBezTo>
                  <a:pt x="2333" y="174"/>
                  <a:pt x="2305" y="159"/>
                  <a:pt x="2317" y="151"/>
                </a:cubicBezTo>
                <a:cubicBezTo>
                  <a:pt x="2325" y="146"/>
                  <a:pt x="2395" y="169"/>
                  <a:pt x="2411" y="174"/>
                </a:cubicBezTo>
                <a:cubicBezTo>
                  <a:pt x="2419" y="190"/>
                  <a:pt x="2424" y="207"/>
                  <a:pt x="2435" y="221"/>
                </a:cubicBezTo>
                <a:cubicBezTo>
                  <a:pt x="2444" y="232"/>
                  <a:pt x="2462" y="257"/>
                  <a:pt x="2470" y="245"/>
                </a:cubicBezTo>
                <a:cubicBezTo>
                  <a:pt x="2488" y="219"/>
                  <a:pt x="2478" y="182"/>
                  <a:pt x="2482" y="151"/>
                </a:cubicBezTo>
                <a:cubicBezTo>
                  <a:pt x="2483" y="155"/>
                  <a:pt x="2498" y="233"/>
                  <a:pt x="2517" y="233"/>
                </a:cubicBezTo>
                <a:cubicBezTo>
                  <a:pt x="2529" y="233"/>
                  <a:pt x="2525" y="210"/>
                  <a:pt x="2529" y="198"/>
                </a:cubicBezTo>
                <a:cubicBezTo>
                  <a:pt x="2557" y="212"/>
                  <a:pt x="2581" y="237"/>
                  <a:pt x="2611" y="245"/>
                </a:cubicBezTo>
                <a:cubicBezTo>
                  <a:pt x="2694" y="267"/>
                  <a:pt x="2795" y="277"/>
                  <a:pt x="2882" y="292"/>
                </a:cubicBezTo>
                <a:cubicBezTo>
                  <a:pt x="3029" y="254"/>
                  <a:pt x="3183" y="281"/>
                  <a:pt x="3329" y="315"/>
                </a:cubicBezTo>
                <a:cubicBezTo>
                  <a:pt x="3341" y="311"/>
                  <a:pt x="3362" y="316"/>
                  <a:pt x="3364" y="304"/>
                </a:cubicBezTo>
                <a:cubicBezTo>
                  <a:pt x="3373" y="234"/>
                  <a:pt x="3345" y="235"/>
                  <a:pt x="3305" y="221"/>
                </a:cubicBezTo>
                <a:cubicBezTo>
                  <a:pt x="3301" y="209"/>
                  <a:pt x="3301" y="196"/>
                  <a:pt x="3293" y="186"/>
                </a:cubicBezTo>
                <a:cubicBezTo>
                  <a:pt x="3256" y="140"/>
                  <a:pt x="3240" y="190"/>
                  <a:pt x="3282" y="127"/>
                </a:cubicBezTo>
                <a:cubicBezTo>
                  <a:pt x="3368" y="157"/>
                  <a:pt x="3330" y="140"/>
                  <a:pt x="3399" y="174"/>
                </a:cubicBezTo>
                <a:cubicBezTo>
                  <a:pt x="3403" y="190"/>
                  <a:pt x="3407" y="205"/>
                  <a:pt x="3411" y="221"/>
                </a:cubicBezTo>
                <a:cubicBezTo>
                  <a:pt x="3415" y="241"/>
                  <a:pt x="3404" y="286"/>
                  <a:pt x="3423" y="280"/>
                </a:cubicBezTo>
                <a:cubicBezTo>
                  <a:pt x="3446" y="273"/>
                  <a:pt x="3424" y="221"/>
                  <a:pt x="3446" y="210"/>
                </a:cubicBezTo>
                <a:cubicBezTo>
                  <a:pt x="3462" y="202"/>
                  <a:pt x="3477" y="194"/>
                  <a:pt x="3493" y="186"/>
                </a:cubicBezTo>
                <a:cubicBezTo>
                  <a:pt x="3497" y="174"/>
                  <a:pt x="3493" y="151"/>
                  <a:pt x="3505" y="151"/>
                </a:cubicBezTo>
                <a:cubicBezTo>
                  <a:pt x="3517" y="151"/>
                  <a:pt x="3513" y="174"/>
                  <a:pt x="3517" y="186"/>
                </a:cubicBezTo>
                <a:cubicBezTo>
                  <a:pt x="3525" y="213"/>
                  <a:pt x="3532" y="241"/>
                  <a:pt x="3540" y="268"/>
                </a:cubicBezTo>
                <a:cubicBezTo>
                  <a:pt x="3572" y="261"/>
                  <a:pt x="3603" y="246"/>
                  <a:pt x="3635" y="268"/>
                </a:cubicBezTo>
                <a:cubicBezTo>
                  <a:pt x="3647" y="276"/>
                  <a:pt x="3644" y="301"/>
                  <a:pt x="3658" y="304"/>
                </a:cubicBezTo>
                <a:cubicBezTo>
                  <a:pt x="3727" y="318"/>
                  <a:pt x="3799" y="311"/>
                  <a:pt x="3870" y="315"/>
                </a:cubicBezTo>
                <a:cubicBezTo>
                  <a:pt x="3932" y="305"/>
                  <a:pt x="3964" y="289"/>
                  <a:pt x="4023" y="304"/>
                </a:cubicBezTo>
                <a:cubicBezTo>
                  <a:pt x="4103" y="292"/>
                  <a:pt x="4167" y="294"/>
                  <a:pt x="4246" y="315"/>
                </a:cubicBezTo>
                <a:cubicBezTo>
                  <a:pt x="4277" y="323"/>
                  <a:pt x="4340" y="339"/>
                  <a:pt x="4340" y="339"/>
                </a:cubicBezTo>
                <a:cubicBezTo>
                  <a:pt x="4492" y="324"/>
                  <a:pt x="4434" y="322"/>
                  <a:pt x="4599" y="339"/>
                </a:cubicBezTo>
                <a:cubicBezTo>
                  <a:pt x="4630" y="342"/>
                  <a:pt x="4662" y="346"/>
                  <a:pt x="4693" y="351"/>
                </a:cubicBezTo>
                <a:cubicBezTo>
                  <a:pt x="4709" y="354"/>
                  <a:pt x="4724" y="359"/>
                  <a:pt x="4740" y="363"/>
                </a:cubicBezTo>
                <a:cubicBezTo>
                  <a:pt x="4752" y="366"/>
                  <a:pt x="4776" y="374"/>
                  <a:pt x="4776" y="37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opo pochi giorni, il bruchino, tutto triste, si rinchiuse in un bozz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91400" y="-106200"/>
            <a:ext cx="2097000" cy="5224320"/>
          </a:xfrm>
          <a:custGeom>
            <a:avLst/>
            <a:gdLst/>
            <a:ahLst/>
            <a:rect l="l" t="t" r="r" b="b"/>
            <a:pathLst>
              <a:path w="1321" h="3291">
                <a:moveTo>
                  <a:pt x="39" y="2891"/>
                </a:moveTo>
                <a:cubicBezTo>
                  <a:pt x="200" y="2836"/>
                  <a:pt x="0" y="2860"/>
                  <a:pt x="333" y="2844"/>
                </a:cubicBezTo>
                <a:cubicBezTo>
                  <a:pt x="360" y="2840"/>
                  <a:pt x="390" y="2844"/>
                  <a:pt x="415" y="2832"/>
                </a:cubicBezTo>
                <a:cubicBezTo>
                  <a:pt x="426" y="2826"/>
                  <a:pt x="418" y="2806"/>
                  <a:pt x="427" y="2797"/>
                </a:cubicBezTo>
                <a:cubicBezTo>
                  <a:pt x="436" y="2788"/>
                  <a:pt x="451" y="2789"/>
                  <a:pt x="463" y="2785"/>
                </a:cubicBezTo>
                <a:cubicBezTo>
                  <a:pt x="490" y="2702"/>
                  <a:pt x="478" y="2738"/>
                  <a:pt x="498" y="2679"/>
                </a:cubicBezTo>
                <a:cubicBezTo>
                  <a:pt x="502" y="2667"/>
                  <a:pt x="510" y="2644"/>
                  <a:pt x="510" y="2644"/>
                </a:cubicBezTo>
                <a:cubicBezTo>
                  <a:pt x="500" y="2299"/>
                  <a:pt x="487" y="2151"/>
                  <a:pt x="498" y="1808"/>
                </a:cubicBezTo>
                <a:cubicBezTo>
                  <a:pt x="489" y="1639"/>
                  <a:pt x="467" y="1458"/>
                  <a:pt x="510" y="1291"/>
                </a:cubicBezTo>
                <a:cubicBezTo>
                  <a:pt x="496" y="562"/>
                  <a:pt x="551" y="870"/>
                  <a:pt x="474" y="561"/>
                </a:cubicBezTo>
                <a:cubicBezTo>
                  <a:pt x="449" y="462"/>
                  <a:pt x="481" y="561"/>
                  <a:pt x="439" y="479"/>
                </a:cubicBezTo>
                <a:cubicBezTo>
                  <a:pt x="412" y="426"/>
                  <a:pt x="407" y="360"/>
                  <a:pt x="392" y="302"/>
                </a:cubicBezTo>
                <a:cubicBezTo>
                  <a:pt x="381" y="259"/>
                  <a:pt x="298" y="208"/>
                  <a:pt x="298" y="208"/>
                </a:cubicBezTo>
                <a:cubicBezTo>
                  <a:pt x="279" y="153"/>
                  <a:pt x="290" y="137"/>
                  <a:pt x="239" y="102"/>
                </a:cubicBezTo>
                <a:cubicBezTo>
                  <a:pt x="204" y="0"/>
                  <a:pt x="476" y="67"/>
                  <a:pt x="486" y="67"/>
                </a:cubicBezTo>
                <a:cubicBezTo>
                  <a:pt x="690" y="73"/>
                  <a:pt x="894" y="75"/>
                  <a:pt x="1098" y="79"/>
                </a:cubicBezTo>
                <a:cubicBezTo>
                  <a:pt x="1087" y="155"/>
                  <a:pt x="1068" y="227"/>
                  <a:pt x="1051" y="302"/>
                </a:cubicBezTo>
                <a:cubicBezTo>
                  <a:pt x="1043" y="659"/>
                  <a:pt x="1054" y="766"/>
                  <a:pt x="1004" y="1032"/>
                </a:cubicBezTo>
                <a:cubicBezTo>
                  <a:pt x="1011" y="1284"/>
                  <a:pt x="1013" y="1513"/>
                  <a:pt x="992" y="1761"/>
                </a:cubicBezTo>
                <a:cubicBezTo>
                  <a:pt x="986" y="1992"/>
                  <a:pt x="1010" y="2135"/>
                  <a:pt x="945" y="2326"/>
                </a:cubicBezTo>
                <a:cubicBezTo>
                  <a:pt x="941" y="2459"/>
                  <a:pt x="940" y="2593"/>
                  <a:pt x="933" y="2726"/>
                </a:cubicBezTo>
                <a:cubicBezTo>
                  <a:pt x="925" y="2891"/>
                  <a:pt x="901" y="2955"/>
                  <a:pt x="1051" y="3032"/>
                </a:cubicBezTo>
                <a:cubicBezTo>
                  <a:pt x="1116" y="3130"/>
                  <a:pt x="1029" y="3015"/>
                  <a:pt x="1110" y="3079"/>
                </a:cubicBezTo>
                <a:cubicBezTo>
                  <a:pt x="1222" y="3168"/>
                  <a:pt x="1047" y="3071"/>
                  <a:pt x="1168" y="3126"/>
                </a:cubicBezTo>
                <a:cubicBezTo>
                  <a:pt x="1200" y="3141"/>
                  <a:pt x="1262" y="3173"/>
                  <a:pt x="1262" y="3173"/>
                </a:cubicBezTo>
                <a:cubicBezTo>
                  <a:pt x="1295" y="3268"/>
                  <a:pt x="1246" y="3155"/>
                  <a:pt x="1309" y="3220"/>
                </a:cubicBezTo>
                <a:cubicBezTo>
                  <a:pt x="1318" y="3229"/>
                  <a:pt x="1317" y="3244"/>
                  <a:pt x="1321" y="3256"/>
                </a:cubicBezTo>
                <a:cubicBezTo>
                  <a:pt x="1284" y="3281"/>
                  <a:pt x="1287" y="3291"/>
                  <a:pt x="1239" y="3267"/>
                </a:cubicBezTo>
                <a:cubicBezTo>
                  <a:pt x="1198" y="3247"/>
                  <a:pt x="1149" y="3190"/>
                  <a:pt x="1098" y="3185"/>
                </a:cubicBezTo>
                <a:cubicBezTo>
                  <a:pt x="1028" y="3178"/>
                  <a:pt x="957" y="3177"/>
                  <a:pt x="886" y="3173"/>
                </a:cubicBezTo>
                <a:cubicBezTo>
                  <a:pt x="866" y="3166"/>
                  <a:pt x="817" y="3151"/>
                  <a:pt x="804" y="3138"/>
                </a:cubicBezTo>
                <a:cubicBezTo>
                  <a:pt x="730" y="3065"/>
                  <a:pt x="828" y="3107"/>
                  <a:pt x="745" y="3079"/>
                </a:cubicBezTo>
                <a:cubicBezTo>
                  <a:pt x="703" y="3017"/>
                  <a:pt x="735" y="3047"/>
                  <a:pt x="627" y="3020"/>
                </a:cubicBezTo>
                <a:lnTo>
                  <a:pt x="486" y="2973"/>
                </a:lnTo>
                <a:cubicBezTo>
                  <a:pt x="486" y="2973"/>
                  <a:pt x="486" y="2973"/>
                  <a:pt x="486" y="2973"/>
                </a:cubicBezTo>
                <a:cubicBezTo>
                  <a:pt x="361" y="2955"/>
                  <a:pt x="236" y="2938"/>
                  <a:pt x="110" y="2926"/>
                </a:cubicBezTo>
                <a:cubicBezTo>
                  <a:pt x="35" y="2902"/>
                  <a:pt x="39" y="2928"/>
                  <a:pt x="39" y="2891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333760" y="914400"/>
            <a:ext cx="2377800" cy="1020600"/>
            <a:chOff x="5333760" y="914400"/>
            <a:chExt cx="2377800" cy="1020600"/>
          </a:xfrm>
        </p:grpSpPr>
        <p:sp>
          <p:nvSpPr>
            <p:cNvPr id="511" name=""/>
            <p:cNvSpPr/>
            <p:nvPr/>
          </p:nvSpPr>
          <p:spPr>
            <a:xfrm flipH="1">
              <a:off x="5333400" y="914400"/>
              <a:ext cx="2377800" cy="690480"/>
            </a:xfrm>
            <a:custGeom>
              <a:avLst/>
              <a:gdLst/>
              <a:ahLst/>
              <a:rect l="l" t="t" r="r" b="b"/>
              <a:pathLst>
                <a:path w="1498" h="435">
                  <a:moveTo>
                    <a:pt x="28" y="282"/>
                  </a:moveTo>
                  <a:cubicBezTo>
                    <a:pt x="174" y="261"/>
                    <a:pt x="317" y="229"/>
                    <a:pt x="463" y="212"/>
                  </a:cubicBezTo>
                  <a:cubicBezTo>
                    <a:pt x="596" y="178"/>
                    <a:pt x="726" y="165"/>
                    <a:pt x="863" y="153"/>
                  </a:cubicBezTo>
                  <a:cubicBezTo>
                    <a:pt x="1005" y="117"/>
                    <a:pt x="1141" y="60"/>
                    <a:pt x="1287" y="35"/>
                  </a:cubicBezTo>
                  <a:cubicBezTo>
                    <a:pt x="1334" y="27"/>
                    <a:pt x="1381" y="19"/>
                    <a:pt x="1428" y="11"/>
                  </a:cubicBezTo>
                  <a:cubicBezTo>
                    <a:pt x="1451" y="7"/>
                    <a:pt x="1498" y="0"/>
                    <a:pt x="1498" y="0"/>
                  </a:cubicBezTo>
                  <a:cubicBezTo>
                    <a:pt x="1455" y="21"/>
                    <a:pt x="1412" y="29"/>
                    <a:pt x="1369" y="47"/>
                  </a:cubicBezTo>
                  <a:cubicBezTo>
                    <a:pt x="1293" y="80"/>
                    <a:pt x="1220" y="120"/>
                    <a:pt x="1145" y="153"/>
                  </a:cubicBezTo>
                  <a:cubicBezTo>
                    <a:pt x="1050" y="195"/>
                    <a:pt x="940" y="211"/>
                    <a:pt x="840" y="235"/>
                  </a:cubicBezTo>
                  <a:cubicBezTo>
                    <a:pt x="643" y="282"/>
                    <a:pt x="454" y="313"/>
                    <a:pt x="251" y="329"/>
                  </a:cubicBezTo>
                  <a:cubicBezTo>
                    <a:pt x="203" y="339"/>
                    <a:pt x="158" y="353"/>
                    <a:pt x="110" y="364"/>
                  </a:cubicBezTo>
                  <a:cubicBezTo>
                    <a:pt x="87" y="380"/>
                    <a:pt x="63" y="396"/>
                    <a:pt x="40" y="412"/>
                  </a:cubicBezTo>
                  <a:cubicBezTo>
                    <a:pt x="30" y="419"/>
                    <a:pt x="5" y="435"/>
                    <a:pt x="4" y="423"/>
                  </a:cubicBezTo>
                  <a:cubicBezTo>
                    <a:pt x="0" y="376"/>
                    <a:pt x="20" y="329"/>
                    <a:pt x="28" y="282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451120" y="914400"/>
              <a:ext cx="1693800" cy="466560"/>
              <a:chOff x="5451120" y="914400"/>
              <a:chExt cx="1693800" cy="466560"/>
            </a:xfrm>
          </p:grpSpPr>
          <p:sp>
            <p:nvSpPr>
              <p:cNvPr id="513" name=""/>
              <p:cNvSpPr/>
              <p:nvPr/>
            </p:nvSpPr>
            <p:spPr>
              <a:xfrm flipH="1">
                <a:off x="6490440" y="914400"/>
                <a:ext cx="654120" cy="353880"/>
              </a:xfrm>
              <a:custGeom>
                <a:avLst/>
                <a:gdLst/>
                <a:ahLst/>
                <a:rect l="l" t="t" r="r" b="b"/>
                <a:pathLst>
                  <a:path w="412" h="223">
                    <a:moveTo>
                      <a:pt x="0" y="223"/>
                    </a:moveTo>
                    <a:cubicBezTo>
                      <a:pt x="25" y="215"/>
                      <a:pt x="53" y="211"/>
                      <a:pt x="71" y="188"/>
                    </a:cubicBezTo>
                    <a:cubicBezTo>
                      <a:pt x="79" y="178"/>
                      <a:pt x="74" y="162"/>
                      <a:pt x="83" y="153"/>
                    </a:cubicBezTo>
                    <a:cubicBezTo>
                      <a:pt x="83" y="153"/>
                      <a:pt x="199" y="112"/>
                      <a:pt x="212" y="106"/>
                    </a:cubicBezTo>
                    <a:cubicBezTo>
                      <a:pt x="271" y="17"/>
                      <a:pt x="186" y="130"/>
                      <a:pt x="306" y="47"/>
                    </a:cubicBezTo>
                    <a:cubicBezTo>
                      <a:pt x="318" y="39"/>
                      <a:pt x="328" y="29"/>
                      <a:pt x="341" y="23"/>
                    </a:cubicBezTo>
                    <a:cubicBezTo>
                      <a:pt x="364" y="13"/>
                      <a:pt x="412" y="0"/>
                      <a:pt x="412" y="0"/>
                    </a:cubicBezTo>
                    <a:cubicBezTo>
                      <a:pt x="345" y="44"/>
                      <a:pt x="277" y="93"/>
                      <a:pt x="200" y="117"/>
                    </a:cubicBezTo>
                    <a:cubicBezTo>
                      <a:pt x="140" y="210"/>
                      <a:pt x="217" y="101"/>
                      <a:pt x="142" y="176"/>
                    </a:cubicBezTo>
                    <a:cubicBezTo>
                      <a:pt x="132" y="186"/>
                      <a:pt x="118" y="212"/>
                      <a:pt x="118" y="212"/>
                    </a:cubicBezTo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5450760" y="1304640"/>
                <a:ext cx="1376280" cy="76320"/>
              </a:xfrm>
              <a:custGeom>
                <a:avLst/>
                <a:gdLst/>
                <a:ahLst/>
                <a:rect l="l" t="t" r="r" b="b"/>
                <a:pathLst>
                  <a:path w="867" h="48">
                    <a:moveTo>
                      <a:pt x="294" y="1"/>
                    </a:moveTo>
                    <a:cubicBezTo>
                      <a:pt x="867" y="19"/>
                      <a:pt x="730" y="0"/>
                      <a:pt x="541" y="48"/>
                    </a:cubicBezTo>
                    <a:cubicBezTo>
                      <a:pt x="427" y="40"/>
                      <a:pt x="312" y="1"/>
                      <a:pt x="200" y="24"/>
                    </a:cubicBezTo>
                    <a:cubicBezTo>
                      <a:pt x="120" y="40"/>
                      <a:pt x="89" y="48"/>
                      <a:pt x="0" y="48"/>
                    </a:cubicBezTo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H="1">
              <a:off x="6333840" y="1400040"/>
              <a:ext cx="1254240" cy="534960"/>
            </a:xfrm>
            <a:custGeom>
              <a:avLst/>
              <a:gdLst/>
              <a:ahLst/>
              <a:rect l="l" t="t" r="r" b="b"/>
              <a:pathLst>
                <a:path w="790" h="337">
                  <a:moveTo>
                    <a:pt x="21" y="106"/>
                  </a:moveTo>
                  <a:cubicBezTo>
                    <a:pt x="112" y="115"/>
                    <a:pt x="139" y="119"/>
                    <a:pt x="209" y="164"/>
                  </a:cubicBezTo>
                  <a:cubicBezTo>
                    <a:pt x="217" y="180"/>
                    <a:pt x="220" y="199"/>
                    <a:pt x="232" y="211"/>
                  </a:cubicBezTo>
                  <a:cubicBezTo>
                    <a:pt x="299" y="278"/>
                    <a:pt x="418" y="300"/>
                    <a:pt x="503" y="329"/>
                  </a:cubicBezTo>
                  <a:cubicBezTo>
                    <a:pt x="558" y="323"/>
                    <a:pt x="622" y="337"/>
                    <a:pt x="668" y="306"/>
                  </a:cubicBezTo>
                  <a:cubicBezTo>
                    <a:pt x="680" y="298"/>
                    <a:pt x="680" y="279"/>
                    <a:pt x="691" y="270"/>
                  </a:cubicBezTo>
                  <a:cubicBezTo>
                    <a:pt x="712" y="251"/>
                    <a:pt x="790" y="216"/>
                    <a:pt x="762" y="223"/>
                  </a:cubicBezTo>
                  <a:cubicBezTo>
                    <a:pt x="713" y="236"/>
                    <a:pt x="677" y="243"/>
                    <a:pt x="632" y="258"/>
                  </a:cubicBezTo>
                  <a:cubicBezTo>
                    <a:pt x="609" y="266"/>
                    <a:pt x="562" y="282"/>
                    <a:pt x="562" y="282"/>
                  </a:cubicBezTo>
                  <a:cubicBezTo>
                    <a:pt x="520" y="268"/>
                    <a:pt x="470" y="280"/>
                    <a:pt x="432" y="258"/>
                  </a:cubicBezTo>
                  <a:cubicBezTo>
                    <a:pt x="408" y="244"/>
                    <a:pt x="412" y="195"/>
                    <a:pt x="385" y="188"/>
                  </a:cubicBezTo>
                  <a:cubicBezTo>
                    <a:pt x="369" y="184"/>
                    <a:pt x="354" y="180"/>
                    <a:pt x="338" y="176"/>
                  </a:cubicBezTo>
                  <a:cubicBezTo>
                    <a:pt x="306" y="83"/>
                    <a:pt x="354" y="192"/>
                    <a:pt x="291" y="129"/>
                  </a:cubicBezTo>
                  <a:cubicBezTo>
                    <a:pt x="228" y="66"/>
                    <a:pt x="337" y="114"/>
                    <a:pt x="244" y="82"/>
                  </a:cubicBezTo>
                  <a:cubicBezTo>
                    <a:pt x="236" y="70"/>
                    <a:pt x="232" y="56"/>
                    <a:pt x="221" y="47"/>
                  </a:cubicBezTo>
                  <a:cubicBezTo>
                    <a:pt x="200" y="28"/>
                    <a:pt x="150" y="0"/>
                    <a:pt x="150" y="0"/>
                  </a:cubicBezTo>
                  <a:cubicBezTo>
                    <a:pt x="141" y="3"/>
                    <a:pt x="0" y="42"/>
                    <a:pt x="9" y="70"/>
                  </a:cubicBezTo>
                  <a:cubicBezTo>
                    <a:pt x="13" y="82"/>
                    <a:pt x="17" y="94"/>
                    <a:pt x="21" y="106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086600" y="1447920"/>
            <a:ext cx="761760" cy="1447200"/>
            <a:chOff x="7086600" y="1447920"/>
            <a:chExt cx="761760" cy="1447200"/>
          </a:xfrm>
        </p:grpSpPr>
        <p:sp>
          <p:nvSpPr>
            <p:cNvPr id="517" name=""/>
            <p:cNvSpPr/>
            <p:nvPr/>
          </p:nvSpPr>
          <p:spPr>
            <a:xfrm>
              <a:off x="7086600" y="1447920"/>
              <a:ext cx="761760" cy="1447200"/>
            </a:xfrm>
            <a:custGeom>
              <a:avLst/>
              <a:gdLst/>
              <a:ahLst/>
              <a:rect l="l" t="t" r="r" b="b"/>
              <a:pathLst>
                <a:path w="323" h="500">
                  <a:moveTo>
                    <a:pt x="165" y="41"/>
                  </a:moveTo>
                  <a:cubicBezTo>
                    <a:pt x="126" y="54"/>
                    <a:pt x="86" y="64"/>
                    <a:pt x="47" y="77"/>
                  </a:cubicBezTo>
                  <a:cubicBezTo>
                    <a:pt x="14" y="181"/>
                    <a:pt x="69" y="0"/>
                    <a:pt x="24" y="206"/>
                  </a:cubicBezTo>
                  <a:cubicBezTo>
                    <a:pt x="19" y="230"/>
                    <a:pt x="0" y="277"/>
                    <a:pt x="0" y="277"/>
                  </a:cubicBezTo>
                  <a:cubicBezTo>
                    <a:pt x="4" y="309"/>
                    <a:pt x="14" y="464"/>
                    <a:pt x="71" y="477"/>
                  </a:cubicBezTo>
                  <a:cubicBezTo>
                    <a:pt x="130" y="491"/>
                    <a:pt x="103" y="483"/>
                    <a:pt x="153" y="500"/>
                  </a:cubicBezTo>
                  <a:cubicBezTo>
                    <a:pt x="323" y="443"/>
                    <a:pt x="193" y="110"/>
                    <a:pt x="189" y="30"/>
                  </a:cubicBezTo>
                  <a:cubicBezTo>
                    <a:pt x="129" y="48"/>
                    <a:pt x="105" y="53"/>
                    <a:pt x="36" y="5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7114680" y="1737720"/>
              <a:ext cx="530280" cy="1039320"/>
              <a:chOff x="7114680" y="1737720"/>
              <a:chExt cx="530280" cy="1039320"/>
            </a:xfrm>
          </p:grpSpPr>
          <p:sp>
            <p:nvSpPr>
              <p:cNvPr id="519" name=""/>
              <p:cNvSpPr/>
              <p:nvPr/>
            </p:nvSpPr>
            <p:spPr>
              <a:xfrm>
                <a:off x="7171200" y="1737720"/>
                <a:ext cx="385560" cy="34200"/>
              </a:xfrm>
              <a:custGeom>
                <a:avLst/>
                <a:gdLst/>
                <a:ahLst/>
                <a:rect l="l" t="t" r="r" b="b"/>
                <a:pathLst>
                  <a:path w="164" h="12">
                    <a:moveTo>
                      <a:pt x="0" y="0"/>
                    </a:moveTo>
                    <a:cubicBezTo>
                      <a:pt x="157" y="12"/>
                      <a:pt x="102" y="12"/>
                      <a:pt x="164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42760" y="1944360"/>
                <a:ext cx="442080" cy="66240"/>
              </a:xfrm>
              <a:custGeom>
                <a:avLst/>
                <a:gdLst/>
                <a:ahLst/>
                <a:rect l="l" t="t" r="r" b="b"/>
                <a:pathLst>
                  <a:path w="188" h="23">
                    <a:moveTo>
                      <a:pt x="0" y="0"/>
                    </a:moveTo>
                    <a:cubicBezTo>
                      <a:pt x="62" y="16"/>
                      <a:pt x="123" y="23"/>
                      <a:pt x="188" y="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171200" y="2113560"/>
                <a:ext cx="470520" cy="135360"/>
              </a:xfrm>
              <a:custGeom>
                <a:avLst/>
                <a:gdLst/>
                <a:ahLst/>
                <a:rect l="l" t="t" r="r" b="b"/>
                <a:pathLst>
                  <a:path w="200" h="47">
                    <a:moveTo>
                      <a:pt x="0" y="0"/>
                    </a:moveTo>
                    <a:cubicBezTo>
                      <a:pt x="68" y="22"/>
                      <a:pt x="127" y="47"/>
                      <a:pt x="200" y="4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114680" y="2315160"/>
                <a:ext cx="530280" cy="225360"/>
              </a:xfrm>
              <a:custGeom>
                <a:avLst/>
                <a:gdLst/>
                <a:ahLst/>
                <a:rect l="l" t="t" r="r" b="b"/>
                <a:pathLst>
                  <a:path w="247" h="59">
                    <a:moveTo>
                      <a:pt x="0" y="0"/>
                    </a:moveTo>
                    <a:cubicBezTo>
                      <a:pt x="54" y="19"/>
                      <a:pt x="110" y="20"/>
                      <a:pt x="165" y="35"/>
                    </a:cubicBezTo>
                    <a:cubicBezTo>
                      <a:pt x="181" y="39"/>
                      <a:pt x="196" y="42"/>
                      <a:pt x="212" y="47"/>
                    </a:cubicBezTo>
                    <a:cubicBezTo>
                      <a:pt x="224" y="50"/>
                      <a:pt x="247" y="59"/>
                      <a:pt x="247" y="5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142760" y="2486880"/>
                <a:ext cx="422280" cy="290160"/>
              </a:xfrm>
              <a:custGeom>
                <a:avLst/>
                <a:gdLst/>
                <a:ahLst/>
                <a:rect l="l" t="t" r="r" b="b"/>
                <a:pathLst>
                  <a:path w="235" h="71">
                    <a:moveTo>
                      <a:pt x="0" y="0"/>
                    </a:moveTo>
                    <a:cubicBezTo>
                      <a:pt x="87" y="22"/>
                      <a:pt x="144" y="71"/>
                      <a:pt x="235" y="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4" name=""/>
          <p:cNvGrpSpPr/>
          <p:nvPr/>
        </p:nvGrpSpPr>
        <p:grpSpPr>
          <a:xfrm>
            <a:off x="2637360" y="3748680"/>
            <a:ext cx="924480" cy="908280"/>
            <a:chOff x="2637360" y="3748680"/>
            <a:chExt cx="924480" cy="908280"/>
          </a:xfrm>
        </p:grpSpPr>
        <p:sp>
          <p:nvSpPr>
            <p:cNvPr id="525" name=""/>
            <p:cNvSpPr/>
            <p:nvPr/>
          </p:nvSpPr>
          <p:spPr>
            <a:xfrm rot="2451600">
              <a:off x="2808360" y="3839040"/>
              <a:ext cx="547560" cy="727200"/>
            </a:xfrm>
            <a:custGeom>
              <a:avLst/>
              <a:gdLst/>
              <a:ahLst/>
              <a:rect l="l" t="t" r="r" b="b"/>
              <a:pathLst>
                <a:path w="345" h="458">
                  <a:moveTo>
                    <a:pt x="306" y="0"/>
                  </a:moveTo>
                  <a:cubicBezTo>
                    <a:pt x="287" y="56"/>
                    <a:pt x="268" y="45"/>
                    <a:pt x="212" y="59"/>
                  </a:cubicBezTo>
                  <a:cubicBezTo>
                    <a:pt x="200" y="67"/>
                    <a:pt x="189" y="76"/>
                    <a:pt x="176" y="82"/>
                  </a:cubicBezTo>
                  <a:cubicBezTo>
                    <a:pt x="165" y="87"/>
                    <a:pt x="151" y="86"/>
                    <a:pt x="141" y="94"/>
                  </a:cubicBezTo>
                  <a:cubicBezTo>
                    <a:pt x="130" y="103"/>
                    <a:pt x="128" y="119"/>
                    <a:pt x="118" y="129"/>
                  </a:cubicBezTo>
                  <a:cubicBezTo>
                    <a:pt x="108" y="139"/>
                    <a:pt x="94" y="145"/>
                    <a:pt x="82" y="153"/>
                  </a:cubicBezTo>
                  <a:cubicBezTo>
                    <a:pt x="51" y="246"/>
                    <a:pt x="32" y="342"/>
                    <a:pt x="0" y="435"/>
                  </a:cubicBezTo>
                  <a:cubicBezTo>
                    <a:pt x="66" y="458"/>
                    <a:pt x="145" y="417"/>
                    <a:pt x="212" y="400"/>
                  </a:cubicBezTo>
                  <a:cubicBezTo>
                    <a:pt x="345" y="309"/>
                    <a:pt x="306" y="143"/>
                    <a:pt x="306" y="0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451600">
              <a:off x="3017160" y="3883320"/>
              <a:ext cx="411120" cy="560520"/>
            </a:xfrm>
            <a:custGeom>
              <a:avLst/>
              <a:gdLst/>
              <a:ahLst/>
              <a:rect l="l" t="t" r="r" b="b"/>
              <a:pathLst>
                <a:path w="259" h="353">
                  <a:moveTo>
                    <a:pt x="259" y="0"/>
                  </a:moveTo>
                  <a:cubicBezTo>
                    <a:pt x="235" y="16"/>
                    <a:pt x="212" y="31"/>
                    <a:pt x="188" y="47"/>
                  </a:cubicBezTo>
                  <a:cubicBezTo>
                    <a:pt x="167" y="61"/>
                    <a:pt x="173" y="94"/>
                    <a:pt x="165" y="118"/>
                  </a:cubicBezTo>
                  <a:cubicBezTo>
                    <a:pt x="153" y="153"/>
                    <a:pt x="141" y="188"/>
                    <a:pt x="129" y="224"/>
                  </a:cubicBezTo>
                  <a:cubicBezTo>
                    <a:pt x="125" y="236"/>
                    <a:pt x="128" y="252"/>
                    <a:pt x="118" y="259"/>
                  </a:cubicBezTo>
                  <a:cubicBezTo>
                    <a:pt x="94" y="275"/>
                    <a:pt x="47" y="306"/>
                    <a:pt x="47" y="306"/>
                  </a:cubicBezTo>
                  <a:cubicBezTo>
                    <a:pt x="19" y="348"/>
                    <a:pt x="36" y="335"/>
                    <a:pt x="0" y="353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610320" y="466560"/>
            <a:ext cx="236520" cy="524160"/>
            <a:chOff x="6610320" y="466560"/>
            <a:chExt cx="236520" cy="524160"/>
          </a:xfrm>
        </p:grpSpPr>
        <p:sp>
          <p:nvSpPr>
            <p:cNvPr id="528" name=""/>
            <p:cNvSpPr/>
            <p:nvPr/>
          </p:nvSpPr>
          <p:spPr>
            <a:xfrm>
              <a:off x="6703920" y="466560"/>
              <a:ext cx="142920" cy="524160"/>
            </a:xfrm>
            <a:custGeom>
              <a:avLst/>
              <a:gdLst/>
              <a:ahLst/>
              <a:rect l="l" t="t" r="r" b="b"/>
              <a:pathLst>
                <a:path w="90" h="330">
                  <a:moveTo>
                    <a:pt x="0" y="330"/>
                  </a:moveTo>
                  <a:cubicBezTo>
                    <a:pt x="35" y="221"/>
                    <a:pt x="10" y="107"/>
                    <a:pt x="47" y="0"/>
                  </a:cubicBezTo>
                  <a:cubicBezTo>
                    <a:pt x="66" y="96"/>
                    <a:pt x="90" y="132"/>
                    <a:pt x="59" y="247"/>
                  </a:cubicBezTo>
                  <a:cubicBezTo>
                    <a:pt x="55" y="261"/>
                    <a:pt x="31" y="259"/>
                    <a:pt x="23" y="271"/>
                  </a:cubicBezTo>
                  <a:cubicBezTo>
                    <a:pt x="11" y="288"/>
                    <a:pt x="8" y="310"/>
                    <a:pt x="0" y="33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10320" y="485640"/>
              <a:ext cx="168480" cy="411120"/>
            </a:xfrm>
            <a:custGeom>
              <a:avLst/>
              <a:gdLst/>
              <a:ahLst/>
              <a:rect l="l" t="t" r="r" b="b"/>
              <a:pathLst>
                <a:path w="106" h="259">
                  <a:moveTo>
                    <a:pt x="106" y="0"/>
                  </a:moveTo>
                  <a:cubicBezTo>
                    <a:pt x="78" y="84"/>
                    <a:pt x="103" y="57"/>
                    <a:pt x="47" y="94"/>
                  </a:cubicBezTo>
                  <a:cubicBezTo>
                    <a:pt x="39" y="106"/>
                    <a:pt x="30" y="116"/>
                    <a:pt x="24" y="129"/>
                  </a:cubicBezTo>
                  <a:cubicBezTo>
                    <a:pt x="14" y="152"/>
                    <a:pt x="0" y="200"/>
                    <a:pt x="0" y="200"/>
                  </a:cubicBezTo>
                  <a:cubicBezTo>
                    <a:pt x="14" y="240"/>
                    <a:pt x="26" y="259"/>
                    <a:pt x="71" y="259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08680" y="1357200"/>
            <a:ext cx="236520" cy="524160"/>
            <a:chOff x="5908680" y="1357200"/>
            <a:chExt cx="236520" cy="524160"/>
          </a:xfrm>
        </p:grpSpPr>
        <p:sp>
          <p:nvSpPr>
            <p:cNvPr id="531" name=""/>
            <p:cNvSpPr/>
            <p:nvPr/>
          </p:nvSpPr>
          <p:spPr>
            <a:xfrm>
              <a:off x="5908680" y="1357200"/>
              <a:ext cx="236520" cy="524160"/>
            </a:xfrm>
            <a:custGeom>
              <a:avLst/>
              <a:gdLst/>
              <a:ahLst/>
              <a:rect l="l" t="t" r="r" b="b"/>
              <a:pathLst>
                <a:path w="149" h="330">
                  <a:moveTo>
                    <a:pt x="136" y="16"/>
                  </a:moveTo>
                  <a:cubicBezTo>
                    <a:pt x="109" y="103"/>
                    <a:pt x="149" y="0"/>
                    <a:pt x="89" y="74"/>
                  </a:cubicBezTo>
                  <a:cubicBezTo>
                    <a:pt x="22" y="157"/>
                    <a:pt x="144" y="66"/>
                    <a:pt x="42" y="133"/>
                  </a:cubicBezTo>
                  <a:cubicBezTo>
                    <a:pt x="23" y="190"/>
                    <a:pt x="0" y="244"/>
                    <a:pt x="42" y="310"/>
                  </a:cubicBezTo>
                  <a:cubicBezTo>
                    <a:pt x="55" y="330"/>
                    <a:pt x="89" y="302"/>
                    <a:pt x="113" y="298"/>
                  </a:cubicBezTo>
                  <a:cubicBezTo>
                    <a:pt x="137" y="227"/>
                    <a:pt x="139" y="210"/>
                    <a:pt x="125" y="122"/>
                  </a:cubicBezTo>
                  <a:cubicBezTo>
                    <a:pt x="123" y="110"/>
                    <a:pt x="113" y="86"/>
                    <a:pt x="113" y="86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7080" y="1474920"/>
              <a:ext cx="110880" cy="280800"/>
            </a:xfrm>
            <a:custGeom>
              <a:avLst/>
              <a:gdLst/>
              <a:ahLst/>
              <a:rect l="l" t="t" r="r" b="b"/>
              <a:pathLst>
                <a:path w="70" h="177">
                  <a:moveTo>
                    <a:pt x="70" y="0"/>
                  </a:moveTo>
                  <a:cubicBezTo>
                    <a:pt x="62" y="12"/>
                    <a:pt x="56" y="26"/>
                    <a:pt x="46" y="36"/>
                  </a:cubicBezTo>
                  <a:cubicBezTo>
                    <a:pt x="36" y="46"/>
                    <a:pt x="14" y="45"/>
                    <a:pt x="11" y="59"/>
                  </a:cubicBezTo>
                  <a:cubicBezTo>
                    <a:pt x="0" y="104"/>
                    <a:pt x="29" y="148"/>
                    <a:pt x="58" y="17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6019920" y="4038480"/>
            <a:ext cx="880920" cy="471600"/>
            <a:chOff x="6019920" y="4038480"/>
            <a:chExt cx="880920" cy="471600"/>
          </a:xfrm>
        </p:grpSpPr>
        <p:sp>
          <p:nvSpPr>
            <p:cNvPr id="534" name=""/>
            <p:cNvSpPr/>
            <p:nvPr/>
          </p:nvSpPr>
          <p:spPr>
            <a:xfrm rot="16200000">
              <a:off x="6224400" y="3833640"/>
              <a:ext cx="471600" cy="880920"/>
            </a:xfrm>
            <a:custGeom>
              <a:avLst/>
              <a:gdLst/>
              <a:ahLst/>
              <a:rect l="l" t="t" r="r" b="b"/>
              <a:pathLst>
                <a:path w="297" h="555">
                  <a:moveTo>
                    <a:pt x="262" y="94"/>
                  </a:moveTo>
                  <a:cubicBezTo>
                    <a:pt x="191" y="198"/>
                    <a:pt x="287" y="73"/>
                    <a:pt x="203" y="141"/>
                  </a:cubicBezTo>
                  <a:cubicBezTo>
                    <a:pt x="130" y="200"/>
                    <a:pt x="229" y="161"/>
                    <a:pt x="144" y="188"/>
                  </a:cubicBezTo>
                  <a:cubicBezTo>
                    <a:pt x="91" y="224"/>
                    <a:pt x="115" y="235"/>
                    <a:pt x="62" y="271"/>
                  </a:cubicBezTo>
                  <a:cubicBezTo>
                    <a:pt x="36" y="348"/>
                    <a:pt x="0" y="437"/>
                    <a:pt x="62" y="518"/>
                  </a:cubicBezTo>
                  <a:cubicBezTo>
                    <a:pt x="91" y="555"/>
                    <a:pt x="156" y="510"/>
                    <a:pt x="203" y="506"/>
                  </a:cubicBezTo>
                  <a:cubicBezTo>
                    <a:pt x="279" y="480"/>
                    <a:pt x="273" y="470"/>
                    <a:pt x="297" y="400"/>
                  </a:cubicBezTo>
                  <a:cubicBezTo>
                    <a:pt x="275" y="188"/>
                    <a:pt x="285" y="322"/>
                    <a:pt x="285" y="0"/>
                  </a:cubicBez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8c3d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6200000">
              <a:off x="6299640" y="3907800"/>
              <a:ext cx="223920" cy="523440"/>
            </a:xfrm>
            <a:custGeom>
              <a:avLst/>
              <a:gdLst/>
              <a:ahLst/>
              <a:rect l="l" t="t" r="r" b="b"/>
              <a:pathLst>
                <a:path w="141" h="330">
                  <a:moveTo>
                    <a:pt x="141" y="0"/>
                  </a:moveTo>
                  <a:cubicBezTo>
                    <a:pt x="124" y="72"/>
                    <a:pt x="98" y="147"/>
                    <a:pt x="35" y="189"/>
                  </a:cubicBezTo>
                  <a:cubicBezTo>
                    <a:pt x="14" y="254"/>
                    <a:pt x="32" y="193"/>
                    <a:pt x="12" y="283"/>
                  </a:cubicBezTo>
                  <a:cubicBezTo>
                    <a:pt x="8" y="299"/>
                    <a:pt x="0" y="330"/>
                    <a:pt x="0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28600" y="6095880"/>
            <a:ext cx="554040" cy="549360"/>
            <a:chOff x="228600" y="6095880"/>
            <a:chExt cx="554040" cy="549360"/>
          </a:xfrm>
        </p:grpSpPr>
        <p:sp>
          <p:nvSpPr>
            <p:cNvPr id="537" name=""/>
            <p:cNvSpPr/>
            <p:nvPr/>
          </p:nvSpPr>
          <p:spPr>
            <a:xfrm>
              <a:off x="405720" y="6286680"/>
              <a:ext cx="212040" cy="22968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8600" y="6095880"/>
              <a:ext cx="554040" cy="54936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5720" y="6163200"/>
              <a:ext cx="102960" cy="27864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0640" y="6190200"/>
              <a:ext cx="154800" cy="18792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86920" y="6336360"/>
              <a:ext cx="81000" cy="8460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6440" y="6465240"/>
              <a:ext cx="59400" cy="11628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1040" y="6239880"/>
              <a:ext cx="75960" cy="7740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9200" y="6300720"/>
              <a:ext cx="88920" cy="781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1480" y="613512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 rot="10800000">
              <a:off x="293760" y="645048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048120" y="6248520"/>
            <a:ext cx="685800" cy="609480"/>
            <a:chOff x="3048120" y="6248520"/>
            <a:chExt cx="685800" cy="609480"/>
          </a:xfrm>
        </p:grpSpPr>
        <p:grpSp>
          <p:nvGrpSpPr>
            <p:cNvPr id="548" name=""/>
            <p:cNvGrpSpPr/>
            <p:nvPr/>
          </p:nvGrpSpPr>
          <p:grpSpPr>
            <a:xfrm>
              <a:off x="3090600" y="6248520"/>
              <a:ext cx="628920" cy="562320"/>
              <a:chOff x="3090600" y="6248520"/>
              <a:chExt cx="628920" cy="562320"/>
            </a:xfrm>
          </p:grpSpPr>
          <p:sp>
            <p:nvSpPr>
              <p:cNvPr id="549" name=""/>
              <p:cNvSpPr/>
              <p:nvPr/>
            </p:nvSpPr>
            <p:spPr>
              <a:xfrm>
                <a:off x="318852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56688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54240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44016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592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9816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9060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37176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27240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23748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6052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28644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37932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39840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5400000">
                <a:off x="343440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>
              <a:hlinkClick r:id="" action="ppaction://hlinkshowjump?jump=firstslide"/>
            </p:cNvPr>
            <p:cNvSpPr/>
            <p:nvPr/>
          </p:nvSpPr>
          <p:spPr>
            <a:xfrm>
              <a:off x="30481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8001000" y="6321600"/>
            <a:ext cx="914400" cy="533160"/>
            <a:chOff x="8001000" y="6321600"/>
            <a:chExt cx="914400" cy="533160"/>
          </a:xfrm>
        </p:grpSpPr>
        <p:grpSp>
          <p:nvGrpSpPr>
            <p:cNvPr id="566" name=""/>
            <p:cNvGrpSpPr/>
            <p:nvPr/>
          </p:nvGrpSpPr>
          <p:grpSpPr>
            <a:xfrm>
              <a:off x="8001000" y="6387840"/>
              <a:ext cx="846720" cy="333360"/>
              <a:chOff x="8001000" y="6387840"/>
              <a:chExt cx="846720" cy="33336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8001000" y="6387840"/>
                <a:ext cx="846720" cy="333360"/>
                <a:chOff x="8001000" y="6387840"/>
                <a:chExt cx="846720" cy="3333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8553240" y="640512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9" name=""/>
                <p:cNvGrpSpPr/>
                <p:nvPr/>
              </p:nvGrpSpPr>
              <p:grpSpPr>
                <a:xfrm>
                  <a:off x="8001000" y="6387840"/>
                  <a:ext cx="693000" cy="333360"/>
                  <a:chOff x="8001000" y="6387840"/>
                  <a:chExt cx="693000" cy="33336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8481240" y="638784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8411040" y="639648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8290800" y="640188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8227800" y="6445440"/>
                    <a:ext cx="19980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8125200" y="647208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8001000" y="650772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76" name=""/>
              <p:cNvSpPr/>
              <p:nvPr/>
            </p:nvSpPr>
            <p:spPr>
              <a:xfrm>
                <a:off x="8710920" y="648504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" name="">
              <a:hlinkClick r:id="" action="ppaction://hlinkshowjump?jump=nextslide"/>
            </p:cNvPr>
            <p:cNvSpPr/>
            <p:nvPr/>
          </p:nvSpPr>
          <p:spPr>
            <a:xfrm>
              <a:off x="8001000" y="6321600"/>
              <a:ext cx="914400" cy="53316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37035" h="21600">
                  <a:moveTo>
                    <a:pt x="0" y="0"/>
                  </a:moveTo>
                  <a:lnTo>
                    <a:pt x="37035" y="0"/>
                  </a:lnTo>
                  <a:lnTo>
                    <a:pt x="37035" y="21600"/>
                  </a:lnTo>
                  <a:lnTo>
                    <a:pt x="0" y="21600"/>
                  </a:lnTo>
                  <a:close/>
                </a:path>
                <a:path fill="lightenLess" w="37035" h="21600">
                  <a:moveTo>
                    <a:pt x="0" y="0"/>
                  </a:moveTo>
                  <a:lnTo>
                    <a:pt x="37035" y="0"/>
                  </a:lnTo>
                  <a:lnTo>
                    <a:pt x="35635" y="1400"/>
                  </a:lnTo>
                  <a:lnTo>
                    <a:pt x="1400" y="1400"/>
                  </a:lnTo>
                  <a:close/>
                </a:path>
                <a:path fill="darken" w="37035" h="21600">
                  <a:moveTo>
                    <a:pt x="37035" y="0"/>
                  </a:moveTo>
                  <a:lnTo>
                    <a:pt x="37035" y="21600"/>
                  </a:lnTo>
                  <a:lnTo>
                    <a:pt x="35635" y="20200"/>
                  </a:lnTo>
                  <a:lnTo>
                    <a:pt x="35635" y="1400"/>
                  </a:lnTo>
                  <a:close/>
                </a:path>
                <a:path fill="darkenLess" w="37035" h="21600">
                  <a:moveTo>
                    <a:pt x="370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35" y="20200"/>
                  </a:lnTo>
                  <a:close/>
                </a:path>
                <a:path fill="lighten" w="370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>
            <a:off x="297180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" action="ppaction://hlinkshowjump?jump=nextslide"/>
          </p:cNvPr>
          <p:cNvSpPr/>
          <p:nvPr/>
        </p:nvSpPr>
        <p:spPr>
          <a:xfrm>
            <a:off x="800100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10080" y="6095880"/>
            <a:ext cx="76212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100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1752120" y="4145040"/>
            <a:ext cx="1394280" cy="596880"/>
            <a:chOff x="1752120" y="4145040"/>
            <a:chExt cx="1394280" cy="596880"/>
          </a:xfrm>
        </p:grpSpPr>
        <p:sp>
          <p:nvSpPr>
            <p:cNvPr id="584" name=""/>
            <p:cNvSpPr/>
            <p:nvPr/>
          </p:nvSpPr>
          <p:spPr>
            <a:xfrm flipH="1">
              <a:off x="2743200" y="4408560"/>
              <a:ext cx="403200" cy="33336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193" y="47"/>
                  </a:moveTo>
                  <a:cubicBezTo>
                    <a:pt x="181" y="39"/>
                    <a:pt x="171" y="30"/>
                    <a:pt x="158" y="24"/>
                  </a:cubicBezTo>
                  <a:cubicBezTo>
                    <a:pt x="135" y="14"/>
                    <a:pt x="87" y="0"/>
                    <a:pt x="87" y="0"/>
                  </a:cubicBezTo>
                  <a:cubicBezTo>
                    <a:pt x="0" y="30"/>
                    <a:pt x="41" y="119"/>
                    <a:pt x="87" y="165"/>
                  </a:cubicBezTo>
                  <a:cubicBezTo>
                    <a:pt x="109" y="187"/>
                    <a:pt x="130" y="191"/>
                    <a:pt x="158" y="200"/>
                  </a:cubicBezTo>
                  <a:cubicBezTo>
                    <a:pt x="185" y="196"/>
                    <a:pt x="224" y="210"/>
                    <a:pt x="240" y="188"/>
                  </a:cubicBezTo>
                  <a:cubicBezTo>
                    <a:pt x="254" y="168"/>
                    <a:pt x="222" y="142"/>
                    <a:pt x="217" y="118"/>
                  </a:cubicBezTo>
                  <a:cubicBezTo>
                    <a:pt x="213" y="98"/>
                    <a:pt x="211" y="78"/>
                    <a:pt x="205" y="59"/>
                  </a:cubicBezTo>
                  <a:cubicBezTo>
                    <a:pt x="203" y="54"/>
                    <a:pt x="197" y="51"/>
                    <a:pt x="193" y="47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1751760" y="4145040"/>
              <a:ext cx="474840" cy="309600"/>
            </a:xfrm>
            <a:custGeom>
              <a:avLst/>
              <a:gdLst/>
              <a:ahLst/>
              <a:rect l="l" t="t" r="r" b="b"/>
              <a:pathLst>
                <a:path w="299" h="195">
                  <a:moveTo>
                    <a:pt x="162" y="195"/>
                  </a:moveTo>
                  <a:cubicBezTo>
                    <a:pt x="101" y="185"/>
                    <a:pt x="70" y="182"/>
                    <a:pt x="21" y="148"/>
                  </a:cubicBezTo>
                  <a:cubicBezTo>
                    <a:pt x="0" y="87"/>
                    <a:pt x="2" y="67"/>
                    <a:pt x="56" y="31"/>
                  </a:cubicBezTo>
                  <a:cubicBezTo>
                    <a:pt x="299" y="47"/>
                    <a:pt x="176" y="0"/>
                    <a:pt x="256" y="125"/>
                  </a:cubicBezTo>
                  <a:cubicBezTo>
                    <a:pt x="248" y="150"/>
                    <a:pt x="247" y="181"/>
                    <a:pt x="209" y="184"/>
                  </a:cubicBezTo>
                  <a:cubicBezTo>
                    <a:pt x="135" y="190"/>
                    <a:pt x="41" y="147"/>
                    <a:pt x="162" y="195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030400" y="4221360"/>
              <a:ext cx="342720" cy="37476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188" y="106"/>
                  </a:moveTo>
                  <a:cubicBezTo>
                    <a:pt x="175" y="49"/>
                    <a:pt x="187" y="31"/>
                    <a:pt x="129" y="12"/>
                  </a:cubicBezTo>
                  <a:cubicBezTo>
                    <a:pt x="119" y="13"/>
                    <a:pt x="0" y="0"/>
                    <a:pt x="0" y="59"/>
                  </a:cubicBezTo>
                  <a:cubicBezTo>
                    <a:pt x="0" y="136"/>
                    <a:pt x="64" y="176"/>
                    <a:pt x="118" y="212"/>
                  </a:cubicBezTo>
                  <a:cubicBezTo>
                    <a:pt x="130" y="220"/>
                    <a:pt x="153" y="236"/>
                    <a:pt x="153" y="236"/>
                  </a:cubicBezTo>
                  <a:cubicBezTo>
                    <a:pt x="165" y="232"/>
                    <a:pt x="179" y="233"/>
                    <a:pt x="188" y="224"/>
                  </a:cubicBezTo>
                  <a:cubicBezTo>
                    <a:pt x="216" y="196"/>
                    <a:pt x="188" y="140"/>
                    <a:pt x="188" y="106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186640" y="4235760"/>
              <a:ext cx="298440" cy="365040"/>
            </a:xfrm>
            <a:custGeom>
              <a:avLst/>
              <a:gdLst/>
              <a:ahLst/>
              <a:rect l="l" t="t" r="r" b="b"/>
              <a:pathLst>
                <a:path w="188" h="230">
                  <a:moveTo>
                    <a:pt x="130" y="74"/>
                  </a:moveTo>
                  <a:cubicBezTo>
                    <a:pt x="126" y="58"/>
                    <a:pt x="133" y="32"/>
                    <a:pt x="118" y="27"/>
                  </a:cubicBezTo>
                  <a:cubicBezTo>
                    <a:pt x="38" y="0"/>
                    <a:pt x="29" y="31"/>
                    <a:pt x="0" y="74"/>
                  </a:cubicBezTo>
                  <a:cubicBezTo>
                    <a:pt x="13" y="137"/>
                    <a:pt x="19" y="156"/>
                    <a:pt x="71" y="192"/>
                  </a:cubicBezTo>
                  <a:cubicBezTo>
                    <a:pt x="79" y="204"/>
                    <a:pt x="82" y="223"/>
                    <a:pt x="95" y="227"/>
                  </a:cubicBezTo>
                  <a:cubicBezTo>
                    <a:pt x="103" y="230"/>
                    <a:pt x="166" y="207"/>
                    <a:pt x="177" y="203"/>
                  </a:cubicBezTo>
                  <a:cubicBezTo>
                    <a:pt x="151" y="78"/>
                    <a:pt x="188" y="104"/>
                    <a:pt x="130" y="74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285280" y="4243680"/>
              <a:ext cx="393480" cy="333360"/>
            </a:xfrm>
            <a:custGeom>
              <a:avLst/>
              <a:gdLst/>
              <a:ahLst/>
              <a:rect l="l" t="t" r="r" b="b"/>
              <a:pathLst>
                <a:path w="248" h="210">
                  <a:moveTo>
                    <a:pt x="193" y="92"/>
                  </a:moveTo>
                  <a:cubicBezTo>
                    <a:pt x="139" y="12"/>
                    <a:pt x="173" y="31"/>
                    <a:pt x="111" y="10"/>
                  </a:cubicBezTo>
                  <a:cubicBezTo>
                    <a:pt x="80" y="14"/>
                    <a:pt x="39" y="0"/>
                    <a:pt x="17" y="22"/>
                  </a:cubicBezTo>
                  <a:cubicBezTo>
                    <a:pt x="0" y="39"/>
                    <a:pt x="23" y="69"/>
                    <a:pt x="28" y="92"/>
                  </a:cubicBezTo>
                  <a:cubicBezTo>
                    <a:pt x="44" y="167"/>
                    <a:pt x="113" y="193"/>
                    <a:pt x="181" y="210"/>
                  </a:cubicBezTo>
                  <a:cubicBezTo>
                    <a:pt x="193" y="206"/>
                    <a:pt x="207" y="206"/>
                    <a:pt x="217" y="198"/>
                  </a:cubicBezTo>
                  <a:cubicBezTo>
                    <a:pt x="248" y="174"/>
                    <a:pt x="248" y="152"/>
                    <a:pt x="217" y="128"/>
                  </a:cubicBezTo>
                  <a:cubicBezTo>
                    <a:pt x="207" y="120"/>
                    <a:pt x="188" y="127"/>
                    <a:pt x="181" y="116"/>
                  </a:cubicBezTo>
                  <a:cubicBezTo>
                    <a:pt x="176" y="109"/>
                    <a:pt x="189" y="100"/>
                    <a:pt x="193" y="92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458800" y="4311720"/>
              <a:ext cx="32256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39" y="38"/>
                  </a:moveTo>
                  <a:cubicBezTo>
                    <a:pt x="56" y="9"/>
                    <a:pt x="89" y="0"/>
                    <a:pt x="34" y="38"/>
                  </a:cubicBezTo>
                  <a:cubicBezTo>
                    <a:pt x="26" y="50"/>
                    <a:pt x="11" y="59"/>
                    <a:pt x="10" y="73"/>
                  </a:cubicBezTo>
                  <a:cubicBezTo>
                    <a:pt x="0" y="172"/>
                    <a:pt x="55" y="180"/>
                    <a:pt x="128" y="202"/>
                  </a:cubicBezTo>
                  <a:cubicBezTo>
                    <a:pt x="147" y="198"/>
                    <a:pt x="170" y="202"/>
                    <a:pt x="186" y="191"/>
                  </a:cubicBezTo>
                  <a:cubicBezTo>
                    <a:pt x="197" y="184"/>
                    <a:pt x="198" y="168"/>
                    <a:pt x="198" y="155"/>
                  </a:cubicBezTo>
                  <a:cubicBezTo>
                    <a:pt x="198" y="107"/>
                    <a:pt x="203" y="38"/>
                    <a:pt x="139" y="38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682720" y="4353120"/>
              <a:ext cx="263520" cy="333360"/>
            </a:xfrm>
            <a:custGeom>
              <a:avLst/>
              <a:gdLst/>
              <a:ahLst/>
              <a:rect l="l" t="t" r="r" b="b"/>
              <a:pathLst>
                <a:path w="208" h="276">
                  <a:moveTo>
                    <a:pt x="185" y="70"/>
                  </a:moveTo>
                  <a:cubicBezTo>
                    <a:pt x="169" y="62"/>
                    <a:pt x="153" y="56"/>
                    <a:pt x="138" y="47"/>
                  </a:cubicBezTo>
                  <a:cubicBezTo>
                    <a:pt x="114" y="33"/>
                    <a:pt x="67" y="0"/>
                    <a:pt x="67" y="0"/>
                  </a:cubicBezTo>
                  <a:cubicBezTo>
                    <a:pt x="0" y="44"/>
                    <a:pt x="18" y="80"/>
                    <a:pt x="32" y="165"/>
                  </a:cubicBezTo>
                  <a:cubicBezTo>
                    <a:pt x="34" y="177"/>
                    <a:pt x="34" y="191"/>
                    <a:pt x="43" y="200"/>
                  </a:cubicBezTo>
                  <a:cubicBezTo>
                    <a:pt x="56" y="212"/>
                    <a:pt x="75" y="215"/>
                    <a:pt x="91" y="223"/>
                  </a:cubicBezTo>
                  <a:cubicBezTo>
                    <a:pt x="121" y="269"/>
                    <a:pt x="133" y="276"/>
                    <a:pt x="185" y="259"/>
                  </a:cubicBezTo>
                  <a:cubicBezTo>
                    <a:pt x="192" y="235"/>
                    <a:pt x="208" y="213"/>
                    <a:pt x="208" y="188"/>
                  </a:cubicBezTo>
                  <a:cubicBezTo>
                    <a:pt x="208" y="145"/>
                    <a:pt x="185" y="111"/>
                    <a:pt x="185" y="70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>
              <a:off x="1904040" y="4300560"/>
              <a:ext cx="93960" cy="763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18" y="0"/>
                  </a:moveTo>
                  <a:cubicBezTo>
                    <a:pt x="102" y="11"/>
                    <a:pt x="0" y="78"/>
                    <a:pt x="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12426600">
              <a:off x="1903680" y="4224240"/>
              <a:ext cx="7632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107040" y="3833640"/>
            <a:ext cx="3537000" cy="1654200"/>
          </a:xfrm>
          <a:custGeom>
            <a:avLst/>
            <a:gdLst/>
            <a:ahLst/>
            <a:rect l="l" t="t" r="r" b="b"/>
            <a:pathLst>
              <a:path w="2228" h="1042">
                <a:moveTo>
                  <a:pt x="40" y="429"/>
                </a:moveTo>
                <a:cubicBezTo>
                  <a:pt x="145" y="393"/>
                  <a:pt x="85" y="417"/>
                  <a:pt x="204" y="358"/>
                </a:cubicBezTo>
                <a:cubicBezTo>
                  <a:pt x="220" y="350"/>
                  <a:pt x="235" y="343"/>
                  <a:pt x="251" y="335"/>
                </a:cubicBezTo>
                <a:cubicBezTo>
                  <a:pt x="267" y="327"/>
                  <a:pt x="298" y="311"/>
                  <a:pt x="298" y="311"/>
                </a:cubicBezTo>
                <a:cubicBezTo>
                  <a:pt x="315" y="245"/>
                  <a:pt x="352" y="189"/>
                  <a:pt x="369" y="123"/>
                </a:cubicBezTo>
                <a:cubicBezTo>
                  <a:pt x="365" y="178"/>
                  <a:pt x="354" y="233"/>
                  <a:pt x="357" y="288"/>
                </a:cubicBezTo>
                <a:cubicBezTo>
                  <a:pt x="358" y="306"/>
                  <a:pt x="363" y="335"/>
                  <a:pt x="381" y="335"/>
                </a:cubicBezTo>
                <a:cubicBezTo>
                  <a:pt x="398" y="335"/>
                  <a:pt x="392" y="300"/>
                  <a:pt x="404" y="288"/>
                </a:cubicBezTo>
                <a:cubicBezTo>
                  <a:pt x="416" y="275"/>
                  <a:pt x="435" y="272"/>
                  <a:pt x="451" y="264"/>
                </a:cubicBezTo>
                <a:cubicBezTo>
                  <a:pt x="459" y="248"/>
                  <a:pt x="469" y="233"/>
                  <a:pt x="475" y="217"/>
                </a:cubicBezTo>
                <a:cubicBezTo>
                  <a:pt x="494" y="167"/>
                  <a:pt x="480" y="141"/>
                  <a:pt x="498" y="217"/>
                </a:cubicBezTo>
                <a:cubicBezTo>
                  <a:pt x="493" y="266"/>
                  <a:pt x="469" y="344"/>
                  <a:pt x="510" y="358"/>
                </a:cubicBezTo>
                <a:cubicBezTo>
                  <a:pt x="525" y="363"/>
                  <a:pt x="541" y="350"/>
                  <a:pt x="557" y="346"/>
                </a:cubicBezTo>
                <a:cubicBezTo>
                  <a:pt x="565" y="330"/>
                  <a:pt x="568" y="311"/>
                  <a:pt x="581" y="299"/>
                </a:cubicBezTo>
                <a:cubicBezTo>
                  <a:pt x="652" y="229"/>
                  <a:pt x="614" y="322"/>
                  <a:pt x="639" y="240"/>
                </a:cubicBezTo>
                <a:cubicBezTo>
                  <a:pt x="650" y="303"/>
                  <a:pt x="641" y="369"/>
                  <a:pt x="663" y="429"/>
                </a:cubicBezTo>
                <a:cubicBezTo>
                  <a:pt x="667" y="440"/>
                  <a:pt x="686" y="436"/>
                  <a:pt x="698" y="440"/>
                </a:cubicBezTo>
                <a:cubicBezTo>
                  <a:pt x="777" y="431"/>
                  <a:pt x="843" y="426"/>
                  <a:pt x="910" y="382"/>
                </a:cubicBezTo>
                <a:cubicBezTo>
                  <a:pt x="914" y="370"/>
                  <a:pt x="913" y="355"/>
                  <a:pt x="922" y="346"/>
                </a:cubicBezTo>
                <a:cubicBezTo>
                  <a:pt x="985" y="283"/>
                  <a:pt x="936" y="397"/>
                  <a:pt x="969" y="299"/>
                </a:cubicBezTo>
                <a:cubicBezTo>
                  <a:pt x="973" y="327"/>
                  <a:pt x="966" y="358"/>
                  <a:pt x="981" y="382"/>
                </a:cubicBezTo>
                <a:cubicBezTo>
                  <a:pt x="1018" y="441"/>
                  <a:pt x="1040" y="367"/>
                  <a:pt x="1051" y="358"/>
                </a:cubicBezTo>
                <a:cubicBezTo>
                  <a:pt x="1064" y="347"/>
                  <a:pt x="1082" y="343"/>
                  <a:pt x="1098" y="335"/>
                </a:cubicBezTo>
                <a:cubicBezTo>
                  <a:pt x="1163" y="205"/>
                  <a:pt x="1141" y="205"/>
                  <a:pt x="1157" y="358"/>
                </a:cubicBezTo>
                <a:cubicBezTo>
                  <a:pt x="1220" y="327"/>
                  <a:pt x="1233" y="334"/>
                  <a:pt x="1251" y="264"/>
                </a:cubicBezTo>
                <a:cubicBezTo>
                  <a:pt x="1247" y="209"/>
                  <a:pt x="1256" y="152"/>
                  <a:pt x="1239" y="99"/>
                </a:cubicBezTo>
                <a:cubicBezTo>
                  <a:pt x="1234" y="82"/>
                  <a:pt x="1205" y="87"/>
                  <a:pt x="1192" y="76"/>
                </a:cubicBezTo>
                <a:cubicBezTo>
                  <a:pt x="1102" y="0"/>
                  <a:pt x="1249" y="75"/>
                  <a:pt x="1251" y="76"/>
                </a:cubicBezTo>
                <a:cubicBezTo>
                  <a:pt x="1307" y="188"/>
                  <a:pt x="1311" y="224"/>
                  <a:pt x="1334" y="358"/>
                </a:cubicBezTo>
                <a:cubicBezTo>
                  <a:pt x="1372" y="280"/>
                  <a:pt x="1341" y="319"/>
                  <a:pt x="1451" y="264"/>
                </a:cubicBezTo>
                <a:cubicBezTo>
                  <a:pt x="1465" y="257"/>
                  <a:pt x="1482" y="257"/>
                  <a:pt x="1498" y="252"/>
                </a:cubicBezTo>
                <a:cubicBezTo>
                  <a:pt x="1510" y="249"/>
                  <a:pt x="1542" y="231"/>
                  <a:pt x="1533" y="240"/>
                </a:cubicBezTo>
                <a:cubicBezTo>
                  <a:pt x="1521" y="252"/>
                  <a:pt x="1502" y="256"/>
                  <a:pt x="1486" y="264"/>
                </a:cubicBezTo>
                <a:cubicBezTo>
                  <a:pt x="1473" y="319"/>
                  <a:pt x="1456" y="369"/>
                  <a:pt x="1486" y="429"/>
                </a:cubicBezTo>
                <a:cubicBezTo>
                  <a:pt x="1492" y="442"/>
                  <a:pt x="1509" y="412"/>
                  <a:pt x="1522" y="405"/>
                </a:cubicBezTo>
                <a:cubicBezTo>
                  <a:pt x="1549" y="392"/>
                  <a:pt x="1577" y="383"/>
                  <a:pt x="1604" y="370"/>
                </a:cubicBezTo>
                <a:cubicBezTo>
                  <a:pt x="1612" y="358"/>
                  <a:pt x="1617" y="344"/>
                  <a:pt x="1628" y="335"/>
                </a:cubicBezTo>
                <a:cubicBezTo>
                  <a:pt x="1702" y="276"/>
                  <a:pt x="1667" y="427"/>
                  <a:pt x="1675" y="452"/>
                </a:cubicBezTo>
                <a:cubicBezTo>
                  <a:pt x="1679" y="466"/>
                  <a:pt x="1698" y="468"/>
                  <a:pt x="1710" y="476"/>
                </a:cubicBezTo>
                <a:cubicBezTo>
                  <a:pt x="1718" y="492"/>
                  <a:pt x="1716" y="519"/>
                  <a:pt x="1733" y="523"/>
                </a:cubicBezTo>
                <a:cubicBezTo>
                  <a:pt x="1751" y="528"/>
                  <a:pt x="1764" y="457"/>
                  <a:pt x="1769" y="452"/>
                </a:cubicBezTo>
                <a:cubicBezTo>
                  <a:pt x="1785" y="436"/>
                  <a:pt x="1875" y="393"/>
                  <a:pt x="1898" y="382"/>
                </a:cubicBezTo>
                <a:cubicBezTo>
                  <a:pt x="1906" y="398"/>
                  <a:pt x="1916" y="413"/>
                  <a:pt x="1922" y="429"/>
                </a:cubicBezTo>
                <a:cubicBezTo>
                  <a:pt x="1923" y="432"/>
                  <a:pt x="1937" y="503"/>
                  <a:pt x="1945" y="511"/>
                </a:cubicBezTo>
                <a:cubicBezTo>
                  <a:pt x="1954" y="520"/>
                  <a:pt x="1968" y="519"/>
                  <a:pt x="1980" y="523"/>
                </a:cubicBezTo>
                <a:cubicBezTo>
                  <a:pt x="2087" y="496"/>
                  <a:pt x="2044" y="509"/>
                  <a:pt x="2110" y="488"/>
                </a:cubicBezTo>
                <a:cubicBezTo>
                  <a:pt x="2149" y="500"/>
                  <a:pt x="2157" y="492"/>
                  <a:pt x="2157" y="546"/>
                </a:cubicBezTo>
                <a:cubicBezTo>
                  <a:pt x="2157" y="628"/>
                  <a:pt x="2228" y="919"/>
                  <a:pt x="2098" y="1005"/>
                </a:cubicBezTo>
                <a:cubicBezTo>
                  <a:pt x="2094" y="1017"/>
                  <a:pt x="2099" y="1042"/>
                  <a:pt x="2086" y="1041"/>
                </a:cubicBezTo>
                <a:cubicBezTo>
                  <a:pt x="2039" y="1036"/>
                  <a:pt x="2002" y="996"/>
                  <a:pt x="1957" y="982"/>
                </a:cubicBezTo>
                <a:cubicBezTo>
                  <a:pt x="1905" y="946"/>
                  <a:pt x="1850" y="945"/>
                  <a:pt x="1792" y="923"/>
                </a:cubicBezTo>
                <a:cubicBezTo>
                  <a:pt x="1776" y="917"/>
                  <a:pt x="1761" y="905"/>
                  <a:pt x="1745" y="899"/>
                </a:cubicBezTo>
                <a:cubicBezTo>
                  <a:pt x="1686" y="877"/>
                  <a:pt x="1627" y="869"/>
                  <a:pt x="1569" y="841"/>
                </a:cubicBezTo>
                <a:cubicBezTo>
                  <a:pt x="1478" y="705"/>
                  <a:pt x="1207" y="750"/>
                  <a:pt x="1098" y="746"/>
                </a:cubicBezTo>
                <a:cubicBezTo>
                  <a:pt x="1047" y="738"/>
                  <a:pt x="995" y="734"/>
                  <a:pt x="945" y="723"/>
                </a:cubicBezTo>
                <a:cubicBezTo>
                  <a:pt x="827" y="698"/>
                  <a:pt x="919" y="706"/>
                  <a:pt x="828" y="676"/>
                </a:cubicBezTo>
                <a:cubicBezTo>
                  <a:pt x="741" y="647"/>
                  <a:pt x="661" y="626"/>
                  <a:pt x="569" y="617"/>
                </a:cubicBezTo>
                <a:cubicBezTo>
                  <a:pt x="402" y="532"/>
                  <a:pt x="194" y="546"/>
                  <a:pt x="16" y="535"/>
                </a:cubicBezTo>
                <a:cubicBezTo>
                  <a:pt x="29" y="411"/>
                  <a:pt x="0" y="389"/>
                  <a:pt x="40" y="42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-228600" y="4419720"/>
            <a:ext cx="9677520" cy="2666880"/>
          </a:xfrm>
          <a:custGeom>
            <a:avLst/>
            <a:gdLst/>
            <a:ahLst/>
            <a:rect l="l" t="t" r="r" b="b"/>
            <a:pathLst>
              <a:path w="5940" h="1089">
                <a:moveTo>
                  <a:pt x="47" y="118"/>
                </a:moveTo>
                <a:cubicBezTo>
                  <a:pt x="138" y="95"/>
                  <a:pt x="215" y="71"/>
                  <a:pt x="306" y="59"/>
                </a:cubicBezTo>
                <a:cubicBezTo>
                  <a:pt x="526" y="63"/>
                  <a:pt x="745" y="64"/>
                  <a:pt x="965" y="70"/>
                </a:cubicBezTo>
                <a:cubicBezTo>
                  <a:pt x="1098" y="74"/>
                  <a:pt x="1106" y="83"/>
                  <a:pt x="1212" y="59"/>
                </a:cubicBezTo>
                <a:cubicBezTo>
                  <a:pt x="1244" y="52"/>
                  <a:pt x="1306" y="35"/>
                  <a:pt x="1306" y="35"/>
                </a:cubicBezTo>
                <a:cubicBezTo>
                  <a:pt x="1592" y="44"/>
                  <a:pt x="1868" y="42"/>
                  <a:pt x="2153" y="23"/>
                </a:cubicBezTo>
                <a:cubicBezTo>
                  <a:pt x="2505" y="29"/>
                  <a:pt x="2737" y="24"/>
                  <a:pt x="3047" y="59"/>
                </a:cubicBezTo>
                <a:cubicBezTo>
                  <a:pt x="3156" y="84"/>
                  <a:pt x="3078" y="68"/>
                  <a:pt x="3282" y="94"/>
                </a:cubicBezTo>
                <a:cubicBezTo>
                  <a:pt x="3358" y="104"/>
                  <a:pt x="3430" y="130"/>
                  <a:pt x="3506" y="141"/>
                </a:cubicBezTo>
                <a:cubicBezTo>
                  <a:pt x="3646" y="133"/>
                  <a:pt x="3715" y="149"/>
                  <a:pt x="3823" y="94"/>
                </a:cubicBezTo>
                <a:cubicBezTo>
                  <a:pt x="3831" y="78"/>
                  <a:pt x="3832" y="56"/>
                  <a:pt x="3847" y="47"/>
                </a:cubicBezTo>
                <a:cubicBezTo>
                  <a:pt x="3882" y="26"/>
                  <a:pt x="4005" y="7"/>
                  <a:pt x="4047" y="0"/>
                </a:cubicBezTo>
                <a:cubicBezTo>
                  <a:pt x="4118" y="9"/>
                  <a:pt x="4188" y="17"/>
                  <a:pt x="4258" y="35"/>
                </a:cubicBezTo>
                <a:cubicBezTo>
                  <a:pt x="4411" y="13"/>
                  <a:pt x="4564" y="25"/>
                  <a:pt x="4717" y="47"/>
                </a:cubicBezTo>
                <a:cubicBezTo>
                  <a:pt x="4804" y="90"/>
                  <a:pt x="4730" y="60"/>
                  <a:pt x="4870" y="82"/>
                </a:cubicBezTo>
                <a:cubicBezTo>
                  <a:pt x="4951" y="95"/>
                  <a:pt x="5022" y="120"/>
                  <a:pt x="5105" y="129"/>
                </a:cubicBezTo>
                <a:cubicBezTo>
                  <a:pt x="5175" y="147"/>
                  <a:pt x="5250" y="161"/>
                  <a:pt x="5317" y="188"/>
                </a:cubicBezTo>
                <a:cubicBezTo>
                  <a:pt x="5333" y="195"/>
                  <a:pt x="5347" y="207"/>
                  <a:pt x="5364" y="212"/>
                </a:cubicBezTo>
                <a:cubicBezTo>
                  <a:pt x="5440" y="235"/>
                  <a:pt x="5419" y="211"/>
                  <a:pt x="5482" y="235"/>
                </a:cubicBezTo>
                <a:cubicBezTo>
                  <a:pt x="5498" y="241"/>
                  <a:pt x="5512" y="253"/>
                  <a:pt x="5529" y="259"/>
                </a:cubicBezTo>
                <a:cubicBezTo>
                  <a:pt x="5575" y="274"/>
                  <a:pt x="5623" y="282"/>
                  <a:pt x="5670" y="294"/>
                </a:cubicBezTo>
                <a:cubicBezTo>
                  <a:pt x="5686" y="298"/>
                  <a:pt x="5717" y="306"/>
                  <a:pt x="5717" y="306"/>
                </a:cubicBezTo>
                <a:cubicBezTo>
                  <a:pt x="5725" y="318"/>
                  <a:pt x="5729" y="333"/>
                  <a:pt x="5741" y="341"/>
                </a:cubicBezTo>
                <a:cubicBezTo>
                  <a:pt x="5754" y="350"/>
                  <a:pt x="5773" y="347"/>
                  <a:pt x="5788" y="353"/>
                </a:cubicBezTo>
                <a:cubicBezTo>
                  <a:pt x="5825" y="367"/>
                  <a:pt x="5839" y="379"/>
                  <a:pt x="5870" y="400"/>
                </a:cubicBezTo>
                <a:cubicBezTo>
                  <a:pt x="5940" y="507"/>
                  <a:pt x="5905" y="716"/>
                  <a:pt x="5835" y="823"/>
                </a:cubicBezTo>
                <a:cubicBezTo>
                  <a:pt x="5831" y="886"/>
                  <a:pt x="5851" y="956"/>
                  <a:pt x="5823" y="1012"/>
                </a:cubicBezTo>
                <a:cubicBezTo>
                  <a:pt x="5809" y="1041"/>
                  <a:pt x="5761" y="1033"/>
                  <a:pt x="5729" y="1035"/>
                </a:cubicBezTo>
                <a:cubicBezTo>
                  <a:pt x="5670" y="1039"/>
                  <a:pt x="5611" y="1044"/>
                  <a:pt x="5552" y="1047"/>
                </a:cubicBezTo>
                <a:cubicBezTo>
                  <a:pt x="5458" y="1052"/>
                  <a:pt x="5364" y="1055"/>
                  <a:pt x="5270" y="1059"/>
                </a:cubicBezTo>
                <a:cubicBezTo>
                  <a:pt x="5031" y="1089"/>
                  <a:pt x="4783" y="1061"/>
                  <a:pt x="4541" y="1071"/>
                </a:cubicBezTo>
                <a:cubicBezTo>
                  <a:pt x="3812" y="1041"/>
                  <a:pt x="4149" y="1041"/>
                  <a:pt x="3529" y="1059"/>
                </a:cubicBezTo>
                <a:cubicBezTo>
                  <a:pt x="2212" y="1053"/>
                  <a:pt x="1223" y="1038"/>
                  <a:pt x="0" y="1000"/>
                </a:cubicBezTo>
                <a:cubicBezTo>
                  <a:pt x="4" y="808"/>
                  <a:pt x="12" y="423"/>
                  <a:pt x="12" y="423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81600">
            <a:off x="-304560" y="3962520"/>
            <a:ext cx="6242040" cy="1035000"/>
          </a:xfrm>
          <a:custGeom>
            <a:avLst/>
            <a:gdLst/>
            <a:ahLst/>
            <a:rect l="l" t="t" r="r" b="b"/>
            <a:pathLst>
              <a:path w="1342" h="511">
                <a:moveTo>
                  <a:pt x="68" y="59"/>
                </a:moveTo>
                <a:cubicBezTo>
                  <a:pt x="125" y="30"/>
                  <a:pt x="185" y="20"/>
                  <a:pt x="245" y="0"/>
                </a:cubicBezTo>
                <a:cubicBezTo>
                  <a:pt x="251" y="1"/>
                  <a:pt x="485" y="20"/>
                  <a:pt x="504" y="24"/>
                </a:cubicBezTo>
                <a:cubicBezTo>
                  <a:pt x="653" y="58"/>
                  <a:pt x="434" y="39"/>
                  <a:pt x="574" y="59"/>
                </a:cubicBezTo>
                <a:cubicBezTo>
                  <a:pt x="617" y="65"/>
                  <a:pt x="661" y="67"/>
                  <a:pt x="704" y="71"/>
                </a:cubicBezTo>
                <a:cubicBezTo>
                  <a:pt x="836" y="136"/>
                  <a:pt x="871" y="141"/>
                  <a:pt x="1033" y="153"/>
                </a:cubicBezTo>
                <a:cubicBezTo>
                  <a:pt x="1049" y="157"/>
                  <a:pt x="1067" y="156"/>
                  <a:pt x="1080" y="165"/>
                </a:cubicBezTo>
                <a:cubicBezTo>
                  <a:pt x="1092" y="173"/>
                  <a:pt x="1093" y="191"/>
                  <a:pt x="1104" y="200"/>
                </a:cubicBezTo>
                <a:cubicBezTo>
                  <a:pt x="1118" y="211"/>
                  <a:pt x="1136" y="215"/>
                  <a:pt x="1151" y="224"/>
                </a:cubicBezTo>
                <a:cubicBezTo>
                  <a:pt x="1163" y="231"/>
                  <a:pt x="1173" y="242"/>
                  <a:pt x="1186" y="247"/>
                </a:cubicBezTo>
                <a:cubicBezTo>
                  <a:pt x="1205" y="254"/>
                  <a:pt x="1226" y="254"/>
                  <a:pt x="1245" y="259"/>
                </a:cubicBezTo>
                <a:cubicBezTo>
                  <a:pt x="1269" y="265"/>
                  <a:pt x="1315" y="282"/>
                  <a:pt x="1315" y="282"/>
                </a:cubicBezTo>
                <a:cubicBezTo>
                  <a:pt x="1323" y="294"/>
                  <a:pt x="1342" y="304"/>
                  <a:pt x="1339" y="318"/>
                </a:cubicBezTo>
                <a:cubicBezTo>
                  <a:pt x="1331" y="360"/>
                  <a:pt x="1270" y="332"/>
                  <a:pt x="1257" y="329"/>
                </a:cubicBezTo>
                <a:cubicBezTo>
                  <a:pt x="1167" y="337"/>
                  <a:pt x="1076" y="345"/>
                  <a:pt x="986" y="353"/>
                </a:cubicBezTo>
                <a:cubicBezTo>
                  <a:pt x="913" y="359"/>
                  <a:pt x="869" y="429"/>
                  <a:pt x="798" y="435"/>
                </a:cubicBezTo>
                <a:cubicBezTo>
                  <a:pt x="724" y="442"/>
                  <a:pt x="649" y="443"/>
                  <a:pt x="574" y="447"/>
                </a:cubicBezTo>
                <a:cubicBezTo>
                  <a:pt x="442" y="481"/>
                  <a:pt x="310" y="476"/>
                  <a:pt x="174" y="482"/>
                </a:cubicBezTo>
                <a:cubicBezTo>
                  <a:pt x="155" y="486"/>
                  <a:pt x="135" y="489"/>
                  <a:pt x="116" y="494"/>
                </a:cubicBezTo>
                <a:cubicBezTo>
                  <a:pt x="104" y="497"/>
                  <a:pt x="92" y="511"/>
                  <a:pt x="80" y="506"/>
                </a:cubicBezTo>
                <a:cubicBezTo>
                  <a:pt x="67" y="501"/>
                  <a:pt x="63" y="484"/>
                  <a:pt x="57" y="471"/>
                </a:cubicBezTo>
                <a:cubicBezTo>
                  <a:pt x="37" y="431"/>
                  <a:pt x="35" y="383"/>
                  <a:pt x="21" y="341"/>
                </a:cubicBezTo>
                <a:cubicBezTo>
                  <a:pt x="46" y="80"/>
                  <a:pt x="0" y="163"/>
                  <a:pt x="68" y="5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1676520" y="185904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47800" y="3780000"/>
            <a:ext cx="1722600" cy="545760"/>
          </a:xfrm>
          <a:custGeom>
            <a:avLst/>
            <a:gdLst/>
            <a:ahLst/>
            <a:rect l="l" t="t" r="r" b="b"/>
            <a:pathLst>
              <a:path w="1085" h="344">
                <a:moveTo>
                  <a:pt x="0" y="259"/>
                </a:moveTo>
                <a:cubicBezTo>
                  <a:pt x="31" y="195"/>
                  <a:pt x="30" y="206"/>
                  <a:pt x="47" y="118"/>
                </a:cubicBezTo>
                <a:cubicBezTo>
                  <a:pt x="55" y="79"/>
                  <a:pt x="70" y="0"/>
                  <a:pt x="70" y="0"/>
                </a:cubicBezTo>
                <a:cubicBezTo>
                  <a:pt x="82" y="47"/>
                  <a:pt x="96" y="75"/>
                  <a:pt x="117" y="118"/>
                </a:cubicBezTo>
                <a:cubicBezTo>
                  <a:pt x="130" y="144"/>
                  <a:pt x="123" y="178"/>
                  <a:pt x="141" y="200"/>
                </a:cubicBezTo>
                <a:cubicBezTo>
                  <a:pt x="149" y="210"/>
                  <a:pt x="164" y="208"/>
                  <a:pt x="176" y="212"/>
                </a:cubicBezTo>
                <a:cubicBezTo>
                  <a:pt x="180" y="224"/>
                  <a:pt x="179" y="238"/>
                  <a:pt x="188" y="247"/>
                </a:cubicBezTo>
                <a:cubicBezTo>
                  <a:pt x="231" y="290"/>
                  <a:pt x="229" y="233"/>
                  <a:pt x="247" y="212"/>
                </a:cubicBezTo>
                <a:cubicBezTo>
                  <a:pt x="256" y="201"/>
                  <a:pt x="270" y="196"/>
                  <a:pt x="282" y="188"/>
                </a:cubicBezTo>
                <a:cubicBezTo>
                  <a:pt x="297" y="144"/>
                  <a:pt x="317" y="105"/>
                  <a:pt x="329" y="59"/>
                </a:cubicBezTo>
                <a:cubicBezTo>
                  <a:pt x="364" y="195"/>
                  <a:pt x="315" y="27"/>
                  <a:pt x="364" y="141"/>
                </a:cubicBezTo>
                <a:cubicBezTo>
                  <a:pt x="409" y="246"/>
                  <a:pt x="341" y="136"/>
                  <a:pt x="400" y="224"/>
                </a:cubicBezTo>
                <a:cubicBezTo>
                  <a:pt x="443" y="209"/>
                  <a:pt x="444" y="216"/>
                  <a:pt x="470" y="165"/>
                </a:cubicBezTo>
                <a:cubicBezTo>
                  <a:pt x="481" y="143"/>
                  <a:pt x="494" y="94"/>
                  <a:pt x="494" y="94"/>
                </a:cubicBezTo>
                <a:cubicBezTo>
                  <a:pt x="510" y="98"/>
                  <a:pt x="528" y="96"/>
                  <a:pt x="541" y="106"/>
                </a:cubicBezTo>
                <a:cubicBezTo>
                  <a:pt x="551" y="114"/>
                  <a:pt x="543" y="132"/>
                  <a:pt x="552" y="141"/>
                </a:cubicBezTo>
                <a:cubicBezTo>
                  <a:pt x="561" y="150"/>
                  <a:pt x="576" y="149"/>
                  <a:pt x="588" y="153"/>
                </a:cubicBezTo>
                <a:cubicBezTo>
                  <a:pt x="596" y="165"/>
                  <a:pt x="604" y="176"/>
                  <a:pt x="611" y="188"/>
                </a:cubicBezTo>
                <a:cubicBezTo>
                  <a:pt x="620" y="203"/>
                  <a:pt x="620" y="226"/>
                  <a:pt x="635" y="235"/>
                </a:cubicBezTo>
                <a:cubicBezTo>
                  <a:pt x="645" y="241"/>
                  <a:pt x="658" y="228"/>
                  <a:pt x="670" y="224"/>
                </a:cubicBezTo>
                <a:cubicBezTo>
                  <a:pt x="672" y="220"/>
                  <a:pt x="701" y="142"/>
                  <a:pt x="729" y="153"/>
                </a:cubicBezTo>
                <a:cubicBezTo>
                  <a:pt x="745" y="160"/>
                  <a:pt x="740" y="188"/>
                  <a:pt x="752" y="200"/>
                </a:cubicBezTo>
                <a:cubicBezTo>
                  <a:pt x="761" y="209"/>
                  <a:pt x="776" y="208"/>
                  <a:pt x="788" y="212"/>
                </a:cubicBezTo>
                <a:cubicBezTo>
                  <a:pt x="823" y="317"/>
                  <a:pt x="799" y="293"/>
                  <a:pt x="823" y="247"/>
                </a:cubicBezTo>
                <a:cubicBezTo>
                  <a:pt x="829" y="234"/>
                  <a:pt x="839" y="224"/>
                  <a:pt x="847" y="212"/>
                </a:cubicBezTo>
                <a:cubicBezTo>
                  <a:pt x="851" y="200"/>
                  <a:pt x="846" y="179"/>
                  <a:pt x="858" y="176"/>
                </a:cubicBezTo>
                <a:cubicBezTo>
                  <a:pt x="899" y="165"/>
                  <a:pt x="900" y="234"/>
                  <a:pt x="905" y="247"/>
                </a:cubicBezTo>
                <a:cubicBezTo>
                  <a:pt x="911" y="260"/>
                  <a:pt x="921" y="270"/>
                  <a:pt x="929" y="282"/>
                </a:cubicBezTo>
                <a:cubicBezTo>
                  <a:pt x="941" y="278"/>
                  <a:pt x="953" y="276"/>
                  <a:pt x="964" y="271"/>
                </a:cubicBezTo>
                <a:cubicBezTo>
                  <a:pt x="980" y="264"/>
                  <a:pt x="994" y="242"/>
                  <a:pt x="1011" y="247"/>
                </a:cubicBezTo>
                <a:cubicBezTo>
                  <a:pt x="1028" y="252"/>
                  <a:pt x="1023" y="282"/>
                  <a:pt x="1035" y="294"/>
                </a:cubicBezTo>
                <a:cubicBezTo>
                  <a:pt x="1085" y="344"/>
                  <a:pt x="1082" y="295"/>
                  <a:pt x="1082" y="329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" action="ppaction://hlinkshowjump?jump=nextslide"/>
          </p:cNvPr>
          <p:cNvSpPr/>
          <p:nvPr/>
        </p:nvSpPr>
        <p:spPr>
          <a:xfrm>
            <a:off x="8305920" y="63547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21497400">
            <a:off x="-228240" y="5486400"/>
            <a:ext cx="9856800" cy="167652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" action="ppaction://hlinkshowjump?jump=firstslide"/>
          </p:cNvPr>
          <p:cNvSpPr/>
          <p:nvPr/>
        </p:nvSpPr>
        <p:spPr>
          <a:xfrm>
            <a:off x="4191120" y="62784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066680" y="411120"/>
            <a:ext cx="1955880" cy="2133720"/>
            <a:chOff x="1066680" y="411120"/>
            <a:chExt cx="1955880" cy="2133720"/>
          </a:xfrm>
        </p:grpSpPr>
        <p:sp>
          <p:nvSpPr>
            <p:cNvPr id="602" name="">
              <a:hlinkClick r:id="" action="ppaction://hlinkshowjump?jump=previousslide"/>
            </p:cNvPr>
            <p:cNvSpPr/>
            <p:nvPr/>
          </p:nvSpPr>
          <p:spPr>
            <a:xfrm>
              <a:off x="1600200" y="1935000"/>
              <a:ext cx="609480" cy="609840"/>
            </a:xfrm>
            <a:custGeom>
              <a:avLst/>
              <a:gdLst>
                <a:gd name="textAreaLeft" fmla="*/ 39240 w 609480"/>
                <a:gd name="textAreaRight" fmla="*/ 570240 w 609480"/>
                <a:gd name="textAreaTop" fmla="*/ 39240 h 609840"/>
                <a:gd name="textAreaBottom" fmla="*/ 570600 h 609840"/>
              </a:gdLst>
              <a:ahLst/>
              <a:rect l="textAreaLeft" t="textAreaTop" r="textAreaRight" b="textAreaBottom"/>
              <a:pathLst>
                <a:path w="21600" h="21613">
                  <a:moveTo>
                    <a:pt x="0" y="0"/>
                  </a:moveTo>
                  <a:lnTo>
                    <a:pt x="21600" y="0"/>
                  </a:lnTo>
                  <a:lnTo>
                    <a:pt x="21600" y="21613"/>
                  </a:lnTo>
                  <a:lnTo>
                    <a:pt x="0" y="21613"/>
                  </a:lnTo>
                  <a:close/>
                </a:path>
                <a:path fill="lightenLess" w="21600" h="2161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3">
                  <a:moveTo>
                    <a:pt x="21600" y="0"/>
                  </a:moveTo>
                  <a:lnTo>
                    <a:pt x="21600" y="21613"/>
                  </a:lnTo>
                  <a:lnTo>
                    <a:pt x="20200" y="20213"/>
                  </a:lnTo>
                  <a:lnTo>
                    <a:pt x="20200" y="1400"/>
                  </a:lnTo>
                  <a:close/>
                </a:path>
                <a:path fill="darkenLess" w="21600" h="21613">
                  <a:moveTo>
                    <a:pt x="21600" y="21613"/>
                  </a:moveTo>
                  <a:lnTo>
                    <a:pt x="0" y="21613"/>
                  </a:lnTo>
                  <a:lnTo>
                    <a:pt x="1400" y="20213"/>
                  </a:lnTo>
                  <a:lnTo>
                    <a:pt x="20200" y="20213"/>
                  </a:lnTo>
                  <a:close/>
                </a:path>
                <a:path fill="lighten" w="21600" h="21613">
                  <a:moveTo>
                    <a:pt x="0" y="2161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71600" y="716040"/>
              <a:ext cx="1176480" cy="123336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48080" y="790560"/>
              <a:ext cx="47448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280" y="1401840"/>
              <a:ext cx="401760" cy="37296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54240" y="1868400"/>
              <a:ext cx="430200" cy="40500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12800" y="173664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90440" y="1344600"/>
              <a:ext cx="522360" cy="37476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66680" y="411120"/>
              <a:ext cx="517680" cy="53676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41480" y="412920"/>
              <a:ext cx="384120" cy="33480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828800" y="1477800"/>
              <a:ext cx="457200" cy="15264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23880" y="944640"/>
              <a:ext cx="304920" cy="30456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23880" y="1058760"/>
              <a:ext cx="381240" cy="16056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0200" y="1143000"/>
              <a:ext cx="22860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65240" y="792000"/>
              <a:ext cx="320760" cy="37008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81080" y="933480"/>
              <a:ext cx="401760" cy="20952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5400000">
              <a:off x="2133000" y="990360"/>
              <a:ext cx="76320" cy="228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4952880" y="38088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315200" y="1650960"/>
            <a:ext cx="685800" cy="1062000"/>
          </a:xfrm>
          <a:custGeom>
            <a:avLst/>
            <a:gdLst/>
            <a:ahLst/>
            <a:rect l="l" t="t" r="r" b="b"/>
            <a:pathLst>
              <a:path w="356" h="669">
                <a:moveTo>
                  <a:pt x="285" y="643"/>
                </a:moveTo>
                <a:cubicBezTo>
                  <a:pt x="356" y="531"/>
                  <a:pt x="297" y="639"/>
                  <a:pt x="297" y="348"/>
                </a:cubicBezTo>
                <a:cubicBezTo>
                  <a:pt x="297" y="237"/>
                  <a:pt x="300" y="172"/>
                  <a:pt x="332" y="78"/>
                </a:cubicBezTo>
                <a:cubicBezTo>
                  <a:pt x="328" y="58"/>
                  <a:pt x="339" y="25"/>
                  <a:pt x="320" y="19"/>
                </a:cubicBezTo>
                <a:cubicBezTo>
                  <a:pt x="262" y="0"/>
                  <a:pt x="118" y="40"/>
                  <a:pt x="61" y="78"/>
                </a:cubicBezTo>
                <a:cubicBezTo>
                  <a:pt x="4" y="253"/>
                  <a:pt x="37" y="123"/>
                  <a:pt x="50" y="478"/>
                </a:cubicBezTo>
                <a:cubicBezTo>
                  <a:pt x="42" y="561"/>
                  <a:pt x="0" y="669"/>
                  <a:pt x="108" y="595"/>
                </a:cubicBezTo>
                <a:cubicBezTo>
                  <a:pt x="127" y="540"/>
                  <a:pt x="113" y="557"/>
                  <a:pt x="132" y="595"/>
                </a:cubicBezTo>
                <a:cubicBezTo>
                  <a:pt x="138" y="608"/>
                  <a:pt x="147" y="619"/>
                  <a:pt x="155" y="631"/>
                </a:cubicBezTo>
                <a:cubicBezTo>
                  <a:pt x="182" y="552"/>
                  <a:pt x="170" y="531"/>
                  <a:pt x="202" y="607"/>
                </a:cubicBezTo>
                <a:cubicBezTo>
                  <a:pt x="207" y="619"/>
                  <a:pt x="210" y="631"/>
                  <a:pt x="214" y="643"/>
                </a:cubicBezTo>
                <a:cubicBezTo>
                  <a:pt x="233" y="510"/>
                  <a:pt x="218" y="564"/>
                  <a:pt x="261" y="631"/>
                </a:cubicBezTo>
                <a:cubicBezTo>
                  <a:pt x="265" y="619"/>
                  <a:pt x="260" y="595"/>
                  <a:pt x="273" y="595"/>
                </a:cubicBezTo>
                <a:cubicBezTo>
                  <a:pt x="341" y="595"/>
                  <a:pt x="291" y="637"/>
                  <a:pt x="285" y="643"/>
                </a:cubicBezTo>
                <a:close/>
              </a:path>
            </a:pathLst>
          </a:custGeom>
          <a:solidFill>
            <a:srgbClr val="ff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72280" y="-152280"/>
            <a:ext cx="2097000" cy="5376600"/>
          </a:xfrm>
          <a:custGeom>
            <a:avLst/>
            <a:gdLst/>
            <a:ahLst/>
            <a:rect l="l" t="t" r="r" b="b"/>
            <a:pathLst>
              <a:path w="1321" h="3291">
                <a:moveTo>
                  <a:pt x="39" y="2891"/>
                </a:moveTo>
                <a:cubicBezTo>
                  <a:pt x="200" y="2836"/>
                  <a:pt x="0" y="2860"/>
                  <a:pt x="333" y="2844"/>
                </a:cubicBezTo>
                <a:cubicBezTo>
                  <a:pt x="360" y="2840"/>
                  <a:pt x="390" y="2844"/>
                  <a:pt x="415" y="2832"/>
                </a:cubicBezTo>
                <a:cubicBezTo>
                  <a:pt x="426" y="2826"/>
                  <a:pt x="418" y="2806"/>
                  <a:pt x="427" y="2797"/>
                </a:cubicBezTo>
                <a:cubicBezTo>
                  <a:pt x="436" y="2788"/>
                  <a:pt x="451" y="2789"/>
                  <a:pt x="463" y="2785"/>
                </a:cubicBezTo>
                <a:cubicBezTo>
                  <a:pt x="490" y="2702"/>
                  <a:pt x="478" y="2738"/>
                  <a:pt x="498" y="2679"/>
                </a:cubicBezTo>
                <a:cubicBezTo>
                  <a:pt x="502" y="2667"/>
                  <a:pt x="510" y="2644"/>
                  <a:pt x="510" y="2644"/>
                </a:cubicBezTo>
                <a:cubicBezTo>
                  <a:pt x="500" y="2299"/>
                  <a:pt x="487" y="2151"/>
                  <a:pt x="498" y="1808"/>
                </a:cubicBezTo>
                <a:cubicBezTo>
                  <a:pt x="489" y="1639"/>
                  <a:pt x="467" y="1458"/>
                  <a:pt x="510" y="1291"/>
                </a:cubicBezTo>
                <a:cubicBezTo>
                  <a:pt x="496" y="562"/>
                  <a:pt x="551" y="870"/>
                  <a:pt x="474" y="561"/>
                </a:cubicBezTo>
                <a:cubicBezTo>
                  <a:pt x="449" y="462"/>
                  <a:pt x="481" y="561"/>
                  <a:pt x="439" y="479"/>
                </a:cubicBezTo>
                <a:cubicBezTo>
                  <a:pt x="412" y="426"/>
                  <a:pt x="407" y="360"/>
                  <a:pt x="392" y="302"/>
                </a:cubicBezTo>
                <a:cubicBezTo>
                  <a:pt x="381" y="259"/>
                  <a:pt x="298" y="208"/>
                  <a:pt x="298" y="208"/>
                </a:cubicBezTo>
                <a:cubicBezTo>
                  <a:pt x="279" y="153"/>
                  <a:pt x="290" y="137"/>
                  <a:pt x="239" y="102"/>
                </a:cubicBezTo>
                <a:cubicBezTo>
                  <a:pt x="204" y="0"/>
                  <a:pt x="476" y="67"/>
                  <a:pt x="486" y="67"/>
                </a:cubicBezTo>
                <a:cubicBezTo>
                  <a:pt x="690" y="73"/>
                  <a:pt x="894" y="75"/>
                  <a:pt x="1098" y="79"/>
                </a:cubicBezTo>
                <a:cubicBezTo>
                  <a:pt x="1087" y="155"/>
                  <a:pt x="1068" y="227"/>
                  <a:pt x="1051" y="302"/>
                </a:cubicBezTo>
                <a:cubicBezTo>
                  <a:pt x="1043" y="659"/>
                  <a:pt x="1054" y="766"/>
                  <a:pt x="1004" y="1032"/>
                </a:cubicBezTo>
                <a:cubicBezTo>
                  <a:pt x="1011" y="1284"/>
                  <a:pt x="1013" y="1513"/>
                  <a:pt x="992" y="1761"/>
                </a:cubicBezTo>
                <a:cubicBezTo>
                  <a:pt x="986" y="1992"/>
                  <a:pt x="1010" y="2135"/>
                  <a:pt x="945" y="2326"/>
                </a:cubicBezTo>
                <a:cubicBezTo>
                  <a:pt x="941" y="2459"/>
                  <a:pt x="940" y="2593"/>
                  <a:pt x="933" y="2726"/>
                </a:cubicBezTo>
                <a:cubicBezTo>
                  <a:pt x="925" y="2891"/>
                  <a:pt x="901" y="2955"/>
                  <a:pt x="1051" y="3032"/>
                </a:cubicBezTo>
                <a:cubicBezTo>
                  <a:pt x="1116" y="3130"/>
                  <a:pt x="1029" y="3015"/>
                  <a:pt x="1110" y="3079"/>
                </a:cubicBezTo>
                <a:cubicBezTo>
                  <a:pt x="1222" y="3168"/>
                  <a:pt x="1047" y="3071"/>
                  <a:pt x="1168" y="3126"/>
                </a:cubicBezTo>
                <a:cubicBezTo>
                  <a:pt x="1200" y="3141"/>
                  <a:pt x="1262" y="3173"/>
                  <a:pt x="1262" y="3173"/>
                </a:cubicBezTo>
                <a:cubicBezTo>
                  <a:pt x="1295" y="3268"/>
                  <a:pt x="1246" y="3155"/>
                  <a:pt x="1309" y="3220"/>
                </a:cubicBezTo>
                <a:cubicBezTo>
                  <a:pt x="1318" y="3229"/>
                  <a:pt x="1317" y="3244"/>
                  <a:pt x="1321" y="3256"/>
                </a:cubicBezTo>
                <a:cubicBezTo>
                  <a:pt x="1284" y="3281"/>
                  <a:pt x="1287" y="3291"/>
                  <a:pt x="1239" y="3267"/>
                </a:cubicBezTo>
                <a:cubicBezTo>
                  <a:pt x="1198" y="3247"/>
                  <a:pt x="1149" y="3190"/>
                  <a:pt x="1098" y="3185"/>
                </a:cubicBezTo>
                <a:cubicBezTo>
                  <a:pt x="1028" y="3178"/>
                  <a:pt x="957" y="3177"/>
                  <a:pt x="886" y="3173"/>
                </a:cubicBezTo>
                <a:cubicBezTo>
                  <a:pt x="866" y="3166"/>
                  <a:pt x="817" y="3151"/>
                  <a:pt x="804" y="3138"/>
                </a:cubicBezTo>
                <a:cubicBezTo>
                  <a:pt x="730" y="3065"/>
                  <a:pt x="828" y="3107"/>
                  <a:pt x="745" y="3079"/>
                </a:cubicBezTo>
                <a:cubicBezTo>
                  <a:pt x="703" y="3017"/>
                  <a:pt x="735" y="3047"/>
                  <a:pt x="627" y="3020"/>
                </a:cubicBezTo>
                <a:lnTo>
                  <a:pt x="486" y="2973"/>
                </a:lnTo>
                <a:cubicBezTo>
                  <a:pt x="486" y="2973"/>
                  <a:pt x="486" y="2973"/>
                  <a:pt x="486" y="2973"/>
                </a:cubicBezTo>
                <a:cubicBezTo>
                  <a:pt x="361" y="2955"/>
                  <a:pt x="236" y="2938"/>
                  <a:pt x="110" y="2926"/>
                </a:cubicBezTo>
                <a:cubicBezTo>
                  <a:pt x="35" y="2902"/>
                  <a:pt x="39" y="2928"/>
                  <a:pt x="39" y="2891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5715360" y="1020600"/>
            <a:ext cx="2377800" cy="1020600"/>
            <a:chOff x="5715360" y="1020600"/>
            <a:chExt cx="2377800" cy="1020600"/>
          </a:xfrm>
        </p:grpSpPr>
        <p:sp>
          <p:nvSpPr>
            <p:cNvPr id="622" name=""/>
            <p:cNvSpPr/>
            <p:nvPr/>
          </p:nvSpPr>
          <p:spPr>
            <a:xfrm flipH="1">
              <a:off x="5715000" y="1020600"/>
              <a:ext cx="2377800" cy="690480"/>
            </a:xfrm>
            <a:custGeom>
              <a:avLst/>
              <a:gdLst/>
              <a:ahLst/>
              <a:rect l="l" t="t" r="r" b="b"/>
              <a:pathLst>
                <a:path w="1498" h="435">
                  <a:moveTo>
                    <a:pt x="28" y="282"/>
                  </a:moveTo>
                  <a:cubicBezTo>
                    <a:pt x="174" y="261"/>
                    <a:pt x="317" y="229"/>
                    <a:pt x="463" y="212"/>
                  </a:cubicBezTo>
                  <a:cubicBezTo>
                    <a:pt x="596" y="178"/>
                    <a:pt x="726" y="165"/>
                    <a:pt x="863" y="153"/>
                  </a:cubicBezTo>
                  <a:cubicBezTo>
                    <a:pt x="1005" y="117"/>
                    <a:pt x="1141" y="60"/>
                    <a:pt x="1287" y="35"/>
                  </a:cubicBezTo>
                  <a:cubicBezTo>
                    <a:pt x="1334" y="27"/>
                    <a:pt x="1381" y="19"/>
                    <a:pt x="1428" y="11"/>
                  </a:cubicBezTo>
                  <a:cubicBezTo>
                    <a:pt x="1451" y="7"/>
                    <a:pt x="1498" y="0"/>
                    <a:pt x="1498" y="0"/>
                  </a:cubicBezTo>
                  <a:cubicBezTo>
                    <a:pt x="1455" y="21"/>
                    <a:pt x="1412" y="29"/>
                    <a:pt x="1369" y="47"/>
                  </a:cubicBezTo>
                  <a:cubicBezTo>
                    <a:pt x="1293" y="80"/>
                    <a:pt x="1220" y="120"/>
                    <a:pt x="1145" y="153"/>
                  </a:cubicBezTo>
                  <a:cubicBezTo>
                    <a:pt x="1050" y="195"/>
                    <a:pt x="940" y="211"/>
                    <a:pt x="840" y="235"/>
                  </a:cubicBezTo>
                  <a:cubicBezTo>
                    <a:pt x="643" y="282"/>
                    <a:pt x="454" y="313"/>
                    <a:pt x="251" y="329"/>
                  </a:cubicBezTo>
                  <a:cubicBezTo>
                    <a:pt x="203" y="339"/>
                    <a:pt x="158" y="353"/>
                    <a:pt x="110" y="364"/>
                  </a:cubicBezTo>
                  <a:cubicBezTo>
                    <a:pt x="87" y="380"/>
                    <a:pt x="63" y="396"/>
                    <a:pt x="40" y="412"/>
                  </a:cubicBezTo>
                  <a:cubicBezTo>
                    <a:pt x="30" y="419"/>
                    <a:pt x="5" y="435"/>
                    <a:pt x="4" y="423"/>
                  </a:cubicBezTo>
                  <a:cubicBezTo>
                    <a:pt x="0" y="376"/>
                    <a:pt x="20" y="329"/>
                    <a:pt x="28" y="282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5832720" y="1020600"/>
              <a:ext cx="1693800" cy="466560"/>
              <a:chOff x="5832720" y="1020600"/>
              <a:chExt cx="1693800" cy="466560"/>
            </a:xfrm>
          </p:grpSpPr>
          <p:sp>
            <p:nvSpPr>
              <p:cNvPr id="624" name=""/>
              <p:cNvSpPr/>
              <p:nvPr/>
            </p:nvSpPr>
            <p:spPr>
              <a:xfrm flipH="1">
                <a:off x="6872040" y="1020600"/>
                <a:ext cx="654120" cy="353880"/>
              </a:xfrm>
              <a:custGeom>
                <a:avLst/>
                <a:gdLst/>
                <a:ahLst/>
                <a:rect l="l" t="t" r="r" b="b"/>
                <a:pathLst>
                  <a:path w="412" h="223">
                    <a:moveTo>
                      <a:pt x="0" y="223"/>
                    </a:moveTo>
                    <a:cubicBezTo>
                      <a:pt x="25" y="215"/>
                      <a:pt x="53" y="211"/>
                      <a:pt x="71" y="188"/>
                    </a:cubicBezTo>
                    <a:cubicBezTo>
                      <a:pt x="79" y="178"/>
                      <a:pt x="74" y="162"/>
                      <a:pt x="83" y="153"/>
                    </a:cubicBezTo>
                    <a:cubicBezTo>
                      <a:pt x="83" y="153"/>
                      <a:pt x="199" y="112"/>
                      <a:pt x="212" y="106"/>
                    </a:cubicBezTo>
                    <a:cubicBezTo>
                      <a:pt x="271" y="17"/>
                      <a:pt x="186" y="130"/>
                      <a:pt x="306" y="47"/>
                    </a:cubicBezTo>
                    <a:cubicBezTo>
                      <a:pt x="318" y="39"/>
                      <a:pt x="328" y="29"/>
                      <a:pt x="341" y="23"/>
                    </a:cubicBezTo>
                    <a:cubicBezTo>
                      <a:pt x="364" y="13"/>
                      <a:pt x="412" y="0"/>
                      <a:pt x="412" y="0"/>
                    </a:cubicBezTo>
                    <a:cubicBezTo>
                      <a:pt x="345" y="44"/>
                      <a:pt x="277" y="93"/>
                      <a:pt x="200" y="117"/>
                    </a:cubicBezTo>
                    <a:cubicBezTo>
                      <a:pt x="140" y="210"/>
                      <a:pt x="217" y="101"/>
                      <a:pt x="142" y="176"/>
                    </a:cubicBezTo>
                    <a:cubicBezTo>
                      <a:pt x="132" y="186"/>
                      <a:pt x="118" y="212"/>
                      <a:pt x="118" y="212"/>
                    </a:cubicBezTo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832360" y="1410840"/>
                <a:ext cx="1376280" cy="76320"/>
              </a:xfrm>
              <a:custGeom>
                <a:avLst/>
                <a:gdLst/>
                <a:ahLst/>
                <a:rect l="l" t="t" r="r" b="b"/>
                <a:pathLst>
                  <a:path w="867" h="48">
                    <a:moveTo>
                      <a:pt x="294" y="1"/>
                    </a:moveTo>
                    <a:cubicBezTo>
                      <a:pt x="867" y="19"/>
                      <a:pt x="730" y="0"/>
                      <a:pt x="541" y="48"/>
                    </a:cubicBezTo>
                    <a:cubicBezTo>
                      <a:pt x="427" y="40"/>
                      <a:pt x="312" y="1"/>
                      <a:pt x="200" y="24"/>
                    </a:cubicBezTo>
                    <a:cubicBezTo>
                      <a:pt x="120" y="40"/>
                      <a:pt x="89" y="48"/>
                      <a:pt x="0" y="48"/>
                    </a:cubicBezTo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>
              <a:off x="6715440" y="1506240"/>
              <a:ext cx="1254240" cy="534960"/>
            </a:xfrm>
            <a:custGeom>
              <a:avLst/>
              <a:gdLst/>
              <a:ahLst/>
              <a:rect l="l" t="t" r="r" b="b"/>
              <a:pathLst>
                <a:path w="790" h="337">
                  <a:moveTo>
                    <a:pt x="21" y="106"/>
                  </a:moveTo>
                  <a:cubicBezTo>
                    <a:pt x="112" y="115"/>
                    <a:pt x="139" y="119"/>
                    <a:pt x="209" y="164"/>
                  </a:cubicBezTo>
                  <a:cubicBezTo>
                    <a:pt x="217" y="180"/>
                    <a:pt x="220" y="199"/>
                    <a:pt x="232" y="211"/>
                  </a:cubicBezTo>
                  <a:cubicBezTo>
                    <a:pt x="299" y="278"/>
                    <a:pt x="418" y="300"/>
                    <a:pt x="503" y="329"/>
                  </a:cubicBezTo>
                  <a:cubicBezTo>
                    <a:pt x="558" y="323"/>
                    <a:pt x="622" y="337"/>
                    <a:pt x="668" y="306"/>
                  </a:cubicBezTo>
                  <a:cubicBezTo>
                    <a:pt x="680" y="298"/>
                    <a:pt x="680" y="279"/>
                    <a:pt x="691" y="270"/>
                  </a:cubicBezTo>
                  <a:cubicBezTo>
                    <a:pt x="712" y="251"/>
                    <a:pt x="790" y="216"/>
                    <a:pt x="762" y="223"/>
                  </a:cubicBezTo>
                  <a:cubicBezTo>
                    <a:pt x="713" y="236"/>
                    <a:pt x="677" y="243"/>
                    <a:pt x="632" y="258"/>
                  </a:cubicBezTo>
                  <a:cubicBezTo>
                    <a:pt x="609" y="266"/>
                    <a:pt x="562" y="282"/>
                    <a:pt x="562" y="282"/>
                  </a:cubicBezTo>
                  <a:cubicBezTo>
                    <a:pt x="520" y="268"/>
                    <a:pt x="470" y="280"/>
                    <a:pt x="432" y="258"/>
                  </a:cubicBezTo>
                  <a:cubicBezTo>
                    <a:pt x="408" y="244"/>
                    <a:pt x="412" y="195"/>
                    <a:pt x="385" y="188"/>
                  </a:cubicBezTo>
                  <a:cubicBezTo>
                    <a:pt x="369" y="184"/>
                    <a:pt x="354" y="180"/>
                    <a:pt x="338" y="176"/>
                  </a:cubicBezTo>
                  <a:cubicBezTo>
                    <a:pt x="306" y="83"/>
                    <a:pt x="354" y="192"/>
                    <a:pt x="291" y="129"/>
                  </a:cubicBezTo>
                  <a:cubicBezTo>
                    <a:pt x="228" y="66"/>
                    <a:pt x="337" y="114"/>
                    <a:pt x="244" y="82"/>
                  </a:cubicBezTo>
                  <a:cubicBezTo>
                    <a:pt x="236" y="70"/>
                    <a:pt x="232" y="56"/>
                    <a:pt x="221" y="47"/>
                  </a:cubicBezTo>
                  <a:cubicBezTo>
                    <a:pt x="200" y="28"/>
                    <a:pt x="150" y="0"/>
                    <a:pt x="150" y="0"/>
                  </a:cubicBezTo>
                  <a:cubicBezTo>
                    <a:pt x="141" y="3"/>
                    <a:pt x="0" y="42"/>
                    <a:pt x="9" y="70"/>
                  </a:cubicBezTo>
                  <a:cubicBezTo>
                    <a:pt x="13" y="82"/>
                    <a:pt x="17" y="94"/>
                    <a:pt x="21" y="106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7620120" y="1752480"/>
            <a:ext cx="279360" cy="96840"/>
          </a:xfrm>
          <a:custGeom>
            <a:avLst/>
            <a:gdLst/>
            <a:ahLst/>
            <a:rect l="l" t="t" r="r" b="b"/>
            <a:pathLst>
              <a:path w="164" h="12">
                <a:moveTo>
                  <a:pt x="0" y="0"/>
                </a:moveTo>
                <a:cubicBezTo>
                  <a:pt x="157" y="12"/>
                  <a:pt x="102" y="12"/>
                  <a:pt x="164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423200" y="1955880"/>
            <a:ext cx="509400" cy="41040"/>
          </a:xfrm>
          <a:custGeom>
            <a:avLst/>
            <a:gdLst/>
            <a:ahLst/>
            <a:rect l="l" t="t" r="r" b="b"/>
            <a:pathLst>
              <a:path w="188" h="23">
                <a:moveTo>
                  <a:pt x="0" y="0"/>
                </a:moveTo>
                <a:cubicBezTo>
                  <a:pt x="62" y="16"/>
                  <a:pt x="123" y="23"/>
                  <a:pt x="188" y="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391520" y="2057400"/>
            <a:ext cx="533160" cy="76320"/>
          </a:xfrm>
          <a:custGeom>
            <a:avLst/>
            <a:gdLst/>
            <a:ahLst/>
            <a:rect l="l" t="t" r="r" b="b"/>
            <a:pathLst>
              <a:path w="200" h="47">
                <a:moveTo>
                  <a:pt x="0" y="0"/>
                </a:moveTo>
                <a:cubicBezTo>
                  <a:pt x="68" y="22"/>
                  <a:pt x="127" y="47"/>
                  <a:pt x="200" y="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391520" y="2184480"/>
            <a:ext cx="533160" cy="101520"/>
          </a:xfrm>
          <a:custGeom>
            <a:avLst/>
            <a:gdLst/>
            <a:ahLst/>
            <a:rect l="l" t="t" r="r" b="b"/>
            <a:pathLst>
              <a:path w="247" h="59">
                <a:moveTo>
                  <a:pt x="0" y="0"/>
                </a:moveTo>
                <a:cubicBezTo>
                  <a:pt x="54" y="19"/>
                  <a:pt x="110" y="20"/>
                  <a:pt x="165" y="35"/>
                </a:cubicBezTo>
                <a:cubicBezTo>
                  <a:pt x="181" y="39"/>
                  <a:pt x="196" y="42"/>
                  <a:pt x="212" y="47"/>
                </a:cubicBezTo>
                <a:cubicBezTo>
                  <a:pt x="224" y="50"/>
                  <a:pt x="247" y="59"/>
                  <a:pt x="247" y="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423200" y="2290680"/>
            <a:ext cx="485640" cy="177840"/>
          </a:xfrm>
          <a:custGeom>
            <a:avLst/>
            <a:gdLst/>
            <a:ahLst/>
            <a:rect l="l" t="t" r="r" b="b"/>
            <a:pathLst>
              <a:path w="235" h="71">
                <a:moveTo>
                  <a:pt x="0" y="0"/>
                </a:moveTo>
                <a:cubicBezTo>
                  <a:pt x="87" y="22"/>
                  <a:pt x="144" y="71"/>
                  <a:pt x="235" y="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599520" y="1310040"/>
            <a:ext cx="924120" cy="907920"/>
            <a:chOff x="6599520" y="1310040"/>
            <a:chExt cx="924120" cy="907920"/>
          </a:xfrm>
        </p:grpSpPr>
        <p:sp>
          <p:nvSpPr>
            <p:cNvPr id="633" name=""/>
            <p:cNvSpPr/>
            <p:nvPr/>
          </p:nvSpPr>
          <p:spPr>
            <a:xfrm rot="2451600">
              <a:off x="6770520" y="1400400"/>
              <a:ext cx="547560" cy="726840"/>
            </a:xfrm>
            <a:custGeom>
              <a:avLst/>
              <a:gdLst/>
              <a:ahLst/>
              <a:rect l="l" t="t" r="r" b="b"/>
              <a:pathLst>
                <a:path w="345" h="458">
                  <a:moveTo>
                    <a:pt x="306" y="0"/>
                  </a:moveTo>
                  <a:cubicBezTo>
                    <a:pt x="287" y="56"/>
                    <a:pt x="268" y="45"/>
                    <a:pt x="212" y="59"/>
                  </a:cubicBezTo>
                  <a:cubicBezTo>
                    <a:pt x="200" y="67"/>
                    <a:pt x="189" y="76"/>
                    <a:pt x="176" y="82"/>
                  </a:cubicBezTo>
                  <a:cubicBezTo>
                    <a:pt x="165" y="87"/>
                    <a:pt x="151" y="86"/>
                    <a:pt x="141" y="94"/>
                  </a:cubicBezTo>
                  <a:cubicBezTo>
                    <a:pt x="130" y="103"/>
                    <a:pt x="128" y="119"/>
                    <a:pt x="118" y="129"/>
                  </a:cubicBezTo>
                  <a:cubicBezTo>
                    <a:pt x="108" y="139"/>
                    <a:pt x="94" y="145"/>
                    <a:pt x="82" y="153"/>
                  </a:cubicBezTo>
                  <a:cubicBezTo>
                    <a:pt x="51" y="246"/>
                    <a:pt x="32" y="342"/>
                    <a:pt x="0" y="435"/>
                  </a:cubicBezTo>
                  <a:cubicBezTo>
                    <a:pt x="66" y="458"/>
                    <a:pt x="145" y="417"/>
                    <a:pt x="212" y="400"/>
                  </a:cubicBezTo>
                  <a:cubicBezTo>
                    <a:pt x="345" y="309"/>
                    <a:pt x="306" y="143"/>
                    <a:pt x="306" y="0"/>
                  </a:cubicBezTo>
                  <a:close/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451600">
              <a:off x="6979320" y="1445040"/>
              <a:ext cx="411120" cy="560160"/>
            </a:xfrm>
            <a:custGeom>
              <a:avLst/>
              <a:gdLst/>
              <a:ahLst/>
              <a:rect l="l" t="t" r="r" b="b"/>
              <a:pathLst>
                <a:path w="259" h="353">
                  <a:moveTo>
                    <a:pt x="259" y="0"/>
                  </a:moveTo>
                  <a:cubicBezTo>
                    <a:pt x="235" y="16"/>
                    <a:pt x="212" y="31"/>
                    <a:pt x="188" y="47"/>
                  </a:cubicBezTo>
                  <a:cubicBezTo>
                    <a:pt x="167" y="61"/>
                    <a:pt x="173" y="94"/>
                    <a:pt x="165" y="118"/>
                  </a:cubicBezTo>
                  <a:cubicBezTo>
                    <a:pt x="153" y="153"/>
                    <a:pt x="141" y="188"/>
                    <a:pt x="129" y="224"/>
                  </a:cubicBezTo>
                  <a:cubicBezTo>
                    <a:pt x="125" y="236"/>
                    <a:pt x="128" y="252"/>
                    <a:pt x="118" y="259"/>
                  </a:cubicBezTo>
                  <a:cubicBezTo>
                    <a:pt x="94" y="275"/>
                    <a:pt x="47" y="306"/>
                    <a:pt x="47" y="306"/>
                  </a:cubicBezTo>
                  <a:cubicBezTo>
                    <a:pt x="19" y="348"/>
                    <a:pt x="36" y="335"/>
                    <a:pt x="0" y="353"/>
                  </a:cubicBezTo>
                </a:path>
              </a:pathLst>
            </a:custGeom>
            <a:solidFill>
              <a:srgbClr val="0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991200" y="573120"/>
            <a:ext cx="236520" cy="523800"/>
            <a:chOff x="6991200" y="573120"/>
            <a:chExt cx="236520" cy="523800"/>
          </a:xfrm>
        </p:grpSpPr>
        <p:sp>
          <p:nvSpPr>
            <p:cNvPr id="636" name=""/>
            <p:cNvSpPr/>
            <p:nvPr/>
          </p:nvSpPr>
          <p:spPr>
            <a:xfrm>
              <a:off x="7084800" y="573120"/>
              <a:ext cx="142920" cy="523800"/>
            </a:xfrm>
            <a:custGeom>
              <a:avLst/>
              <a:gdLst/>
              <a:ahLst/>
              <a:rect l="l" t="t" r="r" b="b"/>
              <a:pathLst>
                <a:path w="90" h="330">
                  <a:moveTo>
                    <a:pt x="0" y="330"/>
                  </a:moveTo>
                  <a:cubicBezTo>
                    <a:pt x="35" y="221"/>
                    <a:pt x="10" y="107"/>
                    <a:pt x="47" y="0"/>
                  </a:cubicBezTo>
                  <a:cubicBezTo>
                    <a:pt x="66" y="96"/>
                    <a:pt x="90" y="132"/>
                    <a:pt x="59" y="247"/>
                  </a:cubicBezTo>
                  <a:cubicBezTo>
                    <a:pt x="55" y="261"/>
                    <a:pt x="31" y="259"/>
                    <a:pt x="23" y="271"/>
                  </a:cubicBezTo>
                  <a:cubicBezTo>
                    <a:pt x="11" y="288"/>
                    <a:pt x="8" y="310"/>
                    <a:pt x="0" y="330"/>
                  </a:cubicBezTo>
                  <a:close/>
                </a:path>
              </a:pathLst>
            </a:custGeom>
            <a:solidFill>
              <a:srgbClr val="00d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91200" y="591840"/>
              <a:ext cx="168480" cy="410760"/>
            </a:xfrm>
            <a:custGeom>
              <a:avLst/>
              <a:gdLst/>
              <a:ahLst/>
              <a:rect l="l" t="t" r="r" b="b"/>
              <a:pathLst>
                <a:path w="106" h="259">
                  <a:moveTo>
                    <a:pt x="106" y="0"/>
                  </a:moveTo>
                  <a:cubicBezTo>
                    <a:pt x="78" y="84"/>
                    <a:pt x="103" y="57"/>
                    <a:pt x="47" y="94"/>
                  </a:cubicBezTo>
                  <a:cubicBezTo>
                    <a:pt x="39" y="106"/>
                    <a:pt x="30" y="116"/>
                    <a:pt x="24" y="129"/>
                  </a:cubicBezTo>
                  <a:cubicBezTo>
                    <a:pt x="14" y="152"/>
                    <a:pt x="0" y="200"/>
                    <a:pt x="0" y="200"/>
                  </a:cubicBezTo>
                  <a:cubicBezTo>
                    <a:pt x="14" y="240"/>
                    <a:pt x="26" y="259"/>
                    <a:pt x="71" y="259"/>
                  </a:cubicBezTo>
                </a:path>
              </a:pathLst>
            </a:custGeom>
            <a:solidFill>
              <a:srgbClr val="00d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6775920" y="1999440"/>
            <a:ext cx="788040" cy="996480"/>
            <a:chOff x="6775920" y="1999440"/>
            <a:chExt cx="788040" cy="996480"/>
          </a:xfrm>
        </p:grpSpPr>
        <p:sp>
          <p:nvSpPr>
            <p:cNvPr id="639" name=""/>
            <p:cNvSpPr/>
            <p:nvPr/>
          </p:nvSpPr>
          <p:spPr>
            <a:xfrm rot="20164800">
              <a:off x="6933960" y="2057040"/>
              <a:ext cx="471240" cy="880920"/>
            </a:xfrm>
            <a:custGeom>
              <a:avLst/>
              <a:gdLst/>
              <a:ahLst/>
              <a:rect l="l" t="t" r="r" b="b"/>
              <a:pathLst>
                <a:path w="297" h="555">
                  <a:moveTo>
                    <a:pt x="262" y="94"/>
                  </a:moveTo>
                  <a:cubicBezTo>
                    <a:pt x="191" y="198"/>
                    <a:pt x="287" y="73"/>
                    <a:pt x="203" y="141"/>
                  </a:cubicBezTo>
                  <a:cubicBezTo>
                    <a:pt x="130" y="200"/>
                    <a:pt x="229" y="161"/>
                    <a:pt x="144" y="188"/>
                  </a:cubicBezTo>
                  <a:cubicBezTo>
                    <a:pt x="91" y="224"/>
                    <a:pt x="115" y="235"/>
                    <a:pt x="62" y="271"/>
                  </a:cubicBezTo>
                  <a:cubicBezTo>
                    <a:pt x="36" y="348"/>
                    <a:pt x="0" y="437"/>
                    <a:pt x="62" y="518"/>
                  </a:cubicBezTo>
                  <a:cubicBezTo>
                    <a:pt x="91" y="555"/>
                    <a:pt x="156" y="510"/>
                    <a:pt x="203" y="506"/>
                  </a:cubicBezTo>
                  <a:cubicBezTo>
                    <a:pt x="279" y="480"/>
                    <a:pt x="273" y="470"/>
                    <a:pt x="297" y="400"/>
                  </a:cubicBezTo>
                  <a:cubicBezTo>
                    <a:pt x="275" y="188"/>
                    <a:pt x="285" y="322"/>
                    <a:pt x="285" y="0"/>
                  </a:cubicBezTo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164800">
              <a:off x="7133760" y="2148840"/>
              <a:ext cx="223560" cy="523440"/>
            </a:xfrm>
            <a:custGeom>
              <a:avLst/>
              <a:gdLst/>
              <a:ahLst/>
              <a:rect l="l" t="t" r="r" b="b"/>
              <a:pathLst>
                <a:path w="141" h="330">
                  <a:moveTo>
                    <a:pt x="141" y="0"/>
                  </a:moveTo>
                  <a:cubicBezTo>
                    <a:pt x="124" y="72"/>
                    <a:pt x="98" y="147"/>
                    <a:pt x="35" y="189"/>
                  </a:cubicBezTo>
                  <a:cubicBezTo>
                    <a:pt x="14" y="254"/>
                    <a:pt x="32" y="193"/>
                    <a:pt x="12" y="283"/>
                  </a:cubicBezTo>
                  <a:cubicBezTo>
                    <a:pt x="8" y="299"/>
                    <a:pt x="0" y="330"/>
                    <a:pt x="0" y="330"/>
                  </a:cubicBezTo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791320" y="1219320"/>
            <a:ext cx="307800" cy="939600"/>
            <a:chOff x="5791320" y="1219320"/>
            <a:chExt cx="307800" cy="939600"/>
          </a:xfrm>
        </p:grpSpPr>
        <p:sp>
          <p:nvSpPr>
            <p:cNvPr id="642" name=""/>
            <p:cNvSpPr/>
            <p:nvPr/>
          </p:nvSpPr>
          <p:spPr>
            <a:xfrm>
              <a:off x="5791320" y="1373040"/>
              <a:ext cx="299880" cy="785880"/>
            </a:xfrm>
            <a:custGeom>
              <a:avLst/>
              <a:gdLst/>
              <a:ahLst/>
              <a:rect l="l" t="t" r="r" b="b"/>
              <a:pathLst>
                <a:path w="189" h="495">
                  <a:moveTo>
                    <a:pt x="106" y="0"/>
                  </a:moveTo>
                  <a:cubicBezTo>
                    <a:pt x="42" y="44"/>
                    <a:pt x="77" y="11"/>
                    <a:pt x="24" y="118"/>
                  </a:cubicBezTo>
                  <a:cubicBezTo>
                    <a:pt x="10" y="147"/>
                    <a:pt x="0" y="212"/>
                    <a:pt x="0" y="212"/>
                  </a:cubicBezTo>
                  <a:cubicBezTo>
                    <a:pt x="10" y="240"/>
                    <a:pt x="26" y="266"/>
                    <a:pt x="35" y="294"/>
                  </a:cubicBezTo>
                  <a:cubicBezTo>
                    <a:pt x="46" y="328"/>
                    <a:pt x="36" y="372"/>
                    <a:pt x="59" y="400"/>
                  </a:cubicBezTo>
                  <a:cubicBezTo>
                    <a:pt x="77" y="422"/>
                    <a:pt x="113" y="417"/>
                    <a:pt x="141" y="424"/>
                  </a:cubicBezTo>
                  <a:cubicBezTo>
                    <a:pt x="152" y="456"/>
                    <a:pt x="164" y="495"/>
                    <a:pt x="141" y="412"/>
                  </a:cubicBezTo>
                  <a:cubicBezTo>
                    <a:pt x="129" y="368"/>
                    <a:pt x="130" y="376"/>
                    <a:pt x="106" y="329"/>
                  </a:cubicBezTo>
                  <a:cubicBezTo>
                    <a:pt x="110" y="317"/>
                    <a:pt x="112" y="305"/>
                    <a:pt x="118" y="294"/>
                  </a:cubicBezTo>
                  <a:cubicBezTo>
                    <a:pt x="132" y="269"/>
                    <a:pt x="165" y="224"/>
                    <a:pt x="165" y="224"/>
                  </a:cubicBezTo>
                  <a:cubicBezTo>
                    <a:pt x="187" y="159"/>
                    <a:pt x="189" y="123"/>
                    <a:pt x="130" y="82"/>
                  </a:cubicBezTo>
                  <a:cubicBezTo>
                    <a:pt x="122" y="70"/>
                    <a:pt x="117" y="56"/>
                    <a:pt x="106" y="47"/>
                  </a:cubicBezTo>
                  <a:cubicBezTo>
                    <a:pt x="68" y="17"/>
                    <a:pt x="45" y="61"/>
                    <a:pt x="106" y="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04000" y="1219320"/>
              <a:ext cx="195120" cy="509400"/>
            </a:xfrm>
            <a:custGeom>
              <a:avLst/>
              <a:gdLst/>
              <a:ahLst/>
              <a:rect l="l" t="t" r="r" b="b"/>
              <a:pathLst>
                <a:path w="200" h="342">
                  <a:moveTo>
                    <a:pt x="200" y="0"/>
                  </a:moveTo>
                  <a:cubicBezTo>
                    <a:pt x="146" y="18"/>
                    <a:pt x="95" y="15"/>
                    <a:pt x="47" y="47"/>
                  </a:cubicBezTo>
                  <a:cubicBezTo>
                    <a:pt x="39" y="59"/>
                    <a:pt x="29" y="70"/>
                    <a:pt x="23" y="83"/>
                  </a:cubicBezTo>
                  <a:cubicBezTo>
                    <a:pt x="13" y="105"/>
                    <a:pt x="0" y="153"/>
                    <a:pt x="0" y="153"/>
                  </a:cubicBezTo>
                  <a:cubicBezTo>
                    <a:pt x="19" y="228"/>
                    <a:pt x="23" y="256"/>
                    <a:pt x="23" y="342"/>
                  </a:cubicBezTo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289560" y="1463760"/>
            <a:ext cx="236520" cy="523800"/>
            <a:chOff x="6289560" y="1463760"/>
            <a:chExt cx="236520" cy="523800"/>
          </a:xfrm>
        </p:grpSpPr>
        <p:sp>
          <p:nvSpPr>
            <p:cNvPr id="645" name=""/>
            <p:cNvSpPr/>
            <p:nvPr/>
          </p:nvSpPr>
          <p:spPr>
            <a:xfrm>
              <a:off x="6289560" y="1463760"/>
              <a:ext cx="236520" cy="523800"/>
            </a:xfrm>
            <a:custGeom>
              <a:avLst/>
              <a:gdLst/>
              <a:ahLst/>
              <a:rect l="l" t="t" r="r" b="b"/>
              <a:pathLst>
                <a:path w="149" h="330">
                  <a:moveTo>
                    <a:pt x="136" y="16"/>
                  </a:moveTo>
                  <a:cubicBezTo>
                    <a:pt x="109" y="103"/>
                    <a:pt x="149" y="0"/>
                    <a:pt x="89" y="74"/>
                  </a:cubicBezTo>
                  <a:cubicBezTo>
                    <a:pt x="22" y="157"/>
                    <a:pt x="144" y="66"/>
                    <a:pt x="42" y="133"/>
                  </a:cubicBezTo>
                  <a:cubicBezTo>
                    <a:pt x="23" y="190"/>
                    <a:pt x="0" y="244"/>
                    <a:pt x="42" y="310"/>
                  </a:cubicBezTo>
                  <a:cubicBezTo>
                    <a:pt x="55" y="330"/>
                    <a:pt x="89" y="302"/>
                    <a:pt x="113" y="298"/>
                  </a:cubicBezTo>
                  <a:cubicBezTo>
                    <a:pt x="137" y="227"/>
                    <a:pt x="139" y="210"/>
                    <a:pt x="125" y="122"/>
                  </a:cubicBezTo>
                  <a:cubicBezTo>
                    <a:pt x="123" y="110"/>
                    <a:pt x="113" y="86"/>
                    <a:pt x="113" y="86"/>
                  </a:cubicBezTo>
                </a:path>
              </a:pathLst>
            </a:custGeom>
            <a:solidFill>
              <a:srgbClr val="00d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57960" y="1581120"/>
              <a:ext cx="110880" cy="280440"/>
            </a:xfrm>
            <a:custGeom>
              <a:avLst/>
              <a:gdLst/>
              <a:ahLst/>
              <a:rect l="l" t="t" r="r" b="b"/>
              <a:pathLst>
                <a:path w="70" h="177">
                  <a:moveTo>
                    <a:pt x="70" y="0"/>
                  </a:moveTo>
                  <a:cubicBezTo>
                    <a:pt x="62" y="12"/>
                    <a:pt x="56" y="26"/>
                    <a:pt x="46" y="36"/>
                  </a:cubicBezTo>
                  <a:cubicBezTo>
                    <a:pt x="36" y="46"/>
                    <a:pt x="14" y="45"/>
                    <a:pt x="11" y="59"/>
                  </a:cubicBezTo>
                  <a:cubicBezTo>
                    <a:pt x="0" y="104"/>
                    <a:pt x="29" y="148"/>
                    <a:pt x="58" y="177"/>
                  </a:cubicBezTo>
                </a:path>
              </a:pathLst>
            </a:custGeom>
            <a:solidFill>
              <a:srgbClr val="00d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140160" y="590400"/>
            <a:ext cx="813600" cy="765720"/>
            <a:chOff x="6140160" y="590400"/>
            <a:chExt cx="813600" cy="765720"/>
          </a:xfrm>
        </p:grpSpPr>
        <p:sp>
          <p:nvSpPr>
            <p:cNvPr id="648" name=""/>
            <p:cNvSpPr/>
            <p:nvPr/>
          </p:nvSpPr>
          <p:spPr>
            <a:xfrm rot="13185000">
              <a:off x="6403320" y="631080"/>
              <a:ext cx="374400" cy="684360"/>
            </a:xfrm>
            <a:custGeom>
              <a:avLst/>
              <a:gdLst/>
              <a:ahLst/>
              <a:rect l="l" t="t" r="r" b="b"/>
              <a:pathLst>
                <a:path w="141" h="346">
                  <a:moveTo>
                    <a:pt x="141" y="0"/>
                  </a:moveTo>
                  <a:cubicBezTo>
                    <a:pt x="133" y="12"/>
                    <a:pt x="129" y="26"/>
                    <a:pt x="118" y="35"/>
                  </a:cubicBezTo>
                  <a:cubicBezTo>
                    <a:pt x="108" y="43"/>
                    <a:pt x="91" y="38"/>
                    <a:pt x="82" y="47"/>
                  </a:cubicBezTo>
                  <a:cubicBezTo>
                    <a:pt x="62" y="67"/>
                    <a:pt x="35" y="117"/>
                    <a:pt x="35" y="117"/>
                  </a:cubicBezTo>
                  <a:cubicBezTo>
                    <a:pt x="31" y="180"/>
                    <a:pt x="30" y="243"/>
                    <a:pt x="24" y="305"/>
                  </a:cubicBezTo>
                  <a:cubicBezTo>
                    <a:pt x="23" y="318"/>
                    <a:pt x="0" y="338"/>
                    <a:pt x="12" y="341"/>
                  </a:cubicBezTo>
                  <a:cubicBezTo>
                    <a:pt x="36" y="346"/>
                    <a:pt x="82" y="317"/>
                    <a:pt x="82" y="317"/>
                  </a:cubicBezTo>
                  <a:cubicBezTo>
                    <a:pt x="117" y="214"/>
                    <a:pt x="122" y="108"/>
                    <a:pt x="141" y="0"/>
                  </a:cubicBezTo>
                  <a:close/>
                </a:path>
              </a:pathLst>
            </a:custGeom>
            <a:solidFill>
              <a:srgbClr val="007a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3185000">
              <a:off x="6281640" y="736560"/>
              <a:ext cx="246240" cy="531720"/>
            </a:xfrm>
            <a:custGeom>
              <a:avLst/>
              <a:gdLst/>
              <a:ahLst/>
              <a:rect l="l" t="t" r="r" b="b"/>
              <a:pathLst>
                <a:path w="155" h="335">
                  <a:moveTo>
                    <a:pt x="141" y="17"/>
                  </a:moveTo>
                  <a:cubicBezTo>
                    <a:pt x="111" y="105"/>
                    <a:pt x="155" y="0"/>
                    <a:pt x="94" y="76"/>
                  </a:cubicBezTo>
                  <a:cubicBezTo>
                    <a:pt x="86" y="86"/>
                    <a:pt x="88" y="100"/>
                    <a:pt x="82" y="111"/>
                  </a:cubicBezTo>
                  <a:cubicBezTo>
                    <a:pt x="76" y="124"/>
                    <a:pt x="66" y="134"/>
                    <a:pt x="58" y="146"/>
                  </a:cubicBezTo>
                  <a:cubicBezTo>
                    <a:pt x="46" y="185"/>
                    <a:pt x="35" y="225"/>
                    <a:pt x="23" y="264"/>
                  </a:cubicBezTo>
                  <a:cubicBezTo>
                    <a:pt x="20" y="276"/>
                    <a:pt x="15" y="287"/>
                    <a:pt x="11" y="299"/>
                  </a:cubicBezTo>
                  <a:cubicBezTo>
                    <a:pt x="7" y="311"/>
                    <a:pt x="0" y="335"/>
                    <a:pt x="0" y="335"/>
                  </a:cubicBezTo>
                </a:path>
              </a:pathLst>
            </a:custGeom>
            <a:solidFill>
              <a:srgbClr val="007a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308480" y="2286000"/>
            <a:ext cx="1393200" cy="1260360"/>
            <a:chOff x="4308480" y="2286000"/>
            <a:chExt cx="1393200" cy="1260360"/>
          </a:xfrm>
        </p:grpSpPr>
        <p:sp>
          <p:nvSpPr>
            <p:cNvPr id="651" name=""/>
            <p:cNvSpPr/>
            <p:nvPr/>
          </p:nvSpPr>
          <p:spPr>
            <a:xfrm rot="20416200">
              <a:off x="4953240" y="2703600"/>
              <a:ext cx="687240" cy="482400"/>
            </a:xfrm>
            <a:custGeom>
              <a:avLst/>
              <a:gdLst/>
              <a:ahLst/>
              <a:rect l="l" t="t" r="r" b="b"/>
              <a:pathLst>
                <a:path w="433" h="304">
                  <a:moveTo>
                    <a:pt x="0" y="21"/>
                  </a:moveTo>
                  <a:cubicBezTo>
                    <a:pt x="89" y="0"/>
                    <a:pt x="192" y="35"/>
                    <a:pt x="282" y="45"/>
                  </a:cubicBezTo>
                  <a:cubicBezTo>
                    <a:pt x="364" y="66"/>
                    <a:pt x="373" y="82"/>
                    <a:pt x="400" y="162"/>
                  </a:cubicBezTo>
                  <a:cubicBezTo>
                    <a:pt x="414" y="247"/>
                    <a:pt x="433" y="263"/>
                    <a:pt x="353" y="304"/>
                  </a:cubicBezTo>
                  <a:cubicBezTo>
                    <a:pt x="339" y="301"/>
                    <a:pt x="218" y="287"/>
                    <a:pt x="188" y="257"/>
                  </a:cubicBezTo>
                  <a:cubicBezTo>
                    <a:pt x="147" y="216"/>
                    <a:pt x="164" y="141"/>
                    <a:pt x="117" y="104"/>
                  </a:cubicBezTo>
                  <a:cubicBezTo>
                    <a:pt x="107" y="96"/>
                    <a:pt x="93" y="98"/>
                    <a:pt x="82" y="92"/>
                  </a:cubicBezTo>
                  <a:cubicBezTo>
                    <a:pt x="10" y="52"/>
                    <a:pt x="23" y="66"/>
                    <a:pt x="0" y="2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rot="16246200">
              <a:off x="4773600" y="2958120"/>
              <a:ext cx="687240" cy="482760"/>
            </a:xfrm>
            <a:custGeom>
              <a:avLst/>
              <a:gdLst/>
              <a:ahLst/>
              <a:rect l="l" t="t" r="r" b="b"/>
              <a:pathLst>
                <a:path w="433" h="304">
                  <a:moveTo>
                    <a:pt x="0" y="21"/>
                  </a:moveTo>
                  <a:cubicBezTo>
                    <a:pt x="89" y="0"/>
                    <a:pt x="192" y="35"/>
                    <a:pt x="282" y="45"/>
                  </a:cubicBezTo>
                  <a:cubicBezTo>
                    <a:pt x="364" y="66"/>
                    <a:pt x="373" y="82"/>
                    <a:pt x="400" y="162"/>
                  </a:cubicBezTo>
                  <a:cubicBezTo>
                    <a:pt x="414" y="247"/>
                    <a:pt x="433" y="263"/>
                    <a:pt x="353" y="304"/>
                  </a:cubicBezTo>
                  <a:cubicBezTo>
                    <a:pt x="339" y="301"/>
                    <a:pt x="218" y="287"/>
                    <a:pt x="188" y="257"/>
                  </a:cubicBezTo>
                  <a:cubicBezTo>
                    <a:pt x="147" y="216"/>
                    <a:pt x="164" y="141"/>
                    <a:pt x="117" y="104"/>
                  </a:cubicBezTo>
                  <a:cubicBezTo>
                    <a:pt x="107" y="96"/>
                    <a:pt x="93" y="98"/>
                    <a:pt x="82" y="92"/>
                  </a:cubicBezTo>
                  <a:cubicBezTo>
                    <a:pt x="10" y="52"/>
                    <a:pt x="23" y="66"/>
                    <a:pt x="0" y="21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690400">
              <a:off x="4724640" y="2322000"/>
              <a:ext cx="131760" cy="507960"/>
            </a:xfrm>
            <a:custGeom>
              <a:avLst/>
              <a:gdLst/>
              <a:ahLst/>
              <a:rect l="l" t="t" r="r" b="b"/>
              <a:pathLst>
                <a:path w="83" h="320">
                  <a:moveTo>
                    <a:pt x="83" y="320"/>
                  </a:moveTo>
                  <a:cubicBezTo>
                    <a:pt x="71" y="263"/>
                    <a:pt x="54" y="210"/>
                    <a:pt x="36" y="155"/>
                  </a:cubicBezTo>
                  <a:cubicBezTo>
                    <a:pt x="28" y="132"/>
                    <a:pt x="20" y="108"/>
                    <a:pt x="12" y="85"/>
                  </a:cubicBezTo>
                  <a:cubicBezTo>
                    <a:pt x="8" y="73"/>
                    <a:pt x="0" y="49"/>
                    <a:pt x="0" y="49"/>
                  </a:cubicBezTo>
                  <a:cubicBezTo>
                    <a:pt x="4" y="37"/>
                    <a:pt x="1" y="19"/>
                    <a:pt x="12" y="14"/>
                  </a:cubicBezTo>
                  <a:cubicBezTo>
                    <a:pt x="40" y="0"/>
                    <a:pt x="64" y="50"/>
                    <a:pt x="71" y="61"/>
                  </a:cubicBezTo>
                  <a:cubicBezTo>
                    <a:pt x="56" y="119"/>
                    <a:pt x="70" y="96"/>
                    <a:pt x="36" y="132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96040" y="2475000"/>
              <a:ext cx="393480" cy="392040"/>
            </a:xfrm>
            <a:custGeom>
              <a:avLst/>
              <a:gdLst/>
              <a:ahLst/>
              <a:rect l="l" t="t" r="r" b="b"/>
              <a:pathLst>
                <a:path w="231" h="241">
                  <a:moveTo>
                    <a:pt x="218" y="224"/>
                  </a:moveTo>
                  <a:cubicBezTo>
                    <a:pt x="191" y="137"/>
                    <a:pt x="231" y="241"/>
                    <a:pt x="171" y="165"/>
                  </a:cubicBezTo>
                  <a:cubicBezTo>
                    <a:pt x="125" y="108"/>
                    <a:pt x="204" y="145"/>
                    <a:pt x="124" y="118"/>
                  </a:cubicBezTo>
                  <a:cubicBezTo>
                    <a:pt x="104" y="59"/>
                    <a:pt x="107" y="22"/>
                    <a:pt x="42" y="0"/>
                  </a:cubicBezTo>
                  <a:cubicBezTo>
                    <a:pt x="30" y="4"/>
                    <a:pt x="11" y="0"/>
                    <a:pt x="7" y="12"/>
                  </a:cubicBezTo>
                  <a:cubicBezTo>
                    <a:pt x="1" y="31"/>
                    <a:pt x="0" y="62"/>
                    <a:pt x="18" y="71"/>
                  </a:cubicBezTo>
                  <a:cubicBezTo>
                    <a:pt x="43" y="84"/>
                    <a:pt x="101" y="59"/>
                    <a:pt x="101" y="59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43440" y="2286000"/>
              <a:ext cx="578160" cy="554040"/>
            </a:xfrm>
            <a:custGeom>
              <a:avLst/>
              <a:gdLst/>
              <a:ahLst/>
              <a:rect l="l" t="t" r="r" b="b"/>
              <a:pathLst>
                <a:path w="364" h="349">
                  <a:moveTo>
                    <a:pt x="41" y="349"/>
                  </a:moveTo>
                  <a:cubicBezTo>
                    <a:pt x="44" y="278"/>
                    <a:pt x="0" y="47"/>
                    <a:pt x="123" y="8"/>
                  </a:cubicBezTo>
                  <a:cubicBezTo>
                    <a:pt x="146" y="9"/>
                    <a:pt x="317" y="0"/>
                    <a:pt x="347" y="43"/>
                  </a:cubicBezTo>
                  <a:cubicBezTo>
                    <a:pt x="358" y="59"/>
                    <a:pt x="354" y="82"/>
                    <a:pt x="358" y="102"/>
                  </a:cubicBezTo>
                  <a:cubicBezTo>
                    <a:pt x="354" y="165"/>
                    <a:pt x="364" y="230"/>
                    <a:pt x="347" y="290"/>
                  </a:cubicBezTo>
                  <a:cubicBezTo>
                    <a:pt x="342" y="306"/>
                    <a:pt x="316" y="297"/>
                    <a:pt x="300" y="302"/>
                  </a:cubicBezTo>
                  <a:cubicBezTo>
                    <a:pt x="212" y="328"/>
                    <a:pt x="135" y="349"/>
                    <a:pt x="41" y="34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 rot="5845200">
              <a:off x="4331520" y="2715120"/>
              <a:ext cx="577800" cy="554040"/>
            </a:xfrm>
            <a:custGeom>
              <a:avLst/>
              <a:gdLst/>
              <a:ahLst/>
              <a:rect l="l" t="t" r="r" b="b"/>
              <a:pathLst>
                <a:path w="364" h="349">
                  <a:moveTo>
                    <a:pt x="41" y="349"/>
                  </a:moveTo>
                  <a:cubicBezTo>
                    <a:pt x="44" y="278"/>
                    <a:pt x="0" y="47"/>
                    <a:pt x="123" y="8"/>
                  </a:cubicBezTo>
                  <a:cubicBezTo>
                    <a:pt x="146" y="9"/>
                    <a:pt x="317" y="0"/>
                    <a:pt x="347" y="43"/>
                  </a:cubicBezTo>
                  <a:cubicBezTo>
                    <a:pt x="358" y="59"/>
                    <a:pt x="354" y="82"/>
                    <a:pt x="358" y="102"/>
                  </a:cubicBezTo>
                  <a:cubicBezTo>
                    <a:pt x="354" y="165"/>
                    <a:pt x="364" y="230"/>
                    <a:pt x="347" y="290"/>
                  </a:cubicBezTo>
                  <a:cubicBezTo>
                    <a:pt x="342" y="306"/>
                    <a:pt x="316" y="297"/>
                    <a:pt x="300" y="302"/>
                  </a:cubicBezTo>
                  <a:cubicBezTo>
                    <a:pt x="212" y="328"/>
                    <a:pt x="135" y="349"/>
                    <a:pt x="41" y="34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0" y="3581280"/>
            <a:ext cx="1792440" cy="603360"/>
          </a:xfrm>
          <a:custGeom>
            <a:avLst/>
            <a:gdLst/>
            <a:ahLst/>
            <a:rect l="l" t="t" r="r" b="b"/>
            <a:pathLst>
              <a:path w="1129" h="380">
                <a:moveTo>
                  <a:pt x="0" y="282"/>
                </a:moveTo>
                <a:cubicBezTo>
                  <a:pt x="16" y="259"/>
                  <a:pt x="32" y="235"/>
                  <a:pt x="47" y="212"/>
                </a:cubicBezTo>
                <a:cubicBezTo>
                  <a:pt x="55" y="200"/>
                  <a:pt x="70" y="176"/>
                  <a:pt x="70" y="176"/>
                </a:cubicBezTo>
                <a:cubicBezTo>
                  <a:pt x="86" y="114"/>
                  <a:pt x="78" y="61"/>
                  <a:pt x="59" y="0"/>
                </a:cubicBezTo>
                <a:cubicBezTo>
                  <a:pt x="39" y="79"/>
                  <a:pt x="44" y="16"/>
                  <a:pt x="70" y="94"/>
                </a:cubicBezTo>
                <a:cubicBezTo>
                  <a:pt x="80" y="125"/>
                  <a:pt x="94" y="188"/>
                  <a:pt x="94" y="188"/>
                </a:cubicBezTo>
                <a:cubicBezTo>
                  <a:pt x="126" y="139"/>
                  <a:pt x="147" y="91"/>
                  <a:pt x="164" y="35"/>
                </a:cubicBezTo>
                <a:cubicBezTo>
                  <a:pt x="172" y="66"/>
                  <a:pt x="180" y="98"/>
                  <a:pt x="188" y="129"/>
                </a:cubicBezTo>
                <a:cubicBezTo>
                  <a:pt x="192" y="145"/>
                  <a:pt x="200" y="176"/>
                  <a:pt x="200" y="176"/>
                </a:cubicBezTo>
                <a:cubicBezTo>
                  <a:pt x="219" y="116"/>
                  <a:pt x="227" y="64"/>
                  <a:pt x="235" y="0"/>
                </a:cubicBezTo>
                <a:cubicBezTo>
                  <a:pt x="256" y="82"/>
                  <a:pt x="239" y="31"/>
                  <a:pt x="294" y="141"/>
                </a:cubicBezTo>
                <a:cubicBezTo>
                  <a:pt x="302" y="157"/>
                  <a:pt x="309" y="172"/>
                  <a:pt x="317" y="188"/>
                </a:cubicBezTo>
                <a:cubicBezTo>
                  <a:pt x="325" y="204"/>
                  <a:pt x="341" y="235"/>
                  <a:pt x="341" y="235"/>
                </a:cubicBezTo>
                <a:cubicBezTo>
                  <a:pt x="375" y="183"/>
                  <a:pt x="378" y="143"/>
                  <a:pt x="400" y="82"/>
                </a:cubicBezTo>
                <a:cubicBezTo>
                  <a:pt x="406" y="66"/>
                  <a:pt x="416" y="51"/>
                  <a:pt x="423" y="35"/>
                </a:cubicBezTo>
                <a:cubicBezTo>
                  <a:pt x="428" y="24"/>
                  <a:pt x="431" y="12"/>
                  <a:pt x="435" y="0"/>
                </a:cubicBezTo>
                <a:cubicBezTo>
                  <a:pt x="468" y="48"/>
                  <a:pt x="492" y="119"/>
                  <a:pt x="506" y="176"/>
                </a:cubicBezTo>
                <a:cubicBezTo>
                  <a:pt x="511" y="160"/>
                  <a:pt x="515" y="105"/>
                  <a:pt x="553" y="153"/>
                </a:cubicBezTo>
                <a:cubicBezTo>
                  <a:pt x="586" y="195"/>
                  <a:pt x="596" y="236"/>
                  <a:pt x="611" y="282"/>
                </a:cubicBezTo>
                <a:cubicBezTo>
                  <a:pt x="615" y="260"/>
                  <a:pt x="637" y="149"/>
                  <a:pt x="647" y="141"/>
                </a:cubicBezTo>
                <a:cubicBezTo>
                  <a:pt x="661" y="130"/>
                  <a:pt x="658" y="176"/>
                  <a:pt x="670" y="188"/>
                </a:cubicBezTo>
                <a:cubicBezTo>
                  <a:pt x="690" y="208"/>
                  <a:pt x="741" y="235"/>
                  <a:pt x="741" y="235"/>
                </a:cubicBezTo>
                <a:cubicBezTo>
                  <a:pt x="745" y="247"/>
                  <a:pt x="741" y="268"/>
                  <a:pt x="753" y="271"/>
                </a:cubicBezTo>
                <a:cubicBezTo>
                  <a:pt x="785" y="279"/>
                  <a:pt x="795" y="226"/>
                  <a:pt x="800" y="212"/>
                </a:cubicBezTo>
                <a:cubicBezTo>
                  <a:pt x="826" y="229"/>
                  <a:pt x="860" y="237"/>
                  <a:pt x="882" y="259"/>
                </a:cubicBezTo>
                <a:cubicBezTo>
                  <a:pt x="902" y="279"/>
                  <a:pt x="929" y="329"/>
                  <a:pt x="929" y="329"/>
                </a:cubicBezTo>
                <a:cubicBezTo>
                  <a:pt x="933" y="317"/>
                  <a:pt x="932" y="303"/>
                  <a:pt x="941" y="294"/>
                </a:cubicBezTo>
                <a:cubicBezTo>
                  <a:pt x="961" y="274"/>
                  <a:pt x="1011" y="247"/>
                  <a:pt x="1011" y="247"/>
                </a:cubicBezTo>
                <a:cubicBezTo>
                  <a:pt x="1029" y="273"/>
                  <a:pt x="1034" y="309"/>
                  <a:pt x="1058" y="329"/>
                </a:cubicBezTo>
                <a:cubicBezTo>
                  <a:pt x="1070" y="339"/>
                  <a:pt x="1089" y="337"/>
                  <a:pt x="1105" y="341"/>
                </a:cubicBezTo>
                <a:cubicBezTo>
                  <a:pt x="1118" y="380"/>
                  <a:pt x="1105" y="376"/>
                  <a:pt x="1129" y="376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0880" y="3760920"/>
            <a:ext cx="7734600" cy="1295280"/>
          </a:xfrm>
          <a:custGeom>
            <a:avLst/>
            <a:gdLst/>
            <a:ahLst/>
            <a:rect l="l" t="t" r="r" b="b"/>
            <a:pathLst>
              <a:path w="4776" h="410">
                <a:moveTo>
                  <a:pt x="0" y="410"/>
                </a:moveTo>
                <a:cubicBezTo>
                  <a:pt x="75" y="391"/>
                  <a:pt x="114" y="382"/>
                  <a:pt x="176" y="339"/>
                </a:cubicBezTo>
                <a:cubicBezTo>
                  <a:pt x="180" y="327"/>
                  <a:pt x="183" y="315"/>
                  <a:pt x="188" y="304"/>
                </a:cubicBezTo>
                <a:cubicBezTo>
                  <a:pt x="194" y="291"/>
                  <a:pt x="206" y="281"/>
                  <a:pt x="211" y="268"/>
                </a:cubicBezTo>
                <a:cubicBezTo>
                  <a:pt x="236" y="200"/>
                  <a:pt x="255" y="102"/>
                  <a:pt x="270" y="33"/>
                </a:cubicBezTo>
                <a:cubicBezTo>
                  <a:pt x="298" y="197"/>
                  <a:pt x="270" y="0"/>
                  <a:pt x="270" y="292"/>
                </a:cubicBezTo>
                <a:cubicBezTo>
                  <a:pt x="270" y="304"/>
                  <a:pt x="279" y="269"/>
                  <a:pt x="282" y="257"/>
                </a:cubicBezTo>
                <a:cubicBezTo>
                  <a:pt x="302" y="185"/>
                  <a:pt x="299" y="181"/>
                  <a:pt x="317" y="127"/>
                </a:cubicBezTo>
                <a:cubicBezTo>
                  <a:pt x="325" y="104"/>
                  <a:pt x="341" y="57"/>
                  <a:pt x="341" y="57"/>
                </a:cubicBezTo>
                <a:cubicBezTo>
                  <a:pt x="349" y="88"/>
                  <a:pt x="367" y="119"/>
                  <a:pt x="364" y="151"/>
                </a:cubicBezTo>
                <a:cubicBezTo>
                  <a:pt x="360" y="198"/>
                  <a:pt x="344" y="246"/>
                  <a:pt x="353" y="292"/>
                </a:cubicBezTo>
                <a:cubicBezTo>
                  <a:pt x="355" y="304"/>
                  <a:pt x="376" y="284"/>
                  <a:pt x="388" y="280"/>
                </a:cubicBezTo>
                <a:cubicBezTo>
                  <a:pt x="392" y="264"/>
                  <a:pt x="391" y="246"/>
                  <a:pt x="400" y="233"/>
                </a:cubicBezTo>
                <a:cubicBezTo>
                  <a:pt x="457" y="148"/>
                  <a:pt x="420" y="273"/>
                  <a:pt x="447" y="174"/>
                </a:cubicBezTo>
                <a:cubicBezTo>
                  <a:pt x="455" y="143"/>
                  <a:pt x="470" y="80"/>
                  <a:pt x="470" y="80"/>
                </a:cubicBezTo>
                <a:cubicBezTo>
                  <a:pt x="466" y="123"/>
                  <a:pt x="464" y="167"/>
                  <a:pt x="459" y="210"/>
                </a:cubicBezTo>
                <a:cubicBezTo>
                  <a:pt x="456" y="234"/>
                  <a:pt x="438" y="258"/>
                  <a:pt x="447" y="280"/>
                </a:cubicBezTo>
                <a:cubicBezTo>
                  <a:pt x="453" y="295"/>
                  <a:pt x="478" y="288"/>
                  <a:pt x="494" y="292"/>
                </a:cubicBezTo>
                <a:cubicBezTo>
                  <a:pt x="541" y="288"/>
                  <a:pt x="588" y="286"/>
                  <a:pt x="635" y="280"/>
                </a:cubicBezTo>
                <a:cubicBezTo>
                  <a:pt x="651" y="278"/>
                  <a:pt x="666" y="268"/>
                  <a:pt x="682" y="268"/>
                </a:cubicBezTo>
                <a:cubicBezTo>
                  <a:pt x="741" y="268"/>
                  <a:pt x="799" y="285"/>
                  <a:pt x="858" y="292"/>
                </a:cubicBezTo>
                <a:cubicBezTo>
                  <a:pt x="933" y="288"/>
                  <a:pt x="1007" y="284"/>
                  <a:pt x="1082" y="280"/>
                </a:cubicBezTo>
                <a:cubicBezTo>
                  <a:pt x="1278" y="268"/>
                  <a:pt x="1310" y="293"/>
                  <a:pt x="1211" y="245"/>
                </a:cubicBezTo>
                <a:cubicBezTo>
                  <a:pt x="1168" y="179"/>
                  <a:pt x="1101" y="194"/>
                  <a:pt x="1023" y="186"/>
                </a:cubicBezTo>
                <a:cubicBezTo>
                  <a:pt x="1083" y="166"/>
                  <a:pt x="1096" y="163"/>
                  <a:pt x="1164" y="174"/>
                </a:cubicBezTo>
                <a:cubicBezTo>
                  <a:pt x="1248" y="202"/>
                  <a:pt x="1221" y="177"/>
                  <a:pt x="1258" y="233"/>
                </a:cubicBezTo>
                <a:cubicBezTo>
                  <a:pt x="1262" y="182"/>
                  <a:pt x="1255" y="129"/>
                  <a:pt x="1270" y="80"/>
                </a:cubicBezTo>
                <a:cubicBezTo>
                  <a:pt x="1274" y="66"/>
                  <a:pt x="1291" y="101"/>
                  <a:pt x="1294" y="115"/>
                </a:cubicBezTo>
                <a:cubicBezTo>
                  <a:pt x="1303" y="154"/>
                  <a:pt x="1301" y="194"/>
                  <a:pt x="1305" y="233"/>
                </a:cubicBezTo>
                <a:cubicBezTo>
                  <a:pt x="1385" y="182"/>
                  <a:pt x="1423" y="201"/>
                  <a:pt x="1529" y="210"/>
                </a:cubicBezTo>
                <a:cubicBezTo>
                  <a:pt x="1517" y="214"/>
                  <a:pt x="1506" y="219"/>
                  <a:pt x="1494" y="221"/>
                </a:cubicBezTo>
                <a:cubicBezTo>
                  <a:pt x="1467" y="226"/>
                  <a:pt x="1438" y="227"/>
                  <a:pt x="1411" y="233"/>
                </a:cubicBezTo>
                <a:cubicBezTo>
                  <a:pt x="1387" y="239"/>
                  <a:pt x="1341" y="257"/>
                  <a:pt x="1341" y="257"/>
                </a:cubicBezTo>
                <a:cubicBezTo>
                  <a:pt x="1333" y="269"/>
                  <a:pt x="1305" y="284"/>
                  <a:pt x="1317" y="292"/>
                </a:cubicBezTo>
                <a:cubicBezTo>
                  <a:pt x="1345" y="310"/>
                  <a:pt x="1400" y="259"/>
                  <a:pt x="1423" y="257"/>
                </a:cubicBezTo>
                <a:cubicBezTo>
                  <a:pt x="1521" y="247"/>
                  <a:pt x="1619" y="249"/>
                  <a:pt x="1717" y="245"/>
                </a:cubicBezTo>
                <a:cubicBezTo>
                  <a:pt x="1842" y="213"/>
                  <a:pt x="1686" y="245"/>
                  <a:pt x="1811" y="245"/>
                </a:cubicBezTo>
                <a:cubicBezTo>
                  <a:pt x="1933" y="245"/>
                  <a:pt x="2054" y="237"/>
                  <a:pt x="2176" y="233"/>
                </a:cubicBezTo>
                <a:cubicBezTo>
                  <a:pt x="2244" y="247"/>
                  <a:pt x="2310" y="257"/>
                  <a:pt x="2376" y="280"/>
                </a:cubicBezTo>
                <a:cubicBezTo>
                  <a:pt x="2394" y="229"/>
                  <a:pt x="2385" y="216"/>
                  <a:pt x="2341" y="186"/>
                </a:cubicBezTo>
                <a:cubicBezTo>
                  <a:pt x="2333" y="174"/>
                  <a:pt x="2305" y="159"/>
                  <a:pt x="2317" y="151"/>
                </a:cubicBezTo>
                <a:cubicBezTo>
                  <a:pt x="2325" y="146"/>
                  <a:pt x="2395" y="169"/>
                  <a:pt x="2411" y="174"/>
                </a:cubicBezTo>
                <a:cubicBezTo>
                  <a:pt x="2419" y="190"/>
                  <a:pt x="2424" y="207"/>
                  <a:pt x="2435" y="221"/>
                </a:cubicBezTo>
                <a:cubicBezTo>
                  <a:pt x="2444" y="232"/>
                  <a:pt x="2462" y="257"/>
                  <a:pt x="2470" y="245"/>
                </a:cubicBezTo>
                <a:cubicBezTo>
                  <a:pt x="2488" y="219"/>
                  <a:pt x="2478" y="182"/>
                  <a:pt x="2482" y="151"/>
                </a:cubicBezTo>
                <a:cubicBezTo>
                  <a:pt x="2483" y="155"/>
                  <a:pt x="2498" y="233"/>
                  <a:pt x="2517" y="233"/>
                </a:cubicBezTo>
                <a:cubicBezTo>
                  <a:pt x="2529" y="233"/>
                  <a:pt x="2525" y="210"/>
                  <a:pt x="2529" y="198"/>
                </a:cubicBezTo>
                <a:cubicBezTo>
                  <a:pt x="2557" y="212"/>
                  <a:pt x="2581" y="237"/>
                  <a:pt x="2611" y="245"/>
                </a:cubicBezTo>
                <a:cubicBezTo>
                  <a:pt x="2694" y="267"/>
                  <a:pt x="2795" y="277"/>
                  <a:pt x="2882" y="292"/>
                </a:cubicBezTo>
                <a:cubicBezTo>
                  <a:pt x="3029" y="254"/>
                  <a:pt x="3183" y="281"/>
                  <a:pt x="3329" y="315"/>
                </a:cubicBezTo>
                <a:cubicBezTo>
                  <a:pt x="3341" y="311"/>
                  <a:pt x="3362" y="316"/>
                  <a:pt x="3364" y="304"/>
                </a:cubicBezTo>
                <a:cubicBezTo>
                  <a:pt x="3373" y="234"/>
                  <a:pt x="3345" y="235"/>
                  <a:pt x="3305" y="221"/>
                </a:cubicBezTo>
                <a:cubicBezTo>
                  <a:pt x="3301" y="209"/>
                  <a:pt x="3301" y="196"/>
                  <a:pt x="3293" y="186"/>
                </a:cubicBezTo>
                <a:cubicBezTo>
                  <a:pt x="3256" y="140"/>
                  <a:pt x="3240" y="190"/>
                  <a:pt x="3282" y="127"/>
                </a:cubicBezTo>
                <a:cubicBezTo>
                  <a:pt x="3368" y="157"/>
                  <a:pt x="3330" y="140"/>
                  <a:pt x="3399" y="174"/>
                </a:cubicBezTo>
                <a:cubicBezTo>
                  <a:pt x="3403" y="190"/>
                  <a:pt x="3407" y="205"/>
                  <a:pt x="3411" y="221"/>
                </a:cubicBezTo>
                <a:cubicBezTo>
                  <a:pt x="3415" y="241"/>
                  <a:pt x="3404" y="286"/>
                  <a:pt x="3423" y="280"/>
                </a:cubicBezTo>
                <a:cubicBezTo>
                  <a:pt x="3446" y="273"/>
                  <a:pt x="3424" y="221"/>
                  <a:pt x="3446" y="210"/>
                </a:cubicBezTo>
                <a:cubicBezTo>
                  <a:pt x="3462" y="202"/>
                  <a:pt x="3477" y="194"/>
                  <a:pt x="3493" y="186"/>
                </a:cubicBezTo>
                <a:cubicBezTo>
                  <a:pt x="3497" y="174"/>
                  <a:pt x="3493" y="151"/>
                  <a:pt x="3505" y="151"/>
                </a:cubicBezTo>
                <a:cubicBezTo>
                  <a:pt x="3517" y="151"/>
                  <a:pt x="3513" y="174"/>
                  <a:pt x="3517" y="186"/>
                </a:cubicBezTo>
                <a:cubicBezTo>
                  <a:pt x="3525" y="213"/>
                  <a:pt x="3532" y="241"/>
                  <a:pt x="3540" y="268"/>
                </a:cubicBezTo>
                <a:cubicBezTo>
                  <a:pt x="3572" y="261"/>
                  <a:pt x="3603" y="246"/>
                  <a:pt x="3635" y="268"/>
                </a:cubicBezTo>
                <a:cubicBezTo>
                  <a:pt x="3647" y="276"/>
                  <a:pt x="3644" y="301"/>
                  <a:pt x="3658" y="304"/>
                </a:cubicBezTo>
                <a:cubicBezTo>
                  <a:pt x="3727" y="318"/>
                  <a:pt x="3799" y="311"/>
                  <a:pt x="3870" y="315"/>
                </a:cubicBezTo>
                <a:cubicBezTo>
                  <a:pt x="3932" y="305"/>
                  <a:pt x="3964" y="289"/>
                  <a:pt x="4023" y="304"/>
                </a:cubicBezTo>
                <a:cubicBezTo>
                  <a:pt x="4103" y="292"/>
                  <a:pt x="4167" y="294"/>
                  <a:pt x="4246" y="315"/>
                </a:cubicBezTo>
                <a:cubicBezTo>
                  <a:pt x="4277" y="323"/>
                  <a:pt x="4340" y="339"/>
                  <a:pt x="4340" y="339"/>
                </a:cubicBezTo>
                <a:cubicBezTo>
                  <a:pt x="4492" y="324"/>
                  <a:pt x="4434" y="322"/>
                  <a:pt x="4599" y="339"/>
                </a:cubicBezTo>
                <a:cubicBezTo>
                  <a:pt x="4630" y="342"/>
                  <a:pt x="4662" y="346"/>
                  <a:pt x="4693" y="351"/>
                </a:cubicBezTo>
                <a:cubicBezTo>
                  <a:pt x="4709" y="354"/>
                  <a:pt x="4724" y="359"/>
                  <a:pt x="4740" y="363"/>
                </a:cubicBezTo>
                <a:cubicBezTo>
                  <a:pt x="4752" y="366"/>
                  <a:pt x="4776" y="374"/>
                  <a:pt x="4776" y="37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76520" y="48006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ando uscì, non si riconosceva più: era diventato una bellissima farfalla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8600" y="6095880"/>
            <a:ext cx="554040" cy="549360"/>
            <a:chOff x="228600" y="6095880"/>
            <a:chExt cx="554040" cy="549360"/>
          </a:xfrm>
        </p:grpSpPr>
        <p:sp>
          <p:nvSpPr>
            <p:cNvPr id="661" name=""/>
            <p:cNvSpPr/>
            <p:nvPr/>
          </p:nvSpPr>
          <p:spPr>
            <a:xfrm>
              <a:off x="405720" y="6286680"/>
              <a:ext cx="212040" cy="22968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8600" y="6095880"/>
              <a:ext cx="554040" cy="54936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5720" y="6163200"/>
              <a:ext cx="102960" cy="27864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0640" y="6190200"/>
              <a:ext cx="154800" cy="18792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6920" y="6336360"/>
              <a:ext cx="81000" cy="8460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06440" y="6465240"/>
              <a:ext cx="59400" cy="11628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1040" y="6239880"/>
              <a:ext cx="75960" cy="7740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9200" y="6300720"/>
              <a:ext cx="88920" cy="781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1480" y="613512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 rot="10800000">
              <a:off x="293760" y="645048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048120" y="6248520"/>
            <a:ext cx="685800" cy="609480"/>
            <a:chOff x="3048120" y="6248520"/>
            <a:chExt cx="685800" cy="609480"/>
          </a:xfrm>
        </p:grpSpPr>
        <p:grpSp>
          <p:nvGrpSpPr>
            <p:cNvPr id="672" name=""/>
            <p:cNvGrpSpPr/>
            <p:nvPr/>
          </p:nvGrpSpPr>
          <p:grpSpPr>
            <a:xfrm>
              <a:off x="3090600" y="6248520"/>
              <a:ext cx="628920" cy="562320"/>
              <a:chOff x="3090600" y="6248520"/>
              <a:chExt cx="628920" cy="562320"/>
            </a:xfrm>
          </p:grpSpPr>
          <p:sp>
            <p:nvSpPr>
              <p:cNvPr id="673" name=""/>
              <p:cNvSpPr/>
              <p:nvPr/>
            </p:nvSpPr>
            <p:spPr>
              <a:xfrm>
                <a:off x="318852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688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4240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44016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26592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09816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09060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37176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27240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23748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6052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28644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37932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39840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5400000">
                <a:off x="343440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>
              <a:hlinkClick r:id="" action="ppaction://hlinkshowjump?jump=firstslide"/>
            </p:cNvPr>
            <p:cNvSpPr/>
            <p:nvPr/>
          </p:nvSpPr>
          <p:spPr>
            <a:xfrm>
              <a:off x="30481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8001000" y="6321600"/>
            <a:ext cx="914400" cy="533160"/>
            <a:chOff x="8001000" y="6321600"/>
            <a:chExt cx="914400" cy="533160"/>
          </a:xfrm>
        </p:grpSpPr>
        <p:grpSp>
          <p:nvGrpSpPr>
            <p:cNvPr id="690" name=""/>
            <p:cNvGrpSpPr/>
            <p:nvPr/>
          </p:nvGrpSpPr>
          <p:grpSpPr>
            <a:xfrm>
              <a:off x="8001000" y="6387840"/>
              <a:ext cx="846720" cy="333360"/>
              <a:chOff x="8001000" y="6387840"/>
              <a:chExt cx="846720" cy="33336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8001000" y="6387840"/>
                <a:ext cx="846720" cy="333360"/>
                <a:chOff x="8001000" y="6387840"/>
                <a:chExt cx="846720" cy="33336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8553240" y="640512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3" name=""/>
                <p:cNvGrpSpPr/>
                <p:nvPr/>
              </p:nvGrpSpPr>
              <p:grpSpPr>
                <a:xfrm>
                  <a:off x="8001000" y="6387840"/>
                  <a:ext cx="693000" cy="333360"/>
                  <a:chOff x="8001000" y="6387840"/>
                  <a:chExt cx="693000" cy="33336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>
                    <a:off x="8481240" y="638784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8411040" y="639648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8290800" y="640188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8227800" y="6445440"/>
                    <a:ext cx="19980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8125200" y="647208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8001000" y="650772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00" name=""/>
              <p:cNvSpPr/>
              <p:nvPr/>
            </p:nvSpPr>
            <p:spPr>
              <a:xfrm>
                <a:off x="8710920" y="648504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>
              <a:hlinkClick r:id="" action="ppaction://hlinkshowjump?jump=nextslide"/>
            </p:cNvPr>
            <p:cNvSpPr/>
            <p:nvPr/>
          </p:nvSpPr>
          <p:spPr>
            <a:xfrm>
              <a:off x="8001000" y="6321600"/>
              <a:ext cx="914400" cy="53316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37035" h="21600">
                  <a:moveTo>
                    <a:pt x="0" y="0"/>
                  </a:moveTo>
                  <a:lnTo>
                    <a:pt x="37035" y="0"/>
                  </a:lnTo>
                  <a:lnTo>
                    <a:pt x="37035" y="21600"/>
                  </a:lnTo>
                  <a:lnTo>
                    <a:pt x="0" y="21600"/>
                  </a:lnTo>
                  <a:close/>
                </a:path>
                <a:path fill="lightenLess" w="37035" h="21600">
                  <a:moveTo>
                    <a:pt x="0" y="0"/>
                  </a:moveTo>
                  <a:lnTo>
                    <a:pt x="37035" y="0"/>
                  </a:lnTo>
                  <a:lnTo>
                    <a:pt x="35635" y="1400"/>
                  </a:lnTo>
                  <a:lnTo>
                    <a:pt x="1400" y="1400"/>
                  </a:lnTo>
                  <a:close/>
                </a:path>
                <a:path fill="darken" w="37035" h="21600">
                  <a:moveTo>
                    <a:pt x="37035" y="0"/>
                  </a:moveTo>
                  <a:lnTo>
                    <a:pt x="37035" y="21600"/>
                  </a:lnTo>
                  <a:lnTo>
                    <a:pt x="35635" y="20200"/>
                  </a:lnTo>
                  <a:lnTo>
                    <a:pt x="35635" y="1400"/>
                  </a:lnTo>
                  <a:close/>
                </a:path>
                <a:path fill="darkenLess" w="37035" h="21600">
                  <a:moveTo>
                    <a:pt x="370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35" y="20200"/>
                  </a:lnTo>
                  <a:close/>
                </a:path>
                <a:path fill="lighten" w="370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firstslide"/>
          </p:cNvPr>
          <p:cNvSpPr/>
          <p:nvPr/>
        </p:nvSpPr>
        <p:spPr>
          <a:xfrm>
            <a:off x="304812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" action="ppaction://hlinkshowjump?jump=nextslide"/>
          </p:cNvPr>
          <p:cNvSpPr/>
          <p:nvPr/>
        </p:nvSpPr>
        <p:spPr>
          <a:xfrm>
            <a:off x="792468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6095880"/>
            <a:ext cx="76212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41008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-380880" y="762120"/>
            <a:ext cx="2813040" cy="1406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057040" y="4297320"/>
            <a:ext cx="1394280" cy="596880"/>
            <a:chOff x="2057040" y="4297320"/>
            <a:chExt cx="1394280" cy="596880"/>
          </a:xfrm>
        </p:grpSpPr>
        <p:sp>
          <p:nvSpPr>
            <p:cNvPr id="709" name=""/>
            <p:cNvSpPr/>
            <p:nvPr/>
          </p:nvSpPr>
          <p:spPr>
            <a:xfrm flipH="1">
              <a:off x="3048120" y="4560840"/>
              <a:ext cx="403200" cy="333360"/>
            </a:xfrm>
            <a:custGeom>
              <a:avLst/>
              <a:gdLst/>
              <a:ahLst/>
              <a:rect l="l" t="t" r="r" b="b"/>
              <a:pathLst>
                <a:path w="254" h="210">
                  <a:moveTo>
                    <a:pt x="193" y="47"/>
                  </a:moveTo>
                  <a:cubicBezTo>
                    <a:pt x="181" y="39"/>
                    <a:pt x="171" y="30"/>
                    <a:pt x="158" y="24"/>
                  </a:cubicBezTo>
                  <a:cubicBezTo>
                    <a:pt x="135" y="14"/>
                    <a:pt x="87" y="0"/>
                    <a:pt x="87" y="0"/>
                  </a:cubicBezTo>
                  <a:cubicBezTo>
                    <a:pt x="0" y="30"/>
                    <a:pt x="41" y="119"/>
                    <a:pt x="87" y="165"/>
                  </a:cubicBezTo>
                  <a:cubicBezTo>
                    <a:pt x="109" y="187"/>
                    <a:pt x="130" y="191"/>
                    <a:pt x="158" y="200"/>
                  </a:cubicBezTo>
                  <a:cubicBezTo>
                    <a:pt x="185" y="196"/>
                    <a:pt x="224" y="210"/>
                    <a:pt x="240" y="188"/>
                  </a:cubicBezTo>
                  <a:cubicBezTo>
                    <a:pt x="254" y="168"/>
                    <a:pt x="222" y="142"/>
                    <a:pt x="217" y="118"/>
                  </a:cubicBezTo>
                  <a:cubicBezTo>
                    <a:pt x="213" y="98"/>
                    <a:pt x="211" y="78"/>
                    <a:pt x="205" y="59"/>
                  </a:cubicBezTo>
                  <a:cubicBezTo>
                    <a:pt x="203" y="54"/>
                    <a:pt x="197" y="51"/>
                    <a:pt x="193" y="47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2056680" y="4297320"/>
              <a:ext cx="474840" cy="309600"/>
            </a:xfrm>
            <a:custGeom>
              <a:avLst/>
              <a:gdLst/>
              <a:ahLst/>
              <a:rect l="l" t="t" r="r" b="b"/>
              <a:pathLst>
                <a:path w="299" h="195">
                  <a:moveTo>
                    <a:pt x="162" y="195"/>
                  </a:moveTo>
                  <a:cubicBezTo>
                    <a:pt x="101" y="185"/>
                    <a:pt x="70" y="182"/>
                    <a:pt x="21" y="148"/>
                  </a:cubicBezTo>
                  <a:cubicBezTo>
                    <a:pt x="0" y="87"/>
                    <a:pt x="2" y="67"/>
                    <a:pt x="56" y="31"/>
                  </a:cubicBezTo>
                  <a:cubicBezTo>
                    <a:pt x="299" y="47"/>
                    <a:pt x="176" y="0"/>
                    <a:pt x="256" y="125"/>
                  </a:cubicBezTo>
                  <a:cubicBezTo>
                    <a:pt x="248" y="150"/>
                    <a:pt x="247" y="181"/>
                    <a:pt x="209" y="184"/>
                  </a:cubicBezTo>
                  <a:cubicBezTo>
                    <a:pt x="135" y="190"/>
                    <a:pt x="41" y="147"/>
                    <a:pt x="162" y="195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335320" y="4373640"/>
              <a:ext cx="342720" cy="37476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188" y="106"/>
                  </a:moveTo>
                  <a:cubicBezTo>
                    <a:pt x="175" y="49"/>
                    <a:pt x="187" y="31"/>
                    <a:pt x="129" y="12"/>
                  </a:cubicBezTo>
                  <a:cubicBezTo>
                    <a:pt x="119" y="13"/>
                    <a:pt x="0" y="0"/>
                    <a:pt x="0" y="59"/>
                  </a:cubicBezTo>
                  <a:cubicBezTo>
                    <a:pt x="0" y="136"/>
                    <a:pt x="64" y="176"/>
                    <a:pt x="118" y="212"/>
                  </a:cubicBezTo>
                  <a:cubicBezTo>
                    <a:pt x="130" y="220"/>
                    <a:pt x="153" y="236"/>
                    <a:pt x="153" y="236"/>
                  </a:cubicBezTo>
                  <a:cubicBezTo>
                    <a:pt x="165" y="232"/>
                    <a:pt x="179" y="233"/>
                    <a:pt x="188" y="224"/>
                  </a:cubicBezTo>
                  <a:cubicBezTo>
                    <a:pt x="216" y="196"/>
                    <a:pt x="188" y="140"/>
                    <a:pt x="188" y="106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2491560" y="4388040"/>
              <a:ext cx="298440" cy="365040"/>
            </a:xfrm>
            <a:custGeom>
              <a:avLst/>
              <a:gdLst/>
              <a:ahLst/>
              <a:rect l="l" t="t" r="r" b="b"/>
              <a:pathLst>
                <a:path w="188" h="230">
                  <a:moveTo>
                    <a:pt x="130" y="74"/>
                  </a:moveTo>
                  <a:cubicBezTo>
                    <a:pt x="126" y="58"/>
                    <a:pt x="133" y="32"/>
                    <a:pt x="118" y="27"/>
                  </a:cubicBezTo>
                  <a:cubicBezTo>
                    <a:pt x="38" y="0"/>
                    <a:pt x="29" y="31"/>
                    <a:pt x="0" y="74"/>
                  </a:cubicBezTo>
                  <a:cubicBezTo>
                    <a:pt x="13" y="137"/>
                    <a:pt x="19" y="156"/>
                    <a:pt x="71" y="192"/>
                  </a:cubicBezTo>
                  <a:cubicBezTo>
                    <a:pt x="79" y="204"/>
                    <a:pt x="82" y="223"/>
                    <a:pt x="95" y="227"/>
                  </a:cubicBezTo>
                  <a:cubicBezTo>
                    <a:pt x="103" y="230"/>
                    <a:pt x="166" y="207"/>
                    <a:pt x="177" y="203"/>
                  </a:cubicBezTo>
                  <a:cubicBezTo>
                    <a:pt x="151" y="78"/>
                    <a:pt x="188" y="104"/>
                    <a:pt x="130" y="74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590200" y="4395960"/>
              <a:ext cx="393480" cy="333360"/>
            </a:xfrm>
            <a:custGeom>
              <a:avLst/>
              <a:gdLst/>
              <a:ahLst/>
              <a:rect l="l" t="t" r="r" b="b"/>
              <a:pathLst>
                <a:path w="248" h="210">
                  <a:moveTo>
                    <a:pt x="193" y="92"/>
                  </a:moveTo>
                  <a:cubicBezTo>
                    <a:pt x="139" y="12"/>
                    <a:pt x="173" y="31"/>
                    <a:pt x="111" y="10"/>
                  </a:cubicBezTo>
                  <a:cubicBezTo>
                    <a:pt x="80" y="14"/>
                    <a:pt x="39" y="0"/>
                    <a:pt x="17" y="22"/>
                  </a:cubicBezTo>
                  <a:cubicBezTo>
                    <a:pt x="0" y="39"/>
                    <a:pt x="23" y="69"/>
                    <a:pt x="28" y="92"/>
                  </a:cubicBezTo>
                  <a:cubicBezTo>
                    <a:pt x="44" y="167"/>
                    <a:pt x="113" y="193"/>
                    <a:pt x="181" y="210"/>
                  </a:cubicBezTo>
                  <a:cubicBezTo>
                    <a:pt x="193" y="206"/>
                    <a:pt x="207" y="206"/>
                    <a:pt x="217" y="198"/>
                  </a:cubicBezTo>
                  <a:cubicBezTo>
                    <a:pt x="248" y="174"/>
                    <a:pt x="248" y="152"/>
                    <a:pt x="217" y="128"/>
                  </a:cubicBezTo>
                  <a:cubicBezTo>
                    <a:pt x="207" y="120"/>
                    <a:pt x="188" y="127"/>
                    <a:pt x="181" y="116"/>
                  </a:cubicBezTo>
                  <a:cubicBezTo>
                    <a:pt x="176" y="109"/>
                    <a:pt x="189" y="100"/>
                    <a:pt x="193" y="92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2763720" y="4464000"/>
              <a:ext cx="32256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39" y="38"/>
                  </a:moveTo>
                  <a:cubicBezTo>
                    <a:pt x="56" y="9"/>
                    <a:pt x="89" y="0"/>
                    <a:pt x="34" y="38"/>
                  </a:cubicBezTo>
                  <a:cubicBezTo>
                    <a:pt x="26" y="50"/>
                    <a:pt x="11" y="59"/>
                    <a:pt x="10" y="73"/>
                  </a:cubicBezTo>
                  <a:cubicBezTo>
                    <a:pt x="0" y="172"/>
                    <a:pt x="55" y="180"/>
                    <a:pt x="128" y="202"/>
                  </a:cubicBezTo>
                  <a:cubicBezTo>
                    <a:pt x="147" y="198"/>
                    <a:pt x="170" y="202"/>
                    <a:pt x="186" y="191"/>
                  </a:cubicBezTo>
                  <a:cubicBezTo>
                    <a:pt x="197" y="184"/>
                    <a:pt x="198" y="168"/>
                    <a:pt x="198" y="155"/>
                  </a:cubicBezTo>
                  <a:cubicBezTo>
                    <a:pt x="198" y="107"/>
                    <a:pt x="203" y="38"/>
                    <a:pt x="139" y="38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2987640" y="4505400"/>
              <a:ext cx="263520" cy="333360"/>
            </a:xfrm>
            <a:custGeom>
              <a:avLst/>
              <a:gdLst/>
              <a:ahLst/>
              <a:rect l="l" t="t" r="r" b="b"/>
              <a:pathLst>
                <a:path w="208" h="276">
                  <a:moveTo>
                    <a:pt x="185" y="70"/>
                  </a:moveTo>
                  <a:cubicBezTo>
                    <a:pt x="169" y="62"/>
                    <a:pt x="153" y="56"/>
                    <a:pt x="138" y="47"/>
                  </a:cubicBezTo>
                  <a:cubicBezTo>
                    <a:pt x="114" y="33"/>
                    <a:pt x="67" y="0"/>
                    <a:pt x="67" y="0"/>
                  </a:cubicBezTo>
                  <a:cubicBezTo>
                    <a:pt x="0" y="44"/>
                    <a:pt x="18" y="80"/>
                    <a:pt x="32" y="165"/>
                  </a:cubicBezTo>
                  <a:cubicBezTo>
                    <a:pt x="34" y="177"/>
                    <a:pt x="34" y="191"/>
                    <a:pt x="43" y="200"/>
                  </a:cubicBezTo>
                  <a:cubicBezTo>
                    <a:pt x="56" y="212"/>
                    <a:pt x="75" y="215"/>
                    <a:pt x="91" y="223"/>
                  </a:cubicBezTo>
                  <a:cubicBezTo>
                    <a:pt x="121" y="269"/>
                    <a:pt x="133" y="276"/>
                    <a:pt x="185" y="259"/>
                  </a:cubicBezTo>
                  <a:cubicBezTo>
                    <a:pt x="192" y="235"/>
                    <a:pt x="208" y="213"/>
                    <a:pt x="208" y="188"/>
                  </a:cubicBezTo>
                  <a:cubicBezTo>
                    <a:pt x="208" y="145"/>
                    <a:pt x="185" y="111"/>
                    <a:pt x="185" y="70"/>
                  </a:cubicBez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2208960" y="4452840"/>
              <a:ext cx="93960" cy="763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18" y="0"/>
                  </a:moveTo>
                  <a:cubicBezTo>
                    <a:pt x="102" y="11"/>
                    <a:pt x="0" y="78"/>
                    <a:pt x="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2426600">
              <a:off x="2208600" y="4376520"/>
              <a:ext cx="76320" cy="7596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5943600" y="3809880"/>
            <a:ext cx="3537000" cy="1654200"/>
          </a:xfrm>
          <a:custGeom>
            <a:avLst/>
            <a:gdLst/>
            <a:ahLst/>
            <a:rect l="l" t="t" r="r" b="b"/>
            <a:pathLst>
              <a:path w="2228" h="1042">
                <a:moveTo>
                  <a:pt x="40" y="429"/>
                </a:moveTo>
                <a:cubicBezTo>
                  <a:pt x="145" y="393"/>
                  <a:pt x="85" y="417"/>
                  <a:pt x="204" y="358"/>
                </a:cubicBezTo>
                <a:cubicBezTo>
                  <a:pt x="220" y="350"/>
                  <a:pt x="235" y="343"/>
                  <a:pt x="251" y="335"/>
                </a:cubicBezTo>
                <a:cubicBezTo>
                  <a:pt x="267" y="327"/>
                  <a:pt x="298" y="311"/>
                  <a:pt x="298" y="311"/>
                </a:cubicBezTo>
                <a:cubicBezTo>
                  <a:pt x="315" y="245"/>
                  <a:pt x="352" y="189"/>
                  <a:pt x="369" y="123"/>
                </a:cubicBezTo>
                <a:cubicBezTo>
                  <a:pt x="365" y="178"/>
                  <a:pt x="354" y="233"/>
                  <a:pt x="357" y="288"/>
                </a:cubicBezTo>
                <a:cubicBezTo>
                  <a:pt x="358" y="306"/>
                  <a:pt x="363" y="335"/>
                  <a:pt x="381" y="335"/>
                </a:cubicBezTo>
                <a:cubicBezTo>
                  <a:pt x="398" y="335"/>
                  <a:pt x="392" y="300"/>
                  <a:pt x="404" y="288"/>
                </a:cubicBezTo>
                <a:cubicBezTo>
                  <a:pt x="416" y="275"/>
                  <a:pt x="435" y="272"/>
                  <a:pt x="451" y="264"/>
                </a:cubicBezTo>
                <a:cubicBezTo>
                  <a:pt x="459" y="248"/>
                  <a:pt x="469" y="233"/>
                  <a:pt x="475" y="217"/>
                </a:cubicBezTo>
                <a:cubicBezTo>
                  <a:pt x="494" y="167"/>
                  <a:pt x="480" y="141"/>
                  <a:pt x="498" y="217"/>
                </a:cubicBezTo>
                <a:cubicBezTo>
                  <a:pt x="493" y="266"/>
                  <a:pt x="469" y="344"/>
                  <a:pt x="510" y="358"/>
                </a:cubicBezTo>
                <a:cubicBezTo>
                  <a:pt x="525" y="363"/>
                  <a:pt x="541" y="350"/>
                  <a:pt x="557" y="346"/>
                </a:cubicBezTo>
                <a:cubicBezTo>
                  <a:pt x="565" y="330"/>
                  <a:pt x="568" y="311"/>
                  <a:pt x="581" y="299"/>
                </a:cubicBezTo>
                <a:cubicBezTo>
                  <a:pt x="652" y="229"/>
                  <a:pt x="614" y="322"/>
                  <a:pt x="639" y="240"/>
                </a:cubicBezTo>
                <a:cubicBezTo>
                  <a:pt x="650" y="303"/>
                  <a:pt x="641" y="369"/>
                  <a:pt x="663" y="429"/>
                </a:cubicBezTo>
                <a:cubicBezTo>
                  <a:pt x="667" y="440"/>
                  <a:pt x="686" y="436"/>
                  <a:pt x="698" y="440"/>
                </a:cubicBezTo>
                <a:cubicBezTo>
                  <a:pt x="777" y="431"/>
                  <a:pt x="843" y="426"/>
                  <a:pt x="910" y="382"/>
                </a:cubicBezTo>
                <a:cubicBezTo>
                  <a:pt x="914" y="370"/>
                  <a:pt x="913" y="355"/>
                  <a:pt x="922" y="346"/>
                </a:cubicBezTo>
                <a:cubicBezTo>
                  <a:pt x="985" y="283"/>
                  <a:pt x="936" y="397"/>
                  <a:pt x="969" y="299"/>
                </a:cubicBezTo>
                <a:cubicBezTo>
                  <a:pt x="973" y="327"/>
                  <a:pt x="966" y="358"/>
                  <a:pt x="981" y="382"/>
                </a:cubicBezTo>
                <a:cubicBezTo>
                  <a:pt x="1018" y="441"/>
                  <a:pt x="1040" y="367"/>
                  <a:pt x="1051" y="358"/>
                </a:cubicBezTo>
                <a:cubicBezTo>
                  <a:pt x="1064" y="347"/>
                  <a:pt x="1082" y="343"/>
                  <a:pt x="1098" y="335"/>
                </a:cubicBezTo>
                <a:cubicBezTo>
                  <a:pt x="1163" y="205"/>
                  <a:pt x="1141" y="205"/>
                  <a:pt x="1157" y="358"/>
                </a:cubicBezTo>
                <a:cubicBezTo>
                  <a:pt x="1220" y="327"/>
                  <a:pt x="1233" y="334"/>
                  <a:pt x="1251" y="264"/>
                </a:cubicBezTo>
                <a:cubicBezTo>
                  <a:pt x="1247" y="209"/>
                  <a:pt x="1256" y="152"/>
                  <a:pt x="1239" y="99"/>
                </a:cubicBezTo>
                <a:cubicBezTo>
                  <a:pt x="1234" y="82"/>
                  <a:pt x="1205" y="87"/>
                  <a:pt x="1192" y="76"/>
                </a:cubicBezTo>
                <a:cubicBezTo>
                  <a:pt x="1102" y="0"/>
                  <a:pt x="1249" y="75"/>
                  <a:pt x="1251" y="76"/>
                </a:cubicBezTo>
                <a:cubicBezTo>
                  <a:pt x="1307" y="188"/>
                  <a:pt x="1311" y="224"/>
                  <a:pt x="1334" y="358"/>
                </a:cubicBezTo>
                <a:cubicBezTo>
                  <a:pt x="1372" y="280"/>
                  <a:pt x="1341" y="319"/>
                  <a:pt x="1451" y="264"/>
                </a:cubicBezTo>
                <a:cubicBezTo>
                  <a:pt x="1465" y="257"/>
                  <a:pt x="1482" y="257"/>
                  <a:pt x="1498" y="252"/>
                </a:cubicBezTo>
                <a:cubicBezTo>
                  <a:pt x="1510" y="249"/>
                  <a:pt x="1542" y="231"/>
                  <a:pt x="1533" y="240"/>
                </a:cubicBezTo>
                <a:cubicBezTo>
                  <a:pt x="1521" y="252"/>
                  <a:pt x="1502" y="256"/>
                  <a:pt x="1486" y="264"/>
                </a:cubicBezTo>
                <a:cubicBezTo>
                  <a:pt x="1473" y="319"/>
                  <a:pt x="1456" y="369"/>
                  <a:pt x="1486" y="429"/>
                </a:cubicBezTo>
                <a:cubicBezTo>
                  <a:pt x="1492" y="442"/>
                  <a:pt x="1509" y="412"/>
                  <a:pt x="1522" y="405"/>
                </a:cubicBezTo>
                <a:cubicBezTo>
                  <a:pt x="1549" y="392"/>
                  <a:pt x="1577" y="383"/>
                  <a:pt x="1604" y="370"/>
                </a:cubicBezTo>
                <a:cubicBezTo>
                  <a:pt x="1612" y="358"/>
                  <a:pt x="1617" y="344"/>
                  <a:pt x="1628" y="335"/>
                </a:cubicBezTo>
                <a:cubicBezTo>
                  <a:pt x="1702" y="276"/>
                  <a:pt x="1667" y="427"/>
                  <a:pt x="1675" y="452"/>
                </a:cubicBezTo>
                <a:cubicBezTo>
                  <a:pt x="1679" y="466"/>
                  <a:pt x="1698" y="468"/>
                  <a:pt x="1710" y="476"/>
                </a:cubicBezTo>
                <a:cubicBezTo>
                  <a:pt x="1718" y="492"/>
                  <a:pt x="1716" y="519"/>
                  <a:pt x="1733" y="523"/>
                </a:cubicBezTo>
                <a:cubicBezTo>
                  <a:pt x="1751" y="528"/>
                  <a:pt x="1764" y="457"/>
                  <a:pt x="1769" y="452"/>
                </a:cubicBezTo>
                <a:cubicBezTo>
                  <a:pt x="1785" y="436"/>
                  <a:pt x="1875" y="393"/>
                  <a:pt x="1898" y="382"/>
                </a:cubicBezTo>
                <a:cubicBezTo>
                  <a:pt x="1906" y="398"/>
                  <a:pt x="1916" y="413"/>
                  <a:pt x="1922" y="429"/>
                </a:cubicBezTo>
                <a:cubicBezTo>
                  <a:pt x="1923" y="432"/>
                  <a:pt x="1937" y="503"/>
                  <a:pt x="1945" y="511"/>
                </a:cubicBezTo>
                <a:cubicBezTo>
                  <a:pt x="1954" y="520"/>
                  <a:pt x="1968" y="519"/>
                  <a:pt x="1980" y="523"/>
                </a:cubicBezTo>
                <a:cubicBezTo>
                  <a:pt x="2087" y="496"/>
                  <a:pt x="2044" y="509"/>
                  <a:pt x="2110" y="488"/>
                </a:cubicBezTo>
                <a:cubicBezTo>
                  <a:pt x="2149" y="500"/>
                  <a:pt x="2157" y="492"/>
                  <a:pt x="2157" y="546"/>
                </a:cubicBezTo>
                <a:cubicBezTo>
                  <a:pt x="2157" y="628"/>
                  <a:pt x="2228" y="919"/>
                  <a:pt x="2098" y="1005"/>
                </a:cubicBezTo>
                <a:cubicBezTo>
                  <a:pt x="2094" y="1017"/>
                  <a:pt x="2099" y="1042"/>
                  <a:pt x="2086" y="1041"/>
                </a:cubicBezTo>
                <a:cubicBezTo>
                  <a:pt x="2039" y="1036"/>
                  <a:pt x="2002" y="996"/>
                  <a:pt x="1957" y="982"/>
                </a:cubicBezTo>
                <a:cubicBezTo>
                  <a:pt x="1905" y="946"/>
                  <a:pt x="1850" y="945"/>
                  <a:pt x="1792" y="923"/>
                </a:cubicBezTo>
                <a:cubicBezTo>
                  <a:pt x="1776" y="917"/>
                  <a:pt x="1761" y="905"/>
                  <a:pt x="1745" y="899"/>
                </a:cubicBezTo>
                <a:cubicBezTo>
                  <a:pt x="1686" y="877"/>
                  <a:pt x="1627" y="869"/>
                  <a:pt x="1569" y="841"/>
                </a:cubicBezTo>
                <a:cubicBezTo>
                  <a:pt x="1478" y="705"/>
                  <a:pt x="1207" y="750"/>
                  <a:pt x="1098" y="746"/>
                </a:cubicBezTo>
                <a:cubicBezTo>
                  <a:pt x="1047" y="738"/>
                  <a:pt x="995" y="734"/>
                  <a:pt x="945" y="723"/>
                </a:cubicBezTo>
                <a:cubicBezTo>
                  <a:pt x="827" y="698"/>
                  <a:pt x="919" y="706"/>
                  <a:pt x="828" y="676"/>
                </a:cubicBezTo>
                <a:cubicBezTo>
                  <a:pt x="741" y="647"/>
                  <a:pt x="661" y="626"/>
                  <a:pt x="569" y="617"/>
                </a:cubicBezTo>
                <a:cubicBezTo>
                  <a:pt x="402" y="532"/>
                  <a:pt x="194" y="546"/>
                  <a:pt x="16" y="535"/>
                </a:cubicBezTo>
                <a:cubicBezTo>
                  <a:pt x="29" y="411"/>
                  <a:pt x="0" y="389"/>
                  <a:pt x="40" y="42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-228600" y="4572000"/>
            <a:ext cx="9677520" cy="2666880"/>
          </a:xfrm>
          <a:custGeom>
            <a:avLst/>
            <a:gdLst/>
            <a:ahLst/>
            <a:rect l="l" t="t" r="r" b="b"/>
            <a:pathLst>
              <a:path w="5940" h="1089">
                <a:moveTo>
                  <a:pt x="47" y="118"/>
                </a:moveTo>
                <a:cubicBezTo>
                  <a:pt x="138" y="95"/>
                  <a:pt x="215" y="71"/>
                  <a:pt x="306" y="59"/>
                </a:cubicBezTo>
                <a:cubicBezTo>
                  <a:pt x="526" y="63"/>
                  <a:pt x="745" y="64"/>
                  <a:pt x="965" y="70"/>
                </a:cubicBezTo>
                <a:cubicBezTo>
                  <a:pt x="1098" y="74"/>
                  <a:pt x="1106" y="83"/>
                  <a:pt x="1212" y="59"/>
                </a:cubicBezTo>
                <a:cubicBezTo>
                  <a:pt x="1244" y="52"/>
                  <a:pt x="1306" y="35"/>
                  <a:pt x="1306" y="35"/>
                </a:cubicBezTo>
                <a:cubicBezTo>
                  <a:pt x="1592" y="44"/>
                  <a:pt x="1868" y="42"/>
                  <a:pt x="2153" y="23"/>
                </a:cubicBezTo>
                <a:cubicBezTo>
                  <a:pt x="2505" y="29"/>
                  <a:pt x="2737" y="24"/>
                  <a:pt x="3047" y="59"/>
                </a:cubicBezTo>
                <a:cubicBezTo>
                  <a:pt x="3156" y="84"/>
                  <a:pt x="3078" y="68"/>
                  <a:pt x="3282" y="94"/>
                </a:cubicBezTo>
                <a:cubicBezTo>
                  <a:pt x="3358" y="104"/>
                  <a:pt x="3430" y="130"/>
                  <a:pt x="3506" y="141"/>
                </a:cubicBezTo>
                <a:cubicBezTo>
                  <a:pt x="3646" y="133"/>
                  <a:pt x="3715" y="149"/>
                  <a:pt x="3823" y="94"/>
                </a:cubicBezTo>
                <a:cubicBezTo>
                  <a:pt x="3831" y="78"/>
                  <a:pt x="3832" y="56"/>
                  <a:pt x="3847" y="47"/>
                </a:cubicBezTo>
                <a:cubicBezTo>
                  <a:pt x="3882" y="26"/>
                  <a:pt x="4005" y="7"/>
                  <a:pt x="4047" y="0"/>
                </a:cubicBezTo>
                <a:cubicBezTo>
                  <a:pt x="4118" y="9"/>
                  <a:pt x="4188" y="17"/>
                  <a:pt x="4258" y="35"/>
                </a:cubicBezTo>
                <a:cubicBezTo>
                  <a:pt x="4411" y="13"/>
                  <a:pt x="4564" y="25"/>
                  <a:pt x="4717" y="47"/>
                </a:cubicBezTo>
                <a:cubicBezTo>
                  <a:pt x="4804" y="90"/>
                  <a:pt x="4730" y="60"/>
                  <a:pt x="4870" y="82"/>
                </a:cubicBezTo>
                <a:cubicBezTo>
                  <a:pt x="4951" y="95"/>
                  <a:pt x="5022" y="120"/>
                  <a:pt x="5105" y="129"/>
                </a:cubicBezTo>
                <a:cubicBezTo>
                  <a:pt x="5175" y="147"/>
                  <a:pt x="5250" y="161"/>
                  <a:pt x="5317" y="188"/>
                </a:cubicBezTo>
                <a:cubicBezTo>
                  <a:pt x="5333" y="195"/>
                  <a:pt x="5347" y="207"/>
                  <a:pt x="5364" y="212"/>
                </a:cubicBezTo>
                <a:cubicBezTo>
                  <a:pt x="5440" y="235"/>
                  <a:pt x="5419" y="211"/>
                  <a:pt x="5482" y="235"/>
                </a:cubicBezTo>
                <a:cubicBezTo>
                  <a:pt x="5498" y="241"/>
                  <a:pt x="5512" y="253"/>
                  <a:pt x="5529" y="259"/>
                </a:cubicBezTo>
                <a:cubicBezTo>
                  <a:pt x="5575" y="274"/>
                  <a:pt x="5623" y="282"/>
                  <a:pt x="5670" y="294"/>
                </a:cubicBezTo>
                <a:cubicBezTo>
                  <a:pt x="5686" y="298"/>
                  <a:pt x="5717" y="306"/>
                  <a:pt x="5717" y="306"/>
                </a:cubicBezTo>
                <a:cubicBezTo>
                  <a:pt x="5725" y="318"/>
                  <a:pt x="5729" y="333"/>
                  <a:pt x="5741" y="341"/>
                </a:cubicBezTo>
                <a:cubicBezTo>
                  <a:pt x="5754" y="350"/>
                  <a:pt x="5773" y="347"/>
                  <a:pt x="5788" y="353"/>
                </a:cubicBezTo>
                <a:cubicBezTo>
                  <a:pt x="5825" y="367"/>
                  <a:pt x="5839" y="379"/>
                  <a:pt x="5870" y="400"/>
                </a:cubicBezTo>
                <a:cubicBezTo>
                  <a:pt x="5940" y="507"/>
                  <a:pt x="5905" y="716"/>
                  <a:pt x="5835" y="823"/>
                </a:cubicBezTo>
                <a:cubicBezTo>
                  <a:pt x="5831" y="886"/>
                  <a:pt x="5851" y="956"/>
                  <a:pt x="5823" y="1012"/>
                </a:cubicBezTo>
                <a:cubicBezTo>
                  <a:pt x="5809" y="1041"/>
                  <a:pt x="5761" y="1033"/>
                  <a:pt x="5729" y="1035"/>
                </a:cubicBezTo>
                <a:cubicBezTo>
                  <a:pt x="5670" y="1039"/>
                  <a:pt x="5611" y="1044"/>
                  <a:pt x="5552" y="1047"/>
                </a:cubicBezTo>
                <a:cubicBezTo>
                  <a:pt x="5458" y="1052"/>
                  <a:pt x="5364" y="1055"/>
                  <a:pt x="5270" y="1059"/>
                </a:cubicBezTo>
                <a:cubicBezTo>
                  <a:pt x="5031" y="1089"/>
                  <a:pt x="4783" y="1061"/>
                  <a:pt x="4541" y="1071"/>
                </a:cubicBezTo>
                <a:cubicBezTo>
                  <a:pt x="3812" y="1041"/>
                  <a:pt x="4149" y="1041"/>
                  <a:pt x="3529" y="1059"/>
                </a:cubicBezTo>
                <a:cubicBezTo>
                  <a:pt x="2212" y="1053"/>
                  <a:pt x="1223" y="1038"/>
                  <a:pt x="0" y="1000"/>
                </a:cubicBezTo>
                <a:cubicBezTo>
                  <a:pt x="4" y="808"/>
                  <a:pt x="12" y="423"/>
                  <a:pt x="12" y="423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81600">
            <a:off x="-228240" y="4038480"/>
            <a:ext cx="6242040" cy="1035000"/>
          </a:xfrm>
          <a:custGeom>
            <a:avLst/>
            <a:gdLst/>
            <a:ahLst/>
            <a:rect l="l" t="t" r="r" b="b"/>
            <a:pathLst>
              <a:path w="1342" h="511">
                <a:moveTo>
                  <a:pt x="68" y="59"/>
                </a:moveTo>
                <a:cubicBezTo>
                  <a:pt x="125" y="30"/>
                  <a:pt x="185" y="20"/>
                  <a:pt x="245" y="0"/>
                </a:cubicBezTo>
                <a:cubicBezTo>
                  <a:pt x="251" y="1"/>
                  <a:pt x="485" y="20"/>
                  <a:pt x="504" y="24"/>
                </a:cubicBezTo>
                <a:cubicBezTo>
                  <a:pt x="653" y="58"/>
                  <a:pt x="434" y="39"/>
                  <a:pt x="574" y="59"/>
                </a:cubicBezTo>
                <a:cubicBezTo>
                  <a:pt x="617" y="65"/>
                  <a:pt x="661" y="67"/>
                  <a:pt x="704" y="71"/>
                </a:cubicBezTo>
                <a:cubicBezTo>
                  <a:pt x="836" y="136"/>
                  <a:pt x="871" y="141"/>
                  <a:pt x="1033" y="153"/>
                </a:cubicBezTo>
                <a:cubicBezTo>
                  <a:pt x="1049" y="157"/>
                  <a:pt x="1067" y="156"/>
                  <a:pt x="1080" y="165"/>
                </a:cubicBezTo>
                <a:cubicBezTo>
                  <a:pt x="1092" y="173"/>
                  <a:pt x="1093" y="191"/>
                  <a:pt x="1104" y="200"/>
                </a:cubicBezTo>
                <a:cubicBezTo>
                  <a:pt x="1118" y="211"/>
                  <a:pt x="1136" y="215"/>
                  <a:pt x="1151" y="224"/>
                </a:cubicBezTo>
                <a:cubicBezTo>
                  <a:pt x="1163" y="231"/>
                  <a:pt x="1173" y="242"/>
                  <a:pt x="1186" y="247"/>
                </a:cubicBezTo>
                <a:cubicBezTo>
                  <a:pt x="1205" y="254"/>
                  <a:pt x="1226" y="254"/>
                  <a:pt x="1245" y="259"/>
                </a:cubicBezTo>
                <a:cubicBezTo>
                  <a:pt x="1269" y="265"/>
                  <a:pt x="1315" y="282"/>
                  <a:pt x="1315" y="282"/>
                </a:cubicBezTo>
                <a:cubicBezTo>
                  <a:pt x="1323" y="294"/>
                  <a:pt x="1342" y="304"/>
                  <a:pt x="1339" y="318"/>
                </a:cubicBezTo>
                <a:cubicBezTo>
                  <a:pt x="1331" y="360"/>
                  <a:pt x="1270" y="332"/>
                  <a:pt x="1257" y="329"/>
                </a:cubicBezTo>
                <a:cubicBezTo>
                  <a:pt x="1167" y="337"/>
                  <a:pt x="1076" y="345"/>
                  <a:pt x="986" y="353"/>
                </a:cubicBezTo>
                <a:cubicBezTo>
                  <a:pt x="913" y="359"/>
                  <a:pt x="869" y="429"/>
                  <a:pt x="798" y="435"/>
                </a:cubicBezTo>
                <a:cubicBezTo>
                  <a:pt x="724" y="442"/>
                  <a:pt x="649" y="443"/>
                  <a:pt x="574" y="447"/>
                </a:cubicBezTo>
                <a:cubicBezTo>
                  <a:pt x="442" y="481"/>
                  <a:pt x="310" y="476"/>
                  <a:pt x="174" y="482"/>
                </a:cubicBezTo>
                <a:cubicBezTo>
                  <a:pt x="155" y="486"/>
                  <a:pt x="135" y="489"/>
                  <a:pt x="116" y="494"/>
                </a:cubicBezTo>
                <a:cubicBezTo>
                  <a:pt x="104" y="497"/>
                  <a:pt x="92" y="511"/>
                  <a:pt x="80" y="506"/>
                </a:cubicBezTo>
                <a:cubicBezTo>
                  <a:pt x="67" y="501"/>
                  <a:pt x="63" y="484"/>
                  <a:pt x="57" y="471"/>
                </a:cubicBezTo>
                <a:cubicBezTo>
                  <a:pt x="37" y="431"/>
                  <a:pt x="35" y="383"/>
                  <a:pt x="21" y="341"/>
                </a:cubicBezTo>
                <a:cubicBezTo>
                  <a:pt x="46" y="80"/>
                  <a:pt x="0" y="163"/>
                  <a:pt x="68" y="59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>
            <a:hlinkClick r:id="" action="ppaction://hlinkshowjump?jump=previousslide"/>
          </p:cNvPr>
          <p:cNvSpPr/>
          <p:nvPr/>
        </p:nvSpPr>
        <p:spPr>
          <a:xfrm>
            <a:off x="1981080" y="20113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57400" y="3809880"/>
            <a:ext cx="1722600" cy="546120"/>
          </a:xfrm>
          <a:custGeom>
            <a:avLst/>
            <a:gdLst/>
            <a:ahLst/>
            <a:rect l="l" t="t" r="r" b="b"/>
            <a:pathLst>
              <a:path w="1085" h="344">
                <a:moveTo>
                  <a:pt x="0" y="259"/>
                </a:moveTo>
                <a:cubicBezTo>
                  <a:pt x="31" y="195"/>
                  <a:pt x="30" y="206"/>
                  <a:pt x="47" y="118"/>
                </a:cubicBezTo>
                <a:cubicBezTo>
                  <a:pt x="55" y="79"/>
                  <a:pt x="70" y="0"/>
                  <a:pt x="70" y="0"/>
                </a:cubicBezTo>
                <a:cubicBezTo>
                  <a:pt x="82" y="47"/>
                  <a:pt x="96" y="75"/>
                  <a:pt x="117" y="118"/>
                </a:cubicBezTo>
                <a:cubicBezTo>
                  <a:pt x="130" y="144"/>
                  <a:pt x="123" y="178"/>
                  <a:pt x="141" y="200"/>
                </a:cubicBezTo>
                <a:cubicBezTo>
                  <a:pt x="149" y="210"/>
                  <a:pt x="164" y="208"/>
                  <a:pt x="176" y="212"/>
                </a:cubicBezTo>
                <a:cubicBezTo>
                  <a:pt x="180" y="224"/>
                  <a:pt x="179" y="238"/>
                  <a:pt x="188" y="247"/>
                </a:cubicBezTo>
                <a:cubicBezTo>
                  <a:pt x="231" y="290"/>
                  <a:pt x="229" y="233"/>
                  <a:pt x="247" y="212"/>
                </a:cubicBezTo>
                <a:cubicBezTo>
                  <a:pt x="256" y="201"/>
                  <a:pt x="270" y="196"/>
                  <a:pt x="282" y="188"/>
                </a:cubicBezTo>
                <a:cubicBezTo>
                  <a:pt x="297" y="144"/>
                  <a:pt x="317" y="105"/>
                  <a:pt x="329" y="59"/>
                </a:cubicBezTo>
                <a:cubicBezTo>
                  <a:pt x="364" y="195"/>
                  <a:pt x="315" y="27"/>
                  <a:pt x="364" y="141"/>
                </a:cubicBezTo>
                <a:cubicBezTo>
                  <a:pt x="409" y="246"/>
                  <a:pt x="341" y="136"/>
                  <a:pt x="400" y="224"/>
                </a:cubicBezTo>
                <a:cubicBezTo>
                  <a:pt x="443" y="209"/>
                  <a:pt x="444" y="216"/>
                  <a:pt x="470" y="165"/>
                </a:cubicBezTo>
                <a:cubicBezTo>
                  <a:pt x="481" y="143"/>
                  <a:pt x="494" y="94"/>
                  <a:pt x="494" y="94"/>
                </a:cubicBezTo>
                <a:cubicBezTo>
                  <a:pt x="510" y="98"/>
                  <a:pt x="528" y="96"/>
                  <a:pt x="541" y="106"/>
                </a:cubicBezTo>
                <a:cubicBezTo>
                  <a:pt x="551" y="114"/>
                  <a:pt x="543" y="132"/>
                  <a:pt x="552" y="141"/>
                </a:cubicBezTo>
                <a:cubicBezTo>
                  <a:pt x="561" y="150"/>
                  <a:pt x="576" y="149"/>
                  <a:pt x="588" y="153"/>
                </a:cubicBezTo>
                <a:cubicBezTo>
                  <a:pt x="596" y="165"/>
                  <a:pt x="604" y="176"/>
                  <a:pt x="611" y="188"/>
                </a:cubicBezTo>
                <a:cubicBezTo>
                  <a:pt x="620" y="203"/>
                  <a:pt x="620" y="226"/>
                  <a:pt x="635" y="235"/>
                </a:cubicBezTo>
                <a:cubicBezTo>
                  <a:pt x="645" y="241"/>
                  <a:pt x="658" y="228"/>
                  <a:pt x="670" y="224"/>
                </a:cubicBezTo>
                <a:cubicBezTo>
                  <a:pt x="672" y="220"/>
                  <a:pt x="701" y="142"/>
                  <a:pt x="729" y="153"/>
                </a:cubicBezTo>
                <a:cubicBezTo>
                  <a:pt x="745" y="160"/>
                  <a:pt x="740" y="188"/>
                  <a:pt x="752" y="200"/>
                </a:cubicBezTo>
                <a:cubicBezTo>
                  <a:pt x="761" y="209"/>
                  <a:pt x="776" y="208"/>
                  <a:pt x="788" y="212"/>
                </a:cubicBezTo>
                <a:cubicBezTo>
                  <a:pt x="823" y="317"/>
                  <a:pt x="799" y="293"/>
                  <a:pt x="823" y="247"/>
                </a:cubicBezTo>
                <a:cubicBezTo>
                  <a:pt x="829" y="234"/>
                  <a:pt x="839" y="224"/>
                  <a:pt x="847" y="212"/>
                </a:cubicBezTo>
                <a:cubicBezTo>
                  <a:pt x="851" y="200"/>
                  <a:pt x="846" y="179"/>
                  <a:pt x="858" y="176"/>
                </a:cubicBezTo>
                <a:cubicBezTo>
                  <a:pt x="899" y="165"/>
                  <a:pt x="900" y="234"/>
                  <a:pt x="905" y="247"/>
                </a:cubicBezTo>
                <a:cubicBezTo>
                  <a:pt x="911" y="260"/>
                  <a:pt x="921" y="270"/>
                  <a:pt x="929" y="282"/>
                </a:cubicBezTo>
                <a:cubicBezTo>
                  <a:pt x="941" y="278"/>
                  <a:pt x="953" y="276"/>
                  <a:pt x="964" y="271"/>
                </a:cubicBezTo>
                <a:cubicBezTo>
                  <a:pt x="980" y="264"/>
                  <a:pt x="994" y="242"/>
                  <a:pt x="1011" y="247"/>
                </a:cubicBezTo>
                <a:cubicBezTo>
                  <a:pt x="1028" y="252"/>
                  <a:pt x="1023" y="282"/>
                  <a:pt x="1035" y="294"/>
                </a:cubicBezTo>
                <a:cubicBezTo>
                  <a:pt x="1085" y="344"/>
                  <a:pt x="1082" y="295"/>
                  <a:pt x="1082" y="329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>
            <a:hlinkClick r:id="" action="ppaction://hlinkshowjump?jump=nextslide"/>
          </p:cNvPr>
          <p:cNvSpPr/>
          <p:nvPr/>
        </p:nvSpPr>
        <p:spPr>
          <a:xfrm>
            <a:off x="8610480" y="650700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21497400">
            <a:off x="-304560" y="5562720"/>
            <a:ext cx="9856800" cy="1676160"/>
          </a:xfrm>
          <a:custGeom>
            <a:avLst/>
            <a:gdLst/>
            <a:ahLst/>
            <a:rect l="l" t="t" r="r" b="b"/>
            <a:pathLst>
              <a:path w="6017" h="765">
                <a:moveTo>
                  <a:pt x="59" y="317"/>
                </a:moveTo>
                <a:cubicBezTo>
                  <a:pt x="66" y="233"/>
                  <a:pt x="46" y="153"/>
                  <a:pt x="117" y="106"/>
                </a:cubicBezTo>
                <a:cubicBezTo>
                  <a:pt x="187" y="1"/>
                  <a:pt x="94" y="124"/>
                  <a:pt x="176" y="59"/>
                </a:cubicBezTo>
                <a:cubicBezTo>
                  <a:pt x="187" y="50"/>
                  <a:pt x="188" y="31"/>
                  <a:pt x="200" y="23"/>
                </a:cubicBezTo>
                <a:cubicBezTo>
                  <a:pt x="221" y="10"/>
                  <a:pt x="270" y="0"/>
                  <a:pt x="270" y="0"/>
                </a:cubicBezTo>
                <a:cubicBezTo>
                  <a:pt x="332" y="3"/>
                  <a:pt x="462" y="3"/>
                  <a:pt x="541" y="23"/>
                </a:cubicBezTo>
                <a:cubicBezTo>
                  <a:pt x="593" y="36"/>
                  <a:pt x="641" y="58"/>
                  <a:pt x="694" y="70"/>
                </a:cubicBezTo>
                <a:cubicBezTo>
                  <a:pt x="838" y="62"/>
                  <a:pt x="964" y="61"/>
                  <a:pt x="1106" y="82"/>
                </a:cubicBezTo>
                <a:cubicBezTo>
                  <a:pt x="1316" y="154"/>
                  <a:pt x="1440" y="134"/>
                  <a:pt x="1694" y="141"/>
                </a:cubicBezTo>
                <a:cubicBezTo>
                  <a:pt x="1791" y="166"/>
                  <a:pt x="1869" y="235"/>
                  <a:pt x="1964" y="259"/>
                </a:cubicBezTo>
                <a:cubicBezTo>
                  <a:pt x="1991" y="257"/>
                  <a:pt x="2216" y="245"/>
                  <a:pt x="2270" y="235"/>
                </a:cubicBezTo>
                <a:cubicBezTo>
                  <a:pt x="2310" y="227"/>
                  <a:pt x="2348" y="209"/>
                  <a:pt x="2388" y="200"/>
                </a:cubicBezTo>
                <a:cubicBezTo>
                  <a:pt x="2468" y="159"/>
                  <a:pt x="2558" y="144"/>
                  <a:pt x="2647" y="129"/>
                </a:cubicBezTo>
                <a:cubicBezTo>
                  <a:pt x="2856" y="136"/>
                  <a:pt x="3042" y="149"/>
                  <a:pt x="3246" y="164"/>
                </a:cubicBezTo>
                <a:cubicBezTo>
                  <a:pt x="3267" y="162"/>
                  <a:pt x="3442" y="151"/>
                  <a:pt x="3482" y="141"/>
                </a:cubicBezTo>
                <a:cubicBezTo>
                  <a:pt x="3499" y="137"/>
                  <a:pt x="3512" y="123"/>
                  <a:pt x="3529" y="117"/>
                </a:cubicBezTo>
                <a:cubicBezTo>
                  <a:pt x="3614" y="89"/>
                  <a:pt x="3711" y="76"/>
                  <a:pt x="3799" y="59"/>
                </a:cubicBezTo>
                <a:cubicBezTo>
                  <a:pt x="4008" y="70"/>
                  <a:pt x="4185" y="123"/>
                  <a:pt x="4387" y="141"/>
                </a:cubicBezTo>
                <a:cubicBezTo>
                  <a:pt x="4819" y="179"/>
                  <a:pt x="5263" y="170"/>
                  <a:pt x="5693" y="176"/>
                </a:cubicBezTo>
                <a:cubicBezTo>
                  <a:pt x="5800" y="229"/>
                  <a:pt x="5758" y="204"/>
                  <a:pt x="5823" y="247"/>
                </a:cubicBezTo>
                <a:cubicBezTo>
                  <a:pt x="5854" y="294"/>
                  <a:pt x="5871" y="287"/>
                  <a:pt x="5917" y="317"/>
                </a:cubicBezTo>
                <a:cubicBezTo>
                  <a:pt x="5925" y="329"/>
                  <a:pt x="5929" y="344"/>
                  <a:pt x="5940" y="353"/>
                </a:cubicBezTo>
                <a:cubicBezTo>
                  <a:pt x="5950" y="361"/>
                  <a:pt x="5968" y="354"/>
                  <a:pt x="5975" y="364"/>
                </a:cubicBezTo>
                <a:cubicBezTo>
                  <a:pt x="5990" y="384"/>
                  <a:pt x="5999" y="435"/>
                  <a:pt x="5999" y="435"/>
                </a:cubicBezTo>
                <a:cubicBezTo>
                  <a:pt x="6014" y="537"/>
                  <a:pt x="6017" y="509"/>
                  <a:pt x="5999" y="623"/>
                </a:cubicBezTo>
                <a:cubicBezTo>
                  <a:pt x="5996" y="639"/>
                  <a:pt x="5999" y="659"/>
                  <a:pt x="5987" y="670"/>
                </a:cubicBezTo>
                <a:cubicBezTo>
                  <a:pt x="5923" y="727"/>
                  <a:pt x="5826" y="728"/>
                  <a:pt x="5752" y="764"/>
                </a:cubicBezTo>
                <a:cubicBezTo>
                  <a:pt x="5488" y="757"/>
                  <a:pt x="5227" y="747"/>
                  <a:pt x="4964" y="729"/>
                </a:cubicBezTo>
                <a:cubicBezTo>
                  <a:pt x="4831" y="746"/>
                  <a:pt x="4698" y="755"/>
                  <a:pt x="4564" y="764"/>
                </a:cubicBezTo>
                <a:cubicBezTo>
                  <a:pt x="4280" y="758"/>
                  <a:pt x="3998" y="765"/>
                  <a:pt x="3717" y="729"/>
                </a:cubicBezTo>
                <a:cubicBezTo>
                  <a:pt x="3231" y="734"/>
                  <a:pt x="2744" y="753"/>
                  <a:pt x="2258" y="753"/>
                </a:cubicBezTo>
                <a:cubicBezTo>
                  <a:pt x="2119" y="753"/>
                  <a:pt x="1993" y="672"/>
                  <a:pt x="1858" y="670"/>
                </a:cubicBezTo>
                <a:cubicBezTo>
                  <a:pt x="1286" y="663"/>
                  <a:pt x="713" y="663"/>
                  <a:pt x="141" y="659"/>
                </a:cubicBezTo>
                <a:cubicBezTo>
                  <a:pt x="137" y="647"/>
                  <a:pt x="138" y="632"/>
                  <a:pt x="129" y="623"/>
                </a:cubicBezTo>
                <a:cubicBezTo>
                  <a:pt x="120" y="614"/>
                  <a:pt x="105" y="617"/>
                  <a:pt x="94" y="612"/>
                </a:cubicBezTo>
                <a:cubicBezTo>
                  <a:pt x="3" y="573"/>
                  <a:pt x="92" y="599"/>
                  <a:pt x="0" y="576"/>
                </a:cubicBezTo>
                <a:cubicBezTo>
                  <a:pt x="16" y="514"/>
                  <a:pt x="10" y="454"/>
                  <a:pt x="47" y="400"/>
                </a:cubicBezTo>
                <a:cubicBezTo>
                  <a:pt x="55" y="369"/>
                  <a:pt x="62" y="337"/>
                  <a:pt x="70" y="306"/>
                </a:cubicBezTo>
                <a:cubicBezTo>
                  <a:pt x="76" y="280"/>
                  <a:pt x="97" y="260"/>
                  <a:pt x="106" y="235"/>
                </a:cubicBezTo>
                <a:cubicBezTo>
                  <a:pt x="56" y="202"/>
                  <a:pt x="62" y="209"/>
                  <a:pt x="12" y="235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>
            <a:hlinkClick r:id="" action="ppaction://hlinkshowjump?jump=firstslide"/>
          </p:cNvPr>
          <p:cNvSpPr/>
          <p:nvPr/>
        </p:nvSpPr>
        <p:spPr>
          <a:xfrm>
            <a:off x="4495680" y="643104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3215880" y="2209680"/>
            <a:ext cx="1392480" cy="1260360"/>
            <a:chOff x="3215880" y="2209680"/>
            <a:chExt cx="1392480" cy="1260360"/>
          </a:xfrm>
        </p:grpSpPr>
        <p:sp>
          <p:nvSpPr>
            <p:cNvPr id="727" name=""/>
            <p:cNvSpPr/>
            <p:nvPr/>
          </p:nvSpPr>
          <p:spPr>
            <a:xfrm flipH="1" rot="1183800">
              <a:off x="3277080" y="2627280"/>
              <a:ext cx="686880" cy="482400"/>
            </a:xfrm>
            <a:custGeom>
              <a:avLst/>
              <a:gdLst/>
              <a:ahLst/>
              <a:rect l="l" t="t" r="r" b="b"/>
              <a:pathLst>
                <a:path w="433" h="304">
                  <a:moveTo>
                    <a:pt x="0" y="21"/>
                  </a:moveTo>
                  <a:cubicBezTo>
                    <a:pt x="89" y="0"/>
                    <a:pt x="192" y="35"/>
                    <a:pt x="282" y="45"/>
                  </a:cubicBezTo>
                  <a:cubicBezTo>
                    <a:pt x="364" y="66"/>
                    <a:pt x="373" y="82"/>
                    <a:pt x="400" y="162"/>
                  </a:cubicBezTo>
                  <a:cubicBezTo>
                    <a:pt x="414" y="247"/>
                    <a:pt x="433" y="263"/>
                    <a:pt x="353" y="304"/>
                  </a:cubicBezTo>
                  <a:cubicBezTo>
                    <a:pt x="339" y="301"/>
                    <a:pt x="218" y="287"/>
                    <a:pt x="188" y="257"/>
                  </a:cubicBezTo>
                  <a:cubicBezTo>
                    <a:pt x="147" y="216"/>
                    <a:pt x="164" y="141"/>
                    <a:pt x="117" y="104"/>
                  </a:cubicBezTo>
                  <a:cubicBezTo>
                    <a:pt x="107" y="96"/>
                    <a:pt x="93" y="98"/>
                    <a:pt x="82" y="92"/>
                  </a:cubicBezTo>
                  <a:cubicBezTo>
                    <a:pt x="10" y="52"/>
                    <a:pt x="23" y="66"/>
                    <a:pt x="0" y="2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5353800">
              <a:off x="3455280" y="2881800"/>
              <a:ext cx="687240" cy="482400"/>
            </a:xfrm>
            <a:custGeom>
              <a:avLst/>
              <a:gdLst/>
              <a:ahLst/>
              <a:rect l="l" t="t" r="r" b="b"/>
              <a:pathLst>
                <a:path w="433" h="304">
                  <a:moveTo>
                    <a:pt x="0" y="21"/>
                  </a:moveTo>
                  <a:cubicBezTo>
                    <a:pt x="89" y="0"/>
                    <a:pt x="192" y="35"/>
                    <a:pt x="282" y="45"/>
                  </a:cubicBezTo>
                  <a:cubicBezTo>
                    <a:pt x="364" y="66"/>
                    <a:pt x="373" y="82"/>
                    <a:pt x="400" y="162"/>
                  </a:cubicBezTo>
                  <a:cubicBezTo>
                    <a:pt x="414" y="247"/>
                    <a:pt x="433" y="263"/>
                    <a:pt x="353" y="304"/>
                  </a:cubicBezTo>
                  <a:cubicBezTo>
                    <a:pt x="339" y="301"/>
                    <a:pt x="218" y="287"/>
                    <a:pt x="188" y="257"/>
                  </a:cubicBezTo>
                  <a:cubicBezTo>
                    <a:pt x="147" y="216"/>
                    <a:pt x="164" y="141"/>
                    <a:pt x="117" y="104"/>
                  </a:cubicBezTo>
                  <a:cubicBezTo>
                    <a:pt x="107" y="96"/>
                    <a:pt x="93" y="98"/>
                    <a:pt x="82" y="92"/>
                  </a:cubicBezTo>
                  <a:cubicBezTo>
                    <a:pt x="10" y="52"/>
                    <a:pt x="23" y="66"/>
                    <a:pt x="0" y="21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rot="909600">
              <a:off x="4061160" y="2246040"/>
              <a:ext cx="131400" cy="507600"/>
            </a:xfrm>
            <a:custGeom>
              <a:avLst/>
              <a:gdLst/>
              <a:ahLst/>
              <a:rect l="l" t="t" r="r" b="b"/>
              <a:pathLst>
                <a:path w="83" h="320">
                  <a:moveTo>
                    <a:pt x="83" y="320"/>
                  </a:moveTo>
                  <a:cubicBezTo>
                    <a:pt x="71" y="263"/>
                    <a:pt x="54" y="210"/>
                    <a:pt x="36" y="155"/>
                  </a:cubicBezTo>
                  <a:cubicBezTo>
                    <a:pt x="28" y="132"/>
                    <a:pt x="20" y="108"/>
                    <a:pt x="12" y="85"/>
                  </a:cubicBezTo>
                  <a:cubicBezTo>
                    <a:pt x="8" y="73"/>
                    <a:pt x="0" y="49"/>
                    <a:pt x="0" y="49"/>
                  </a:cubicBezTo>
                  <a:cubicBezTo>
                    <a:pt x="4" y="37"/>
                    <a:pt x="1" y="19"/>
                    <a:pt x="12" y="14"/>
                  </a:cubicBezTo>
                  <a:cubicBezTo>
                    <a:pt x="40" y="0"/>
                    <a:pt x="64" y="50"/>
                    <a:pt x="71" y="61"/>
                  </a:cubicBezTo>
                  <a:cubicBezTo>
                    <a:pt x="56" y="119"/>
                    <a:pt x="70" y="96"/>
                    <a:pt x="36" y="132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4028040" y="2398680"/>
              <a:ext cx="393120" cy="392040"/>
            </a:xfrm>
            <a:custGeom>
              <a:avLst/>
              <a:gdLst/>
              <a:ahLst/>
              <a:rect l="l" t="t" r="r" b="b"/>
              <a:pathLst>
                <a:path w="231" h="241">
                  <a:moveTo>
                    <a:pt x="218" y="224"/>
                  </a:moveTo>
                  <a:cubicBezTo>
                    <a:pt x="191" y="137"/>
                    <a:pt x="231" y="241"/>
                    <a:pt x="171" y="165"/>
                  </a:cubicBezTo>
                  <a:cubicBezTo>
                    <a:pt x="125" y="108"/>
                    <a:pt x="204" y="145"/>
                    <a:pt x="124" y="118"/>
                  </a:cubicBezTo>
                  <a:cubicBezTo>
                    <a:pt x="104" y="59"/>
                    <a:pt x="107" y="22"/>
                    <a:pt x="42" y="0"/>
                  </a:cubicBezTo>
                  <a:cubicBezTo>
                    <a:pt x="30" y="4"/>
                    <a:pt x="11" y="0"/>
                    <a:pt x="7" y="12"/>
                  </a:cubicBezTo>
                  <a:cubicBezTo>
                    <a:pt x="1" y="31"/>
                    <a:pt x="0" y="62"/>
                    <a:pt x="18" y="71"/>
                  </a:cubicBezTo>
                  <a:cubicBezTo>
                    <a:pt x="43" y="84"/>
                    <a:pt x="101" y="59"/>
                    <a:pt x="101" y="59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3495600" y="2209680"/>
              <a:ext cx="577800" cy="554040"/>
            </a:xfrm>
            <a:custGeom>
              <a:avLst/>
              <a:gdLst/>
              <a:ahLst/>
              <a:rect l="l" t="t" r="r" b="b"/>
              <a:pathLst>
                <a:path w="364" h="349">
                  <a:moveTo>
                    <a:pt x="41" y="349"/>
                  </a:moveTo>
                  <a:cubicBezTo>
                    <a:pt x="44" y="278"/>
                    <a:pt x="0" y="47"/>
                    <a:pt x="123" y="8"/>
                  </a:cubicBezTo>
                  <a:cubicBezTo>
                    <a:pt x="146" y="9"/>
                    <a:pt x="317" y="0"/>
                    <a:pt x="347" y="43"/>
                  </a:cubicBezTo>
                  <a:cubicBezTo>
                    <a:pt x="358" y="59"/>
                    <a:pt x="354" y="82"/>
                    <a:pt x="358" y="102"/>
                  </a:cubicBezTo>
                  <a:cubicBezTo>
                    <a:pt x="354" y="165"/>
                    <a:pt x="364" y="230"/>
                    <a:pt x="347" y="290"/>
                  </a:cubicBezTo>
                  <a:cubicBezTo>
                    <a:pt x="342" y="306"/>
                    <a:pt x="316" y="297"/>
                    <a:pt x="300" y="302"/>
                  </a:cubicBezTo>
                  <a:cubicBezTo>
                    <a:pt x="212" y="328"/>
                    <a:pt x="135" y="349"/>
                    <a:pt x="41" y="34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 rot="15754800">
              <a:off x="4007520" y="2639160"/>
              <a:ext cx="577800" cy="553680"/>
            </a:xfrm>
            <a:custGeom>
              <a:avLst/>
              <a:gdLst/>
              <a:ahLst/>
              <a:rect l="l" t="t" r="r" b="b"/>
              <a:pathLst>
                <a:path w="364" h="349">
                  <a:moveTo>
                    <a:pt x="41" y="349"/>
                  </a:moveTo>
                  <a:cubicBezTo>
                    <a:pt x="44" y="278"/>
                    <a:pt x="0" y="47"/>
                    <a:pt x="123" y="8"/>
                  </a:cubicBezTo>
                  <a:cubicBezTo>
                    <a:pt x="146" y="9"/>
                    <a:pt x="317" y="0"/>
                    <a:pt x="347" y="43"/>
                  </a:cubicBezTo>
                  <a:cubicBezTo>
                    <a:pt x="358" y="59"/>
                    <a:pt x="354" y="82"/>
                    <a:pt x="358" y="102"/>
                  </a:cubicBezTo>
                  <a:cubicBezTo>
                    <a:pt x="354" y="165"/>
                    <a:pt x="364" y="230"/>
                    <a:pt x="347" y="290"/>
                  </a:cubicBezTo>
                  <a:cubicBezTo>
                    <a:pt x="342" y="306"/>
                    <a:pt x="316" y="297"/>
                    <a:pt x="300" y="302"/>
                  </a:cubicBezTo>
                  <a:cubicBezTo>
                    <a:pt x="212" y="328"/>
                    <a:pt x="135" y="349"/>
                    <a:pt x="41" y="34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 rot="20836200">
            <a:off x="0" y="3657240"/>
            <a:ext cx="1792440" cy="603360"/>
          </a:xfrm>
          <a:custGeom>
            <a:avLst/>
            <a:gdLst/>
            <a:ahLst/>
            <a:rect l="l" t="t" r="r" b="b"/>
            <a:pathLst>
              <a:path w="1129" h="380">
                <a:moveTo>
                  <a:pt x="0" y="282"/>
                </a:moveTo>
                <a:cubicBezTo>
                  <a:pt x="16" y="259"/>
                  <a:pt x="32" y="235"/>
                  <a:pt x="47" y="212"/>
                </a:cubicBezTo>
                <a:cubicBezTo>
                  <a:pt x="55" y="200"/>
                  <a:pt x="70" y="176"/>
                  <a:pt x="70" y="176"/>
                </a:cubicBezTo>
                <a:cubicBezTo>
                  <a:pt x="86" y="114"/>
                  <a:pt x="78" y="61"/>
                  <a:pt x="59" y="0"/>
                </a:cubicBezTo>
                <a:cubicBezTo>
                  <a:pt x="39" y="79"/>
                  <a:pt x="44" y="16"/>
                  <a:pt x="70" y="94"/>
                </a:cubicBezTo>
                <a:cubicBezTo>
                  <a:pt x="80" y="125"/>
                  <a:pt x="94" y="188"/>
                  <a:pt x="94" y="188"/>
                </a:cubicBezTo>
                <a:cubicBezTo>
                  <a:pt x="126" y="139"/>
                  <a:pt x="147" y="91"/>
                  <a:pt x="164" y="35"/>
                </a:cubicBezTo>
                <a:cubicBezTo>
                  <a:pt x="172" y="66"/>
                  <a:pt x="180" y="98"/>
                  <a:pt x="188" y="129"/>
                </a:cubicBezTo>
                <a:cubicBezTo>
                  <a:pt x="192" y="145"/>
                  <a:pt x="200" y="176"/>
                  <a:pt x="200" y="176"/>
                </a:cubicBezTo>
                <a:cubicBezTo>
                  <a:pt x="219" y="116"/>
                  <a:pt x="227" y="64"/>
                  <a:pt x="235" y="0"/>
                </a:cubicBezTo>
                <a:cubicBezTo>
                  <a:pt x="256" y="82"/>
                  <a:pt x="239" y="31"/>
                  <a:pt x="294" y="141"/>
                </a:cubicBezTo>
                <a:cubicBezTo>
                  <a:pt x="302" y="157"/>
                  <a:pt x="309" y="172"/>
                  <a:pt x="317" y="188"/>
                </a:cubicBezTo>
                <a:cubicBezTo>
                  <a:pt x="325" y="204"/>
                  <a:pt x="341" y="235"/>
                  <a:pt x="341" y="235"/>
                </a:cubicBezTo>
                <a:cubicBezTo>
                  <a:pt x="375" y="183"/>
                  <a:pt x="378" y="143"/>
                  <a:pt x="400" y="82"/>
                </a:cubicBezTo>
                <a:cubicBezTo>
                  <a:pt x="406" y="66"/>
                  <a:pt x="416" y="51"/>
                  <a:pt x="423" y="35"/>
                </a:cubicBezTo>
                <a:cubicBezTo>
                  <a:pt x="428" y="24"/>
                  <a:pt x="431" y="12"/>
                  <a:pt x="435" y="0"/>
                </a:cubicBezTo>
                <a:cubicBezTo>
                  <a:pt x="468" y="48"/>
                  <a:pt x="492" y="119"/>
                  <a:pt x="506" y="176"/>
                </a:cubicBezTo>
                <a:cubicBezTo>
                  <a:pt x="511" y="160"/>
                  <a:pt x="515" y="105"/>
                  <a:pt x="553" y="153"/>
                </a:cubicBezTo>
                <a:cubicBezTo>
                  <a:pt x="586" y="195"/>
                  <a:pt x="596" y="236"/>
                  <a:pt x="611" y="282"/>
                </a:cubicBezTo>
                <a:cubicBezTo>
                  <a:pt x="615" y="260"/>
                  <a:pt x="637" y="149"/>
                  <a:pt x="647" y="141"/>
                </a:cubicBezTo>
                <a:cubicBezTo>
                  <a:pt x="661" y="130"/>
                  <a:pt x="658" y="176"/>
                  <a:pt x="670" y="188"/>
                </a:cubicBezTo>
                <a:cubicBezTo>
                  <a:pt x="690" y="208"/>
                  <a:pt x="741" y="235"/>
                  <a:pt x="741" y="235"/>
                </a:cubicBezTo>
                <a:cubicBezTo>
                  <a:pt x="745" y="247"/>
                  <a:pt x="741" y="268"/>
                  <a:pt x="753" y="271"/>
                </a:cubicBezTo>
                <a:cubicBezTo>
                  <a:pt x="785" y="279"/>
                  <a:pt x="795" y="226"/>
                  <a:pt x="800" y="212"/>
                </a:cubicBezTo>
                <a:cubicBezTo>
                  <a:pt x="826" y="229"/>
                  <a:pt x="860" y="237"/>
                  <a:pt x="882" y="259"/>
                </a:cubicBezTo>
                <a:cubicBezTo>
                  <a:pt x="902" y="279"/>
                  <a:pt x="929" y="329"/>
                  <a:pt x="929" y="329"/>
                </a:cubicBezTo>
                <a:cubicBezTo>
                  <a:pt x="933" y="317"/>
                  <a:pt x="932" y="303"/>
                  <a:pt x="941" y="294"/>
                </a:cubicBezTo>
                <a:cubicBezTo>
                  <a:pt x="961" y="274"/>
                  <a:pt x="1011" y="247"/>
                  <a:pt x="1011" y="247"/>
                </a:cubicBezTo>
                <a:cubicBezTo>
                  <a:pt x="1029" y="273"/>
                  <a:pt x="1034" y="309"/>
                  <a:pt x="1058" y="329"/>
                </a:cubicBezTo>
                <a:cubicBezTo>
                  <a:pt x="1070" y="339"/>
                  <a:pt x="1089" y="337"/>
                  <a:pt x="1105" y="341"/>
                </a:cubicBezTo>
                <a:cubicBezTo>
                  <a:pt x="1118" y="380"/>
                  <a:pt x="1105" y="376"/>
                  <a:pt x="1129" y="376"/>
                </a:cubicBez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880" y="3809880"/>
            <a:ext cx="7734600" cy="1295640"/>
          </a:xfrm>
          <a:custGeom>
            <a:avLst/>
            <a:gdLst/>
            <a:ahLst/>
            <a:rect l="l" t="t" r="r" b="b"/>
            <a:pathLst>
              <a:path w="4776" h="410">
                <a:moveTo>
                  <a:pt x="0" y="410"/>
                </a:moveTo>
                <a:cubicBezTo>
                  <a:pt x="75" y="391"/>
                  <a:pt x="114" y="382"/>
                  <a:pt x="176" y="339"/>
                </a:cubicBezTo>
                <a:cubicBezTo>
                  <a:pt x="180" y="327"/>
                  <a:pt x="183" y="315"/>
                  <a:pt x="188" y="304"/>
                </a:cubicBezTo>
                <a:cubicBezTo>
                  <a:pt x="194" y="291"/>
                  <a:pt x="206" y="281"/>
                  <a:pt x="211" y="268"/>
                </a:cubicBezTo>
                <a:cubicBezTo>
                  <a:pt x="236" y="200"/>
                  <a:pt x="255" y="102"/>
                  <a:pt x="270" y="33"/>
                </a:cubicBezTo>
                <a:cubicBezTo>
                  <a:pt x="298" y="197"/>
                  <a:pt x="270" y="0"/>
                  <a:pt x="270" y="292"/>
                </a:cubicBezTo>
                <a:cubicBezTo>
                  <a:pt x="270" y="304"/>
                  <a:pt x="279" y="269"/>
                  <a:pt x="282" y="257"/>
                </a:cubicBezTo>
                <a:cubicBezTo>
                  <a:pt x="302" y="185"/>
                  <a:pt x="299" y="181"/>
                  <a:pt x="317" y="127"/>
                </a:cubicBezTo>
                <a:cubicBezTo>
                  <a:pt x="325" y="104"/>
                  <a:pt x="341" y="57"/>
                  <a:pt x="341" y="57"/>
                </a:cubicBezTo>
                <a:cubicBezTo>
                  <a:pt x="349" y="88"/>
                  <a:pt x="367" y="119"/>
                  <a:pt x="364" y="151"/>
                </a:cubicBezTo>
                <a:cubicBezTo>
                  <a:pt x="360" y="198"/>
                  <a:pt x="344" y="246"/>
                  <a:pt x="353" y="292"/>
                </a:cubicBezTo>
                <a:cubicBezTo>
                  <a:pt x="355" y="304"/>
                  <a:pt x="376" y="284"/>
                  <a:pt x="388" y="280"/>
                </a:cubicBezTo>
                <a:cubicBezTo>
                  <a:pt x="392" y="264"/>
                  <a:pt x="391" y="246"/>
                  <a:pt x="400" y="233"/>
                </a:cubicBezTo>
                <a:cubicBezTo>
                  <a:pt x="457" y="148"/>
                  <a:pt x="420" y="273"/>
                  <a:pt x="447" y="174"/>
                </a:cubicBezTo>
                <a:cubicBezTo>
                  <a:pt x="455" y="143"/>
                  <a:pt x="470" y="80"/>
                  <a:pt x="470" y="80"/>
                </a:cubicBezTo>
                <a:cubicBezTo>
                  <a:pt x="466" y="123"/>
                  <a:pt x="464" y="167"/>
                  <a:pt x="459" y="210"/>
                </a:cubicBezTo>
                <a:cubicBezTo>
                  <a:pt x="456" y="234"/>
                  <a:pt x="438" y="258"/>
                  <a:pt x="447" y="280"/>
                </a:cubicBezTo>
                <a:cubicBezTo>
                  <a:pt x="453" y="295"/>
                  <a:pt x="478" y="288"/>
                  <a:pt x="494" y="292"/>
                </a:cubicBezTo>
                <a:cubicBezTo>
                  <a:pt x="541" y="288"/>
                  <a:pt x="588" y="286"/>
                  <a:pt x="635" y="280"/>
                </a:cubicBezTo>
                <a:cubicBezTo>
                  <a:pt x="651" y="278"/>
                  <a:pt x="666" y="268"/>
                  <a:pt x="682" y="268"/>
                </a:cubicBezTo>
                <a:cubicBezTo>
                  <a:pt x="741" y="268"/>
                  <a:pt x="799" y="285"/>
                  <a:pt x="858" y="292"/>
                </a:cubicBezTo>
                <a:cubicBezTo>
                  <a:pt x="933" y="288"/>
                  <a:pt x="1007" y="284"/>
                  <a:pt x="1082" y="280"/>
                </a:cubicBezTo>
                <a:cubicBezTo>
                  <a:pt x="1278" y="268"/>
                  <a:pt x="1310" y="293"/>
                  <a:pt x="1211" y="245"/>
                </a:cubicBezTo>
                <a:cubicBezTo>
                  <a:pt x="1168" y="179"/>
                  <a:pt x="1101" y="194"/>
                  <a:pt x="1023" y="186"/>
                </a:cubicBezTo>
                <a:cubicBezTo>
                  <a:pt x="1083" y="166"/>
                  <a:pt x="1096" y="163"/>
                  <a:pt x="1164" y="174"/>
                </a:cubicBezTo>
                <a:cubicBezTo>
                  <a:pt x="1248" y="202"/>
                  <a:pt x="1221" y="177"/>
                  <a:pt x="1258" y="233"/>
                </a:cubicBezTo>
                <a:cubicBezTo>
                  <a:pt x="1262" y="182"/>
                  <a:pt x="1255" y="129"/>
                  <a:pt x="1270" y="80"/>
                </a:cubicBezTo>
                <a:cubicBezTo>
                  <a:pt x="1274" y="66"/>
                  <a:pt x="1291" y="101"/>
                  <a:pt x="1294" y="115"/>
                </a:cubicBezTo>
                <a:cubicBezTo>
                  <a:pt x="1303" y="154"/>
                  <a:pt x="1301" y="194"/>
                  <a:pt x="1305" y="233"/>
                </a:cubicBezTo>
                <a:cubicBezTo>
                  <a:pt x="1385" y="182"/>
                  <a:pt x="1423" y="201"/>
                  <a:pt x="1529" y="210"/>
                </a:cubicBezTo>
                <a:cubicBezTo>
                  <a:pt x="1517" y="214"/>
                  <a:pt x="1506" y="219"/>
                  <a:pt x="1494" y="221"/>
                </a:cubicBezTo>
                <a:cubicBezTo>
                  <a:pt x="1467" y="226"/>
                  <a:pt x="1438" y="227"/>
                  <a:pt x="1411" y="233"/>
                </a:cubicBezTo>
                <a:cubicBezTo>
                  <a:pt x="1387" y="239"/>
                  <a:pt x="1341" y="257"/>
                  <a:pt x="1341" y="257"/>
                </a:cubicBezTo>
                <a:cubicBezTo>
                  <a:pt x="1333" y="269"/>
                  <a:pt x="1305" y="284"/>
                  <a:pt x="1317" y="292"/>
                </a:cubicBezTo>
                <a:cubicBezTo>
                  <a:pt x="1345" y="310"/>
                  <a:pt x="1400" y="259"/>
                  <a:pt x="1423" y="257"/>
                </a:cubicBezTo>
                <a:cubicBezTo>
                  <a:pt x="1521" y="247"/>
                  <a:pt x="1619" y="249"/>
                  <a:pt x="1717" y="245"/>
                </a:cubicBezTo>
                <a:cubicBezTo>
                  <a:pt x="1842" y="213"/>
                  <a:pt x="1686" y="245"/>
                  <a:pt x="1811" y="245"/>
                </a:cubicBezTo>
                <a:cubicBezTo>
                  <a:pt x="1933" y="245"/>
                  <a:pt x="2054" y="237"/>
                  <a:pt x="2176" y="233"/>
                </a:cubicBezTo>
                <a:cubicBezTo>
                  <a:pt x="2244" y="247"/>
                  <a:pt x="2310" y="257"/>
                  <a:pt x="2376" y="280"/>
                </a:cubicBezTo>
                <a:cubicBezTo>
                  <a:pt x="2394" y="229"/>
                  <a:pt x="2385" y="216"/>
                  <a:pt x="2341" y="186"/>
                </a:cubicBezTo>
                <a:cubicBezTo>
                  <a:pt x="2333" y="174"/>
                  <a:pt x="2305" y="159"/>
                  <a:pt x="2317" y="151"/>
                </a:cubicBezTo>
                <a:cubicBezTo>
                  <a:pt x="2325" y="146"/>
                  <a:pt x="2395" y="169"/>
                  <a:pt x="2411" y="174"/>
                </a:cubicBezTo>
                <a:cubicBezTo>
                  <a:pt x="2419" y="190"/>
                  <a:pt x="2424" y="207"/>
                  <a:pt x="2435" y="221"/>
                </a:cubicBezTo>
                <a:cubicBezTo>
                  <a:pt x="2444" y="232"/>
                  <a:pt x="2462" y="257"/>
                  <a:pt x="2470" y="245"/>
                </a:cubicBezTo>
                <a:cubicBezTo>
                  <a:pt x="2488" y="219"/>
                  <a:pt x="2478" y="182"/>
                  <a:pt x="2482" y="151"/>
                </a:cubicBezTo>
                <a:cubicBezTo>
                  <a:pt x="2483" y="155"/>
                  <a:pt x="2498" y="233"/>
                  <a:pt x="2517" y="233"/>
                </a:cubicBezTo>
                <a:cubicBezTo>
                  <a:pt x="2529" y="233"/>
                  <a:pt x="2525" y="210"/>
                  <a:pt x="2529" y="198"/>
                </a:cubicBezTo>
                <a:cubicBezTo>
                  <a:pt x="2557" y="212"/>
                  <a:pt x="2581" y="237"/>
                  <a:pt x="2611" y="245"/>
                </a:cubicBezTo>
                <a:cubicBezTo>
                  <a:pt x="2694" y="267"/>
                  <a:pt x="2795" y="277"/>
                  <a:pt x="2882" y="292"/>
                </a:cubicBezTo>
                <a:cubicBezTo>
                  <a:pt x="3029" y="254"/>
                  <a:pt x="3183" y="281"/>
                  <a:pt x="3329" y="315"/>
                </a:cubicBezTo>
                <a:cubicBezTo>
                  <a:pt x="3341" y="311"/>
                  <a:pt x="3362" y="316"/>
                  <a:pt x="3364" y="304"/>
                </a:cubicBezTo>
                <a:cubicBezTo>
                  <a:pt x="3373" y="234"/>
                  <a:pt x="3345" y="235"/>
                  <a:pt x="3305" y="221"/>
                </a:cubicBezTo>
                <a:cubicBezTo>
                  <a:pt x="3301" y="209"/>
                  <a:pt x="3301" y="196"/>
                  <a:pt x="3293" y="186"/>
                </a:cubicBezTo>
                <a:cubicBezTo>
                  <a:pt x="3256" y="140"/>
                  <a:pt x="3240" y="190"/>
                  <a:pt x="3282" y="127"/>
                </a:cubicBezTo>
                <a:cubicBezTo>
                  <a:pt x="3368" y="157"/>
                  <a:pt x="3330" y="140"/>
                  <a:pt x="3399" y="174"/>
                </a:cubicBezTo>
                <a:cubicBezTo>
                  <a:pt x="3403" y="190"/>
                  <a:pt x="3407" y="205"/>
                  <a:pt x="3411" y="221"/>
                </a:cubicBezTo>
                <a:cubicBezTo>
                  <a:pt x="3415" y="241"/>
                  <a:pt x="3404" y="286"/>
                  <a:pt x="3423" y="280"/>
                </a:cubicBezTo>
                <a:cubicBezTo>
                  <a:pt x="3446" y="273"/>
                  <a:pt x="3424" y="221"/>
                  <a:pt x="3446" y="210"/>
                </a:cubicBezTo>
                <a:cubicBezTo>
                  <a:pt x="3462" y="202"/>
                  <a:pt x="3477" y="194"/>
                  <a:pt x="3493" y="186"/>
                </a:cubicBezTo>
                <a:cubicBezTo>
                  <a:pt x="3497" y="174"/>
                  <a:pt x="3493" y="151"/>
                  <a:pt x="3505" y="151"/>
                </a:cubicBezTo>
                <a:cubicBezTo>
                  <a:pt x="3517" y="151"/>
                  <a:pt x="3513" y="174"/>
                  <a:pt x="3517" y="186"/>
                </a:cubicBezTo>
                <a:cubicBezTo>
                  <a:pt x="3525" y="213"/>
                  <a:pt x="3532" y="241"/>
                  <a:pt x="3540" y="268"/>
                </a:cubicBezTo>
                <a:cubicBezTo>
                  <a:pt x="3572" y="261"/>
                  <a:pt x="3603" y="246"/>
                  <a:pt x="3635" y="268"/>
                </a:cubicBezTo>
                <a:cubicBezTo>
                  <a:pt x="3647" y="276"/>
                  <a:pt x="3644" y="301"/>
                  <a:pt x="3658" y="304"/>
                </a:cubicBezTo>
                <a:cubicBezTo>
                  <a:pt x="3727" y="318"/>
                  <a:pt x="3799" y="311"/>
                  <a:pt x="3870" y="315"/>
                </a:cubicBezTo>
                <a:cubicBezTo>
                  <a:pt x="3932" y="305"/>
                  <a:pt x="3964" y="289"/>
                  <a:pt x="4023" y="304"/>
                </a:cubicBezTo>
                <a:cubicBezTo>
                  <a:pt x="4103" y="292"/>
                  <a:pt x="4167" y="294"/>
                  <a:pt x="4246" y="315"/>
                </a:cubicBezTo>
                <a:cubicBezTo>
                  <a:pt x="4277" y="323"/>
                  <a:pt x="4340" y="339"/>
                  <a:pt x="4340" y="339"/>
                </a:cubicBezTo>
                <a:cubicBezTo>
                  <a:pt x="4492" y="324"/>
                  <a:pt x="4434" y="322"/>
                  <a:pt x="4599" y="339"/>
                </a:cubicBezTo>
                <a:cubicBezTo>
                  <a:pt x="4630" y="342"/>
                  <a:pt x="4662" y="346"/>
                  <a:pt x="4693" y="351"/>
                </a:cubicBezTo>
                <a:cubicBezTo>
                  <a:pt x="4709" y="354"/>
                  <a:pt x="4724" y="359"/>
                  <a:pt x="4740" y="363"/>
                </a:cubicBezTo>
                <a:cubicBezTo>
                  <a:pt x="4752" y="366"/>
                  <a:pt x="4776" y="374"/>
                  <a:pt x="4776" y="374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5596200" y="-228600"/>
            <a:ext cx="3553920" cy="5605200"/>
            <a:chOff x="5596200" y="-228600"/>
            <a:chExt cx="3553920" cy="5605200"/>
          </a:xfrm>
        </p:grpSpPr>
        <p:sp>
          <p:nvSpPr>
            <p:cNvPr id="736" name=""/>
            <p:cNvSpPr/>
            <p:nvPr/>
          </p:nvSpPr>
          <p:spPr>
            <a:xfrm>
              <a:off x="7196040" y="1651320"/>
              <a:ext cx="685800" cy="1107000"/>
            </a:xfrm>
            <a:custGeom>
              <a:avLst/>
              <a:gdLst/>
              <a:ahLst/>
              <a:rect l="l" t="t" r="r" b="b"/>
              <a:pathLst>
                <a:path w="356" h="669">
                  <a:moveTo>
                    <a:pt x="285" y="643"/>
                  </a:moveTo>
                  <a:cubicBezTo>
                    <a:pt x="356" y="531"/>
                    <a:pt x="297" y="639"/>
                    <a:pt x="297" y="348"/>
                  </a:cubicBezTo>
                  <a:cubicBezTo>
                    <a:pt x="297" y="237"/>
                    <a:pt x="300" y="172"/>
                    <a:pt x="332" y="78"/>
                  </a:cubicBezTo>
                  <a:cubicBezTo>
                    <a:pt x="328" y="58"/>
                    <a:pt x="339" y="25"/>
                    <a:pt x="320" y="19"/>
                  </a:cubicBezTo>
                  <a:cubicBezTo>
                    <a:pt x="262" y="0"/>
                    <a:pt x="118" y="40"/>
                    <a:pt x="61" y="78"/>
                  </a:cubicBezTo>
                  <a:cubicBezTo>
                    <a:pt x="4" y="253"/>
                    <a:pt x="37" y="123"/>
                    <a:pt x="50" y="478"/>
                  </a:cubicBezTo>
                  <a:cubicBezTo>
                    <a:pt x="42" y="561"/>
                    <a:pt x="0" y="669"/>
                    <a:pt x="108" y="595"/>
                  </a:cubicBezTo>
                  <a:cubicBezTo>
                    <a:pt x="127" y="540"/>
                    <a:pt x="113" y="557"/>
                    <a:pt x="132" y="595"/>
                  </a:cubicBezTo>
                  <a:cubicBezTo>
                    <a:pt x="138" y="608"/>
                    <a:pt x="147" y="619"/>
                    <a:pt x="155" y="631"/>
                  </a:cubicBezTo>
                  <a:cubicBezTo>
                    <a:pt x="182" y="552"/>
                    <a:pt x="170" y="531"/>
                    <a:pt x="202" y="607"/>
                  </a:cubicBezTo>
                  <a:cubicBezTo>
                    <a:pt x="207" y="619"/>
                    <a:pt x="210" y="631"/>
                    <a:pt x="214" y="643"/>
                  </a:cubicBezTo>
                  <a:cubicBezTo>
                    <a:pt x="233" y="510"/>
                    <a:pt x="218" y="564"/>
                    <a:pt x="261" y="631"/>
                  </a:cubicBezTo>
                  <a:cubicBezTo>
                    <a:pt x="265" y="619"/>
                    <a:pt x="260" y="595"/>
                    <a:pt x="273" y="595"/>
                  </a:cubicBezTo>
                  <a:cubicBezTo>
                    <a:pt x="341" y="595"/>
                    <a:pt x="291" y="637"/>
                    <a:pt x="285" y="643"/>
                  </a:cubicBez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53120" y="-228600"/>
              <a:ext cx="2097000" cy="5605200"/>
            </a:xfrm>
            <a:custGeom>
              <a:avLst/>
              <a:gdLst/>
              <a:ahLst/>
              <a:rect l="l" t="t" r="r" b="b"/>
              <a:pathLst>
                <a:path w="1321" h="3291">
                  <a:moveTo>
                    <a:pt x="39" y="2891"/>
                  </a:moveTo>
                  <a:cubicBezTo>
                    <a:pt x="200" y="2836"/>
                    <a:pt x="0" y="2860"/>
                    <a:pt x="333" y="2844"/>
                  </a:cubicBezTo>
                  <a:cubicBezTo>
                    <a:pt x="360" y="2840"/>
                    <a:pt x="390" y="2844"/>
                    <a:pt x="415" y="2832"/>
                  </a:cubicBezTo>
                  <a:cubicBezTo>
                    <a:pt x="426" y="2826"/>
                    <a:pt x="418" y="2806"/>
                    <a:pt x="427" y="2797"/>
                  </a:cubicBezTo>
                  <a:cubicBezTo>
                    <a:pt x="436" y="2788"/>
                    <a:pt x="451" y="2789"/>
                    <a:pt x="463" y="2785"/>
                  </a:cubicBezTo>
                  <a:cubicBezTo>
                    <a:pt x="490" y="2702"/>
                    <a:pt x="478" y="2738"/>
                    <a:pt x="498" y="2679"/>
                  </a:cubicBezTo>
                  <a:cubicBezTo>
                    <a:pt x="502" y="2667"/>
                    <a:pt x="510" y="2644"/>
                    <a:pt x="510" y="2644"/>
                  </a:cubicBezTo>
                  <a:cubicBezTo>
                    <a:pt x="500" y="2299"/>
                    <a:pt x="487" y="2151"/>
                    <a:pt x="498" y="1808"/>
                  </a:cubicBezTo>
                  <a:cubicBezTo>
                    <a:pt x="489" y="1639"/>
                    <a:pt x="467" y="1458"/>
                    <a:pt x="510" y="1291"/>
                  </a:cubicBezTo>
                  <a:cubicBezTo>
                    <a:pt x="496" y="562"/>
                    <a:pt x="551" y="870"/>
                    <a:pt x="474" y="561"/>
                  </a:cubicBezTo>
                  <a:cubicBezTo>
                    <a:pt x="449" y="462"/>
                    <a:pt x="481" y="561"/>
                    <a:pt x="439" y="479"/>
                  </a:cubicBezTo>
                  <a:cubicBezTo>
                    <a:pt x="412" y="426"/>
                    <a:pt x="407" y="360"/>
                    <a:pt x="392" y="302"/>
                  </a:cubicBezTo>
                  <a:cubicBezTo>
                    <a:pt x="381" y="259"/>
                    <a:pt x="298" y="208"/>
                    <a:pt x="298" y="208"/>
                  </a:cubicBezTo>
                  <a:cubicBezTo>
                    <a:pt x="279" y="153"/>
                    <a:pt x="290" y="137"/>
                    <a:pt x="239" y="102"/>
                  </a:cubicBezTo>
                  <a:cubicBezTo>
                    <a:pt x="204" y="0"/>
                    <a:pt x="476" y="67"/>
                    <a:pt x="486" y="67"/>
                  </a:cubicBezTo>
                  <a:cubicBezTo>
                    <a:pt x="690" y="73"/>
                    <a:pt x="894" y="75"/>
                    <a:pt x="1098" y="79"/>
                  </a:cubicBezTo>
                  <a:cubicBezTo>
                    <a:pt x="1087" y="155"/>
                    <a:pt x="1068" y="227"/>
                    <a:pt x="1051" y="302"/>
                  </a:cubicBezTo>
                  <a:cubicBezTo>
                    <a:pt x="1043" y="659"/>
                    <a:pt x="1054" y="766"/>
                    <a:pt x="1004" y="1032"/>
                  </a:cubicBezTo>
                  <a:cubicBezTo>
                    <a:pt x="1011" y="1284"/>
                    <a:pt x="1013" y="1513"/>
                    <a:pt x="992" y="1761"/>
                  </a:cubicBezTo>
                  <a:cubicBezTo>
                    <a:pt x="986" y="1992"/>
                    <a:pt x="1010" y="2135"/>
                    <a:pt x="945" y="2326"/>
                  </a:cubicBezTo>
                  <a:cubicBezTo>
                    <a:pt x="941" y="2459"/>
                    <a:pt x="940" y="2593"/>
                    <a:pt x="933" y="2726"/>
                  </a:cubicBezTo>
                  <a:cubicBezTo>
                    <a:pt x="925" y="2891"/>
                    <a:pt x="901" y="2955"/>
                    <a:pt x="1051" y="3032"/>
                  </a:cubicBezTo>
                  <a:cubicBezTo>
                    <a:pt x="1116" y="3130"/>
                    <a:pt x="1029" y="3015"/>
                    <a:pt x="1110" y="3079"/>
                  </a:cubicBezTo>
                  <a:cubicBezTo>
                    <a:pt x="1222" y="3168"/>
                    <a:pt x="1047" y="3071"/>
                    <a:pt x="1168" y="3126"/>
                  </a:cubicBezTo>
                  <a:cubicBezTo>
                    <a:pt x="1200" y="3141"/>
                    <a:pt x="1262" y="3173"/>
                    <a:pt x="1262" y="3173"/>
                  </a:cubicBezTo>
                  <a:cubicBezTo>
                    <a:pt x="1295" y="3268"/>
                    <a:pt x="1246" y="3155"/>
                    <a:pt x="1309" y="3220"/>
                  </a:cubicBezTo>
                  <a:cubicBezTo>
                    <a:pt x="1318" y="3229"/>
                    <a:pt x="1317" y="3244"/>
                    <a:pt x="1321" y="3256"/>
                  </a:cubicBezTo>
                  <a:cubicBezTo>
                    <a:pt x="1284" y="3281"/>
                    <a:pt x="1287" y="3291"/>
                    <a:pt x="1239" y="3267"/>
                  </a:cubicBezTo>
                  <a:cubicBezTo>
                    <a:pt x="1198" y="3247"/>
                    <a:pt x="1149" y="3190"/>
                    <a:pt x="1098" y="3185"/>
                  </a:cubicBezTo>
                  <a:cubicBezTo>
                    <a:pt x="1028" y="3178"/>
                    <a:pt x="957" y="3177"/>
                    <a:pt x="886" y="3173"/>
                  </a:cubicBezTo>
                  <a:cubicBezTo>
                    <a:pt x="866" y="3166"/>
                    <a:pt x="817" y="3151"/>
                    <a:pt x="804" y="3138"/>
                  </a:cubicBezTo>
                  <a:cubicBezTo>
                    <a:pt x="730" y="3065"/>
                    <a:pt x="828" y="3107"/>
                    <a:pt x="745" y="3079"/>
                  </a:cubicBezTo>
                  <a:cubicBezTo>
                    <a:pt x="703" y="3017"/>
                    <a:pt x="735" y="3047"/>
                    <a:pt x="627" y="3020"/>
                  </a:cubicBezTo>
                  <a:lnTo>
                    <a:pt x="486" y="2973"/>
                  </a:lnTo>
                  <a:cubicBezTo>
                    <a:pt x="486" y="2973"/>
                    <a:pt x="486" y="2973"/>
                    <a:pt x="486" y="2973"/>
                  </a:cubicBezTo>
                  <a:cubicBezTo>
                    <a:pt x="361" y="2955"/>
                    <a:pt x="236" y="2938"/>
                    <a:pt x="110" y="2926"/>
                  </a:cubicBezTo>
                  <a:cubicBezTo>
                    <a:pt x="35" y="2902"/>
                    <a:pt x="39" y="2928"/>
                    <a:pt x="39" y="2891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596200" y="993960"/>
              <a:ext cx="2377800" cy="1063800"/>
              <a:chOff x="5596200" y="993960"/>
              <a:chExt cx="2377800" cy="1063800"/>
            </a:xfrm>
          </p:grpSpPr>
          <p:sp>
            <p:nvSpPr>
              <p:cNvPr id="739" name=""/>
              <p:cNvSpPr/>
              <p:nvPr/>
            </p:nvSpPr>
            <p:spPr>
              <a:xfrm flipH="1">
                <a:off x="5595840" y="993960"/>
                <a:ext cx="2377800" cy="719640"/>
              </a:xfrm>
              <a:custGeom>
                <a:avLst/>
                <a:gdLst/>
                <a:ahLst/>
                <a:rect l="l" t="t" r="r" b="b"/>
                <a:pathLst>
                  <a:path w="1498" h="435">
                    <a:moveTo>
                      <a:pt x="28" y="282"/>
                    </a:moveTo>
                    <a:cubicBezTo>
                      <a:pt x="174" y="261"/>
                      <a:pt x="317" y="229"/>
                      <a:pt x="463" y="212"/>
                    </a:cubicBezTo>
                    <a:cubicBezTo>
                      <a:pt x="596" y="178"/>
                      <a:pt x="726" y="165"/>
                      <a:pt x="863" y="153"/>
                    </a:cubicBezTo>
                    <a:cubicBezTo>
                      <a:pt x="1005" y="117"/>
                      <a:pt x="1141" y="60"/>
                      <a:pt x="1287" y="35"/>
                    </a:cubicBezTo>
                    <a:cubicBezTo>
                      <a:pt x="1334" y="27"/>
                      <a:pt x="1381" y="19"/>
                      <a:pt x="1428" y="11"/>
                    </a:cubicBezTo>
                    <a:cubicBezTo>
                      <a:pt x="1451" y="7"/>
                      <a:pt x="1498" y="0"/>
                      <a:pt x="1498" y="0"/>
                    </a:cubicBezTo>
                    <a:cubicBezTo>
                      <a:pt x="1455" y="21"/>
                      <a:pt x="1412" y="29"/>
                      <a:pt x="1369" y="47"/>
                    </a:cubicBezTo>
                    <a:cubicBezTo>
                      <a:pt x="1293" y="80"/>
                      <a:pt x="1220" y="120"/>
                      <a:pt x="1145" y="153"/>
                    </a:cubicBezTo>
                    <a:cubicBezTo>
                      <a:pt x="1050" y="195"/>
                      <a:pt x="940" y="211"/>
                      <a:pt x="840" y="235"/>
                    </a:cubicBezTo>
                    <a:cubicBezTo>
                      <a:pt x="643" y="282"/>
                      <a:pt x="454" y="313"/>
                      <a:pt x="251" y="329"/>
                    </a:cubicBezTo>
                    <a:cubicBezTo>
                      <a:pt x="203" y="339"/>
                      <a:pt x="158" y="353"/>
                      <a:pt x="110" y="364"/>
                    </a:cubicBezTo>
                    <a:cubicBezTo>
                      <a:pt x="87" y="380"/>
                      <a:pt x="63" y="396"/>
                      <a:pt x="40" y="412"/>
                    </a:cubicBezTo>
                    <a:cubicBezTo>
                      <a:pt x="30" y="419"/>
                      <a:pt x="5" y="435"/>
                      <a:pt x="4" y="423"/>
                    </a:cubicBezTo>
                    <a:cubicBezTo>
                      <a:pt x="0" y="376"/>
                      <a:pt x="20" y="329"/>
                      <a:pt x="28" y="282"/>
                    </a:cubicBez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"/>
              <p:cNvGrpSpPr/>
              <p:nvPr/>
            </p:nvGrpSpPr>
            <p:grpSpPr>
              <a:xfrm>
                <a:off x="5713560" y="993960"/>
                <a:ext cx="1693800" cy="485640"/>
                <a:chOff x="5713560" y="993960"/>
                <a:chExt cx="1693800" cy="485640"/>
              </a:xfrm>
            </p:grpSpPr>
            <p:sp>
              <p:nvSpPr>
                <p:cNvPr id="741" name=""/>
                <p:cNvSpPr/>
                <p:nvPr/>
              </p:nvSpPr>
              <p:spPr>
                <a:xfrm flipH="1">
                  <a:off x="6752880" y="993960"/>
                  <a:ext cx="654120" cy="368640"/>
                </a:xfrm>
                <a:custGeom>
                  <a:avLst/>
                  <a:gdLst/>
                  <a:ahLst/>
                  <a:rect l="l" t="t" r="r" b="b"/>
                  <a:pathLst>
                    <a:path w="412" h="223">
                      <a:moveTo>
                        <a:pt x="0" y="223"/>
                      </a:moveTo>
                      <a:cubicBezTo>
                        <a:pt x="25" y="215"/>
                        <a:pt x="53" y="211"/>
                        <a:pt x="71" y="188"/>
                      </a:cubicBezTo>
                      <a:cubicBezTo>
                        <a:pt x="79" y="178"/>
                        <a:pt x="74" y="162"/>
                        <a:pt x="83" y="153"/>
                      </a:cubicBezTo>
                      <a:cubicBezTo>
                        <a:pt x="83" y="153"/>
                        <a:pt x="199" y="112"/>
                        <a:pt x="212" y="106"/>
                      </a:cubicBezTo>
                      <a:cubicBezTo>
                        <a:pt x="271" y="17"/>
                        <a:pt x="186" y="130"/>
                        <a:pt x="306" y="47"/>
                      </a:cubicBezTo>
                      <a:cubicBezTo>
                        <a:pt x="318" y="39"/>
                        <a:pt x="328" y="29"/>
                        <a:pt x="341" y="23"/>
                      </a:cubicBezTo>
                      <a:cubicBezTo>
                        <a:pt x="364" y="13"/>
                        <a:pt x="412" y="0"/>
                        <a:pt x="412" y="0"/>
                      </a:cubicBezTo>
                      <a:cubicBezTo>
                        <a:pt x="345" y="44"/>
                        <a:pt x="277" y="93"/>
                        <a:pt x="200" y="117"/>
                      </a:cubicBezTo>
                      <a:cubicBezTo>
                        <a:pt x="140" y="210"/>
                        <a:pt x="217" y="101"/>
                        <a:pt x="142" y="176"/>
                      </a:cubicBezTo>
                      <a:cubicBezTo>
                        <a:pt x="132" y="186"/>
                        <a:pt x="118" y="212"/>
                        <a:pt x="118" y="212"/>
                      </a:cubicBezTo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>
                  <a:off x="5713200" y="1400400"/>
                  <a:ext cx="1376280" cy="79200"/>
                </a:xfrm>
                <a:custGeom>
                  <a:avLst/>
                  <a:gdLst/>
                  <a:ahLst/>
                  <a:rect l="l" t="t" r="r" b="b"/>
                  <a:pathLst>
                    <a:path w="867" h="48">
                      <a:moveTo>
                        <a:pt x="294" y="1"/>
                      </a:moveTo>
                      <a:cubicBezTo>
                        <a:pt x="867" y="19"/>
                        <a:pt x="730" y="0"/>
                        <a:pt x="541" y="48"/>
                      </a:cubicBezTo>
                      <a:cubicBezTo>
                        <a:pt x="427" y="40"/>
                        <a:pt x="312" y="1"/>
                        <a:pt x="200" y="24"/>
                      </a:cubicBezTo>
                      <a:cubicBezTo>
                        <a:pt x="120" y="40"/>
                        <a:pt x="89" y="48"/>
                        <a:pt x="0" y="48"/>
                      </a:cubicBezTo>
                    </a:path>
                  </a:pathLst>
                </a:custGeom>
                <a:solidFill>
                  <a:srgbClr val="66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" name=""/>
              <p:cNvSpPr/>
              <p:nvPr/>
            </p:nvSpPr>
            <p:spPr>
              <a:xfrm flipH="1">
                <a:off x="6596280" y="1500120"/>
                <a:ext cx="1254240" cy="557640"/>
              </a:xfrm>
              <a:custGeom>
                <a:avLst/>
                <a:gdLst/>
                <a:ahLst/>
                <a:rect l="l" t="t" r="r" b="b"/>
                <a:pathLst>
                  <a:path w="790" h="337">
                    <a:moveTo>
                      <a:pt x="21" y="106"/>
                    </a:moveTo>
                    <a:cubicBezTo>
                      <a:pt x="112" y="115"/>
                      <a:pt x="139" y="119"/>
                      <a:pt x="209" y="164"/>
                    </a:cubicBezTo>
                    <a:cubicBezTo>
                      <a:pt x="217" y="180"/>
                      <a:pt x="220" y="199"/>
                      <a:pt x="232" y="211"/>
                    </a:cubicBezTo>
                    <a:cubicBezTo>
                      <a:pt x="299" y="278"/>
                      <a:pt x="418" y="300"/>
                      <a:pt x="503" y="329"/>
                    </a:cubicBezTo>
                    <a:cubicBezTo>
                      <a:pt x="558" y="323"/>
                      <a:pt x="622" y="337"/>
                      <a:pt x="668" y="306"/>
                    </a:cubicBezTo>
                    <a:cubicBezTo>
                      <a:pt x="680" y="298"/>
                      <a:pt x="680" y="279"/>
                      <a:pt x="691" y="270"/>
                    </a:cubicBezTo>
                    <a:cubicBezTo>
                      <a:pt x="712" y="251"/>
                      <a:pt x="790" y="216"/>
                      <a:pt x="762" y="223"/>
                    </a:cubicBezTo>
                    <a:cubicBezTo>
                      <a:pt x="713" y="236"/>
                      <a:pt x="677" y="243"/>
                      <a:pt x="632" y="258"/>
                    </a:cubicBezTo>
                    <a:cubicBezTo>
                      <a:pt x="609" y="266"/>
                      <a:pt x="562" y="282"/>
                      <a:pt x="562" y="282"/>
                    </a:cubicBezTo>
                    <a:cubicBezTo>
                      <a:pt x="520" y="268"/>
                      <a:pt x="470" y="280"/>
                      <a:pt x="432" y="258"/>
                    </a:cubicBezTo>
                    <a:cubicBezTo>
                      <a:pt x="408" y="244"/>
                      <a:pt x="412" y="195"/>
                      <a:pt x="385" y="188"/>
                    </a:cubicBezTo>
                    <a:cubicBezTo>
                      <a:pt x="369" y="184"/>
                      <a:pt x="354" y="180"/>
                      <a:pt x="338" y="176"/>
                    </a:cubicBezTo>
                    <a:cubicBezTo>
                      <a:pt x="306" y="83"/>
                      <a:pt x="354" y="192"/>
                      <a:pt x="291" y="129"/>
                    </a:cubicBezTo>
                    <a:cubicBezTo>
                      <a:pt x="228" y="66"/>
                      <a:pt x="337" y="114"/>
                      <a:pt x="244" y="82"/>
                    </a:cubicBezTo>
                    <a:cubicBezTo>
                      <a:pt x="236" y="70"/>
                      <a:pt x="232" y="56"/>
                      <a:pt x="221" y="47"/>
                    </a:cubicBezTo>
                    <a:cubicBezTo>
                      <a:pt x="200" y="28"/>
                      <a:pt x="150" y="0"/>
                      <a:pt x="150" y="0"/>
                    </a:cubicBezTo>
                    <a:cubicBezTo>
                      <a:pt x="141" y="3"/>
                      <a:pt x="0" y="42"/>
                      <a:pt x="9" y="70"/>
                    </a:cubicBezTo>
                    <a:cubicBezTo>
                      <a:pt x="13" y="82"/>
                      <a:pt x="17" y="94"/>
                      <a:pt x="21" y="106"/>
                    </a:cubicBezTo>
                    <a:close/>
                  </a:path>
                </a:pathLst>
              </a:custGeom>
              <a:solidFill>
                <a:srgbClr val="66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7500960" y="1757160"/>
              <a:ext cx="279360" cy="100800"/>
            </a:xfrm>
            <a:custGeom>
              <a:avLst/>
              <a:gdLst/>
              <a:ahLst/>
              <a:rect l="l" t="t" r="r" b="b"/>
              <a:pathLst>
                <a:path w="164" h="12">
                  <a:moveTo>
                    <a:pt x="0" y="0"/>
                  </a:moveTo>
                  <a:cubicBezTo>
                    <a:pt x="157" y="12"/>
                    <a:pt x="102" y="12"/>
                    <a:pt x="164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04040" y="1969200"/>
              <a:ext cx="509400" cy="42480"/>
            </a:xfrm>
            <a:custGeom>
              <a:avLst/>
              <a:gdLst/>
              <a:ahLst/>
              <a:rect l="l" t="t" r="r" b="b"/>
              <a:pathLst>
                <a:path w="188" h="23">
                  <a:moveTo>
                    <a:pt x="0" y="0"/>
                  </a:moveTo>
                  <a:cubicBezTo>
                    <a:pt x="62" y="16"/>
                    <a:pt x="123" y="23"/>
                    <a:pt x="188" y="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72360" y="2075040"/>
              <a:ext cx="533160" cy="79560"/>
            </a:xfrm>
            <a:custGeom>
              <a:avLst/>
              <a:gdLst/>
              <a:ahLst/>
              <a:rect l="l" t="t" r="r" b="b"/>
              <a:pathLst>
                <a:path w="200" h="47">
                  <a:moveTo>
                    <a:pt x="0" y="0"/>
                  </a:moveTo>
                  <a:cubicBezTo>
                    <a:pt x="68" y="22"/>
                    <a:pt x="127" y="47"/>
                    <a:pt x="200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72360" y="2207520"/>
              <a:ext cx="533160" cy="105840"/>
            </a:xfrm>
            <a:custGeom>
              <a:avLst/>
              <a:gdLst/>
              <a:ahLst/>
              <a:rect l="l" t="t" r="r" b="b"/>
              <a:pathLst>
                <a:path w="247" h="59">
                  <a:moveTo>
                    <a:pt x="0" y="0"/>
                  </a:moveTo>
                  <a:cubicBezTo>
                    <a:pt x="54" y="19"/>
                    <a:pt x="110" y="20"/>
                    <a:pt x="165" y="35"/>
                  </a:cubicBezTo>
                  <a:cubicBezTo>
                    <a:pt x="181" y="39"/>
                    <a:pt x="196" y="42"/>
                    <a:pt x="212" y="47"/>
                  </a:cubicBezTo>
                  <a:cubicBezTo>
                    <a:pt x="224" y="50"/>
                    <a:pt x="247" y="59"/>
                    <a:pt x="247" y="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04040" y="2318040"/>
              <a:ext cx="485640" cy="185400"/>
            </a:xfrm>
            <a:custGeom>
              <a:avLst/>
              <a:gdLst/>
              <a:ahLst/>
              <a:rect l="l" t="t" r="r" b="b"/>
              <a:pathLst>
                <a:path w="235" h="71">
                  <a:moveTo>
                    <a:pt x="0" y="0"/>
                  </a:moveTo>
                  <a:cubicBezTo>
                    <a:pt x="87" y="22"/>
                    <a:pt x="144" y="71"/>
                    <a:pt x="235" y="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6470280" y="1303920"/>
              <a:ext cx="945000" cy="930960"/>
              <a:chOff x="6470280" y="1303920"/>
              <a:chExt cx="945000" cy="930960"/>
            </a:xfrm>
          </p:grpSpPr>
          <p:sp>
            <p:nvSpPr>
              <p:cNvPr id="750" name=""/>
              <p:cNvSpPr/>
              <p:nvPr/>
            </p:nvSpPr>
            <p:spPr>
              <a:xfrm rot="2451600">
                <a:off x="6651000" y="1390680"/>
                <a:ext cx="547560" cy="757440"/>
              </a:xfrm>
              <a:custGeom>
                <a:avLst/>
                <a:gdLst/>
                <a:ahLst/>
                <a:rect l="l" t="t" r="r" b="b"/>
                <a:pathLst>
                  <a:path w="345" h="458">
                    <a:moveTo>
                      <a:pt x="306" y="0"/>
                    </a:moveTo>
                    <a:cubicBezTo>
                      <a:pt x="287" y="56"/>
                      <a:pt x="268" y="45"/>
                      <a:pt x="212" y="59"/>
                    </a:cubicBezTo>
                    <a:cubicBezTo>
                      <a:pt x="200" y="67"/>
                      <a:pt x="189" y="76"/>
                      <a:pt x="176" y="82"/>
                    </a:cubicBezTo>
                    <a:cubicBezTo>
                      <a:pt x="165" y="87"/>
                      <a:pt x="151" y="86"/>
                      <a:pt x="141" y="94"/>
                    </a:cubicBezTo>
                    <a:cubicBezTo>
                      <a:pt x="130" y="103"/>
                      <a:pt x="128" y="119"/>
                      <a:pt x="118" y="129"/>
                    </a:cubicBezTo>
                    <a:cubicBezTo>
                      <a:pt x="108" y="139"/>
                      <a:pt x="94" y="145"/>
                      <a:pt x="82" y="153"/>
                    </a:cubicBezTo>
                    <a:cubicBezTo>
                      <a:pt x="51" y="246"/>
                      <a:pt x="32" y="342"/>
                      <a:pt x="0" y="435"/>
                    </a:cubicBezTo>
                    <a:cubicBezTo>
                      <a:pt x="66" y="458"/>
                      <a:pt x="145" y="417"/>
                      <a:pt x="212" y="400"/>
                    </a:cubicBezTo>
                    <a:cubicBezTo>
                      <a:pt x="345" y="309"/>
                      <a:pt x="306" y="143"/>
                      <a:pt x="306" y="0"/>
                    </a:cubicBezTo>
                    <a:close/>
                  </a:path>
                </a:pathLst>
              </a:custGeom>
              <a:solidFill>
                <a:srgbClr val="006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2451600">
                <a:off x="6863040" y="1434600"/>
                <a:ext cx="411120" cy="583920"/>
              </a:xfrm>
              <a:custGeom>
                <a:avLst/>
                <a:gdLst/>
                <a:ahLst/>
                <a:rect l="l" t="t" r="r" b="b"/>
                <a:pathLst>
                  <a:path w="259" h="353">
                    <a:moveTo>
                      <a:pt x="259" y="0"/>
                    </a:moveTo>
                    <a:cubicBezTo>
                      <a:pt x="235" y="16"/>
                      <a:pt x="212" y="31"/>
                      <a:pt x="188" y="47"/>
                    </a:cubicBezTo>
                    <a:cubicBezTo>
                      <a:pt x="167" y="61"/>
                      <a:pt x="173" y="94"/>
                      <a:pt x="165" y="118"/>
                    </a:cubicBezTo>
                    <a:cubicBezTo>
                      <a:pt x="153" y="153"/>
                      <a:pt x="141" y="188"/>
                      <a:pt x="129" y="224"/>
                    </a:cubicBezTo>
                    <a:cubicBezTo>
                      <a:pt x="125" y="236"/>
                      <a:pt x="128" y="252"/>
                      <a:pt x="118" y="259"/>
                    </a:cubicBezTo>
                    <a:cubicBezTo>
                      <a:pt x="94" y="275"/>
                      <a:pt x="47" y="306"/>
                      <a:pt x="47" y="306"/>
                    </a:cubicBezTo>
                    <a:cubicBezTo>
                      <a:pt x="19" y="348"/>
                      <a:pt x="36" y="335"/>
                      <a:pt x="0" y="353"/>
                    </a:cubicBezTo>
                  </a:path>
                </a:pathLst>
              </a:custGeom>
              <a:solidFill>
                <a:srgbClr val="006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6872040" y="527400"/>
              <a:ext cx="236520" cy="545400"/>
              <a:chOff x="6872040" y="527400"/>
              <a:chExt cx="236520" cy="545400"/>
            </a:xfrm>
          </p:grpSpPr>
          <p:sp>
            <p:nvSpPr>
              <p:cNvPr id="753" name=""/>
              <p:cNvSpPr/>
              <p:nvPr/>
            </p:nvSpPr>
            <p:spPr>
              <a:xfrm>
                <a:off x="6965640" y="527400"/>
                <a:ext cx="142920" cy="545400"/>
              </a:xfrm>
              <a:custGeom>
                <a:avLst/>
                <a:gdLst/>
                <a:ahLst/>
                <a:rect l="l" t="t" r="r" b="b"/>
                <a:pathLst>
                  <a:path w="90" h="330">
                    <a:moveTo>
                      <a:pt x="0" y="330"/>
                    </a:moveTo>
                    <a:cubicBezTo>
                      <a:pt x="35" y="221"/>
                      <a:pt x="10" y="107"/>
                      <a:pt x="47" y="0"/>
                    </a:cubicBezTo>
                    <a:cubicBezTo>
                      <a:pt x="66" y="96"/>
                      <a:pt x="90" y="132"/>
                      <a:pt x="59" y="247"/>
                    </a:cubicBezTo>
                    <a:cubicBezTo>
                      <a:pt x="55" y="261"/>
                      <a:pt x="31" y="259"/>
                      <a:pt x="23" y="271"/>
                    </a:cubicBezTo>
                    <a:cubicBezTo>
                      <a:pt x="11" y="288"/>
                      <a:pt x="8" y="310"/>
                      <a:pt x="0" y="330"/>
                    </a:cubicBezTo>
                    <a:close/>
                  </a:path>
                </a:pathLst>
              </a:custGeom>
              <a:solidFill>
                <a:srgbClr val="00d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872040" y="547200"/>
                <a:ext cx="168480" cy="428040"/>
              </a:xfrm>
              <a:custGeom>
                <a:avLst/>
                <a:gdLst/>
                <a:ahLst/>
                <a:rect l="l" t="t" r="r" b="b"/>
                <a:pathLst>
                  <a:path w="106" h="259">
                    <a:moveTo>
                      <a:pt x="106" y="0"/>
                    </a:moveTo>
                    <a:cubicBezTo>
                      <a:pt x="78" y="84"/>
                      <a:pt x="103" y="57"/>
                      <a:pt x="47" y="94"/>
                    </a:cubicBezTo>
                    <a:cubicBezTo>
                      <a:pt x="39" y="106"/>
                      <a:pt x="30" y="116"/>
                      <a:pt x="24" y="129"/>
                    </a:cubicBezTo>
                    <a:cubicBezTo>
                      <a:pt x="14" y="152"/>
                      <a:pt x="0" y="200"/>
                      <a:pt x="0" y="200"/>
                    </a:cubicBezTo>
                    <a:cubicBezTo>
                      <a:pt x="14" y="240"/>
                      <a:pt x="26" y="259"/>
                      <a:pt x="71" y="259"/>
                    </a:cubicBezTo>
                  </a:path>
                </a:pathLst>
              </a:custGeom>
              <a:solidFill>
                <a:srgbClr val="00d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6649200" y="2018880"/>
              <a:ext cx="802800" cy="1030320"/>
              <a:chOff x="6649200" y="2018880"/>
              <a:chExt cx="802800" cy="1030320"/>
            </a:xfrm>
          </p:grpSpPr>
          <p:sp>
            <p:nvSpPr>
              <p:cNvPr id="756" name=""/>
              <p:cNvSpPr/>
              <p:nvPr/>
            </p:nvSpPr>
            <p:spPr>
              <a:xfrm rot="20164800">
                <a:off x="6814800" y="2075040"/>
                <a:ext cx="471240" cy="918000"/>
              </a:xfrm>
              <a:custGeom>
                <a:avLst/>
                <a:gdLst/>
                <a:ahLst/>
                <a:rect l="l" t="t" r="r" b="b"/>
                <a:pathLst>
                  <a:path w="297" h="555">
                    <a:moveTo>
                      <a:pt x="262" y="94"/>
                    </a:moveTo>
                    <a:cubicBezTo>
                      <a:pt x="191" y="198"/>
                      <a:pt x="287" y="73"/>
                      <a:pt x="203" y="141"/>
                    </a:cubicBezTo>
                    <a:cubicBezTo>
                      <a:pt x="130" y="200"/>
                      <a:pt x="229" y="161"/>
                      <a:pt x="144" y="188"/>
                    </a:cubicBezTo>
                    <a:cubicBezTo>
                      <a:pt x="91" y="224"/>
                      <a:pt x="115" y="235"/>
                      <a:pt x="62" y="271"/>
                    </a:cubicBezTo>
                    <a:cubicBezTo>
                      <a:pt x="36" y="348"/>
                      <a:pt x="0" y="437"/>
                      <a:pt x="62" y="518"/>
                    </a:cubicBezTo>
                    <a:cubicBezTo>
                      <a:pt x="91" y="555"/>
                      <a:pt x="156" y="510"/>
                      <a:pt x="203" y="506"/>
                    </a:cubicBezTo>
                    <a:cubicBezTo>
                      <a:pt x="279" y="480"/>
                      <a:pt x="273" y="470"/>
                      <a:pt x="297" y="400"/>
                    </a:cubicBezTo>
                    <a:cubicBezTo>
                      <a:pt x="275" y="188"/>
                      <a:pt x="285" y="322"/>
                      <a:pt x="285" y="0"/>
                    </a:cubicBezTo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20164800">
                <a:off x="7013880" y="2172600"/>
                <a:ext cx="223560" cy="545760"/>
              </a:xfrm>
              <a:custGeom>
                <a:avLst/>
                <a:gdLst/>
                <a:ahLst/>
                <a:rect l="l" t="t" r="r" b="b"/>
                <a:pathLst>
                  <a:path w="141" h="330">
                    <a:moveTo>
                      <a:pt x="141" y="0"/>
                    </a:moveTo>
                    <a:cubicBezTo>
                      <a:pt x="124" y="72"/>
                      <a:pt x="98" y="147"/>
                      <a:pt x="35" y="189"/>
                    </a:cubicBezTo>
                    <a:cubicBezTo>
                      <a:pt x="14" y="254"/>
                      <a:pt x="32" y="193"/>
                      <a:pt x="12" y="283"/>
                    </a:cubicBezTo>
                    <a:cubicBezTo>
                      <a:pt x="8" y="299"/>
                      <a:pt x="0" y="330"/>
                      <a:pt x="0" y="330"/>
                    </a:cubicBezTo>
                  </a:path>
                </a:pathLst>
              </a:cu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5672160" y="1201320"/>
              <a:ext cx="307800" cy="979200"/>
              <a:chOff x="5672160" y="1201320"/>
              <a:chExt cx="307800" cy="979200"/>
            </a:xfrm>
          </p:grpSpPr>
          <p:sp>
            <p:nvSpPr>
              <p:cNvPr id="759" name=""/>
              <p:cNvSpPr/>
              <p:nvPr/>
            </p:nvSpPr>
            <p:spPr>
              <a:xfrm>
                <a:off x="5672160" y="1361520"/>
                <a:ext cx="299880" cy="819000"/>
              </a:xfrm>
              <a:custGeom>
                <a:avLst/>
                <a:gdLst/>
                <a:ahLst/>
                <a:rect l="l" t="t" r="r" b="b"/>
                <a:pathLst>
                  <a:path w="189" h="495">
                    <a:moveTo>
                      <a:pt x="106" y="0"/>
                    </a:moveTo>
                    <a:cubicBezTo>
                      <a:pt x="42" y="44"/>
                      <a:pt x="77" y="11"/>
                      <a:pt x="24" y="118"/>
                    </a:cubicBezTo>
                    <a:cubicBezTo>
                      <a:pt x="10" y="147"/>
                      <a:pt x="0" y="212"/>
                      <a:pt x="0" y="212"/>
                    </a:cubicBezTo>
                    <a:cubicBezTo>
                      <a:pt x="10" y="240"/>
                      <a:pt x="26" y="266"/>
                      <a:pt x="35" y="294"/>
                    </a:cubicBezTo>
                    <a:cubicBezTo>
                      <a:pt x="46" y="328"/>
                      <a:pt x="36" y="372"/>
                      <a:pt x="59" y="400"/>
                    </a:cubicBezTo>
                    <a:cubicBezTo>
                      <a:pt x="77" y="422"/>
                      <a:pt x="113" y="417"/>
                      <a:pt x="141" y="424"/>
                    </a:cubicBezTo>
                    <a:cubicBezTo>
                      <a:pt x="152" y="456"/>
                      <a:pt x="164" y="495"/>
                      <a:pt x="141" y="412"/>
                    </a:cubicBezTo>
                    <a:cubicBezTo>
                      <a:pt x="129" y="368"/>
                      <a:pt x="130" y="376"/>
                      <a:pt x="106" y="329"/>
                    </a:cubicBezTo>
                    <a:cubicBezTo>
                      <a:pt x="110" y="317"/>
                      <a:pt x="112" y="305"/>
                      <a:pt x="118" y="294"/>
                    </a:cubicBezTo>
                    <a:cubicBezTo>
                      <a:pt x="132" y="269"/>
                      <a:pt x="165" y="224"/>
                      <a:pt x="165" y="224"/>
                    </a:cubicBezTo>
                    <a:cubicBezTo>
                      <a:pt x="187" y="159"/>
                      <a:pt x="189" y="123"/>
                      <a:pt x="130" y="82"/>
                    </a:cubicBezTo>
                    <a:cubicBezTo>
                      <a:pt x="122" y="70"/>
                      <a:pt x="117" y="56"/>
                      <a:pt x="106" y="47"/>
                    </a:cubicBezTo>
                    <a:cubicBezTo>
                      <a:pt x="68" y="17"/>
                      <a:pt x="45" y="61"/>
                      <a:pt x="106" y="0"/>
                    </a:cubicBez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784840" y="1201320"/>
                <a:ext cx="195120" cy="531000"/>
              </a:xfrm>
              <a:custGeom>
                <a:avLst/>
                <a:gdLst/>
                <a:ahLst/>
                <a:rect l="l" t="t" r="r" b="b"/>
                <a:pathLst>
                  <a:path w="200" h="342">
                    <a:moveTo>
                      <a:pt x="200" y="0"/>
                    </a:moveTo>
                    <a:cubicBezTo>
                      <a:pt x="146" y="18"/>
                      <a:pt x="95" y="15"/>
                      <a:pt x="47" y="47"/>
                    </a:cubicBezTo>
                    <a:cubicBezTo>
                      <a:pt x="39" y="59"/>
                      <a:pt x="29" y="70"/>
                      <a:pt x="23" y="83"/>
                    </a:cubicBezTo>
                    <a:cubicBezTo>
                      <a:pt x="13" y="105"/>
                      <a:pt x="0" y="153"/>
                      <a:pt x="0" y="153"/>
                    </a:cubicBezTo>
                    <a:cubicBezTo>
                      <a:pt x="19" y="228"/>
                      <a:pt x="23" y="256"/>
                      <a:pt x="23" y="342"/>
                    </a:cubicBezTo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6170400" y="1456200"/>
              <a:ext cx="236520" cy="545400"/>
              <a:chOff x="6170400" y="1456200"/>
              <a:chExt cx="236520" cy="545400"/>
            </a:xfrm>
          </p:grpSpPr>
          <p:sp>
            <p:nvSpPr>
              <p:cNvPr id="762" name=""/>
              <p:cNvSpPr/>
              <p:nvPr/>
            </p:nvSpPr>
            <p:spPr>
              <a:xfrm>
                <a:off x="6170400" y="1456200"/>
                <a:ext cx="236520" cy="545400"/>
              </a:xfrm>
              <a:custGeom>
                <a:avLst/>
                <a:gdLst/>
                <a:ahLst/>
                <a:rect l="l" t="t" r="r" b="b"/>
                <a:pathLst>
                  <a:path w="149" h="330">
                    <a:moveTo>
                      <a:pt x="136" y="16"/>
                    </a:moveTo>
                    <a:cubicBezTo>
                      <a:pt x="109" y="103"/>
                      <a:pt x="149" y="0"/>
                      <a:pt x="89" y="74"/>
                    </a:cubicBezTo>
                    <a:cubicBezTo>
                      <a:pt x="22" y="157"/>
                      <a:pt x="144" y="66"/>
                      <a:pt x="42" y="133"/>
                    </a:cubicBezTo>
                    <a:cubicBezTo>
                      <a:pt x="23" y="190"/>
                      <a:pt x="0" y="244"/>
                      <a:pt x="42" y="310"/>
                    </a:cubicBezTo>
                    <a:cubicBezTo>
                      <a:pt x="55" y="330"/>
                      <a:pt x="89" y="302"/>
                      <a:pt x="113" y="298"/>
                    </a:cubicBezTo>
                    <a:cubicBezTo>
                      <a:pt x="137" y="227"/>
                      <a:pt x="139" y="210"/>
                      <a:pt x="125" y="122"/>
                    </a:cubicBezTo>
                    <a:cubicBezTo>
                      <a:pt x="123" y="110"/>
                      <a:pt x="113" y="86"/>
                      <a:pt x="113" y="86"/>
                    </a:cubicBezTo>
                  </a:path>
                </a:pathLst>
              </a:custGeom>
              <a:solidFill>
                <a:srgbClr val="00d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238800" y="1578600"/>
                <a:ext cx="110880" cy="292320"/>
              </a:xfrm>
              <a:custGeom>
                <a:avLst/>
                <a:gdLst/>
                <a:ahLst/>
                <a:rect l="l" t="t" r="r" b="b"/>
                <a:pathLst>
                  <a:path w="70" h="177">
                    <a:moveTo>
                      <a:pt x="70" y="0"/>
                    </a:moveTo>
                    <a:cubicBezTo>
                      <a:pt x="62" y="12"/>
                      <a:pt x="56" y="26"/>
                      <a:pt x="46" y="36"/>
                    </a:cubicBezTo>
                    <a:cubicBezTo>
                      <a:pt x="36" y="46"/>
                      <a:pt x="14" y="45"/>
                      <a:pt x="11" y="59"/>
                    </a:cubicBezTo>
                    <a:cubicBezTo>
                      <a:pt x="0" y="104"/>
                      <a:pt x="29" y="148"/>
                      <a:pt x="58" y="177"/>
                    </a:cubicBezTo>
                  </a:path>
                </a:pathLst>
              </a:custGeom>
              <a:solidFill>
                <a:srgbClr val="00d2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6010920" y="550440"/>
              <a:ext cx="833760" cy="787680"/>
              <a:chOff x="6010920" y="550440"/>
              <a:chExt cx="833760" cy="787680"/>
            </a:xfrm>
          </p:grpSpPr>
          <p:sp>
            <p:nvSpPr>
              <p:cNvPr id="765" name=""/>
              <p:cNvSpPr/>
              <p:nvPr/>
            </p:nvSpPr>
            <p:spPr>
              <a:xfrm rot="13185000">
                <a:off x="6285240" y="587520"/>
                <a:ext cx="374400" cy="713160"/>
              </a:xfrm>
              <a:custGeom>
                <a:avLst/>
                <a:gdLst/>
                <a:ahLst/>
                <a:rect l="l" t="t" r="r" b="b"/>
                <a:pathLst>
                  <a:path w="141" h="346">
                    <a:moveTo>
                      <a:pt x="141" y="0"/>
                    </a:moveTo>
                    <a:cubicBezTo>
                      <a:pt x="133" y="12"/>
                      <a:pt x="129" y="26"/>
                      <a:pt x="118" y="35"/>
                    </a:cubicBezTo>
                    <a:cubicBezTo>
                      <a:pt x="108" y="43"/>
                      <a:pt x="91" y="38"/>
                      <a:pt x="82" y="47"/>
                    </a:cubicBezTo>
                    <a:cubicBezTo>
                      <a:pt x="62" y="67"/>
                      <a:pt x="35" y="117"/>
                      <a:pt x="35" y="117"/>
                    </a:cubicBezTo>
                    <a:cubicBezTo>
                      <a:pt x="31" y="180"/>
                      <a:pt x="30" y="243"/>
                      <a:pt x="24" y="305"/>
                    </a:cubicBezTo>
                    <a:cubicBezTo>
                      <a:pt x="23" y="318"/>
                      <a:pt x="0" y="338"/>
                      <a:pt x="12" y="341"/>
                    </a:cubicBezTo>
                    <a:cubicBezTo>
                      <a:pt x="36" y="346"/>
                      <a:pt x="82" y="317"/>
                      <a:pt x="82" y="317"/>
                    </a:cubicBezTo>
                    <a:cubicBezTo>
                      <a:pt x="117" y="214"/>
                      <a:pt x="122" y="108"/>
                      <a:pt x="141" y="0"/>
                    </a:cubicBezTo>
                    <a:close/>
                  </a:path>
                </a:pathLst>
              </a:custGeom>
              <a:solidFill>
                <a:srgbClr val="007a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3185000">
                <a:off x="6159600" y="700560"/>
                <a:ext cx="246240" cy="554040"/>
              </a:xfrm>
              <a:custGeom>
                <a:avLst/>
                <a:gdLst/>
                <a:ahLst/>
                <a:rect l="l" t="t" r="r" b="b"/>
                <a:pathLst>
                  <a:path w="155" h="335">
                    <a:moveTo>
                      <a:pt x="141" y="17"/>
                    </a:moveTo>
                    <a:cubicBezTo>
                      <a:pt x="111" y="105"/>
                      <a:pt x="155" y="0"/>
                      <a:pt x="94" y="76"/>
                    </a:cubicBezTo>
                    <a:cubicBezTo>
                      <a:pt x="86" y="86"/>
                      <a:pt x="88" y="100"/>
                      <a:pt x="82" y="111"/>
                    </a:cubicBezTo>
                    <a:cubicBezTo>
                      <a:pt x="76" y="124"/>
                      <a:pt x="66" y="134"/>
                      <a:pt x="58" y="146"/>
                    </a:cubicBezTo>
                    <a:cubicBezTo>
                      <a:pt x="46" y="185"/>
                      <a:pt x="35" y="225"/>
                      <a:pt x="23" y="264"/>
                    </a:cubicBezTo>
                    <a:cubicBezTo>
                      <a:pt x="20" y="276"/>
                      <a:pt x="15" y="287"/>
                      <a:pt x="11" y="299"/>
                    </a:cubicBezTo>
                    <a:cubicBezTo>
                      <a:pt x="7" y="311"/>
                      <a:pt x="0" y="335"/>
                      <a:pt x="0" y="335"/>
                    </a:cubicBezTo>
                  </a:path>
                </a:pathLst>
              </a:custGeom>
              <a:solidFill>
                <a:srgbClr val="007a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7" name=""/>
          <p:cNvSpPr/>
          <p:nvPr/>
        </p:nvSpPr>
        <p:spPr>
          <a:xfrm>
            <a:off x="1981080" y="49528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e due farfalle si incontrarono e decisero di volare sempre insie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724280" y="2209680"/>
            <a:ext cx="1568520" cy="1192320"/>
            <a:chOff x="4724280" y="2209680"/>
            <a:chExt cx="1568520" cy="1192320"/>
          </a:xfrm>
        </p:grpSpPr>
        <p:sp>
          <p:nvSpPr>
            <p:cNvPr id="769" name=""/>
            <p:cNvSpPr/>
            <p:nvPr/>
          </p:nvSpPr>
          <p:spPr>
            <a:xfrm>
              <a:off x="5226120" y="2624040"/>
              <a:ext cx="600120" cy="49860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24280" y="2209680"/>
              <a:ext cx="1568520" cy="119232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26120" y="2355840"/>
              <a:ext cx="291960" cy="60480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70600" y="2414520"/>
              <a:ext cx="438120" cy="40788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89520" y="2732040"/>
              <a:ext cx="230040" cy="18432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227560" y="3011400"/>
              <a:ext cx="168480" cy="25236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77080" y="2522520"/>
              <a:ext cx="215640" cy="16812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575320" y="2654280"/>
              <a:ext cx="252360" cy="1699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751360" y="229536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 rot="10800000">
              <a:off x="4910040" y="2979720"/>
              <a:ext cx="231840" cy="20952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1371600" y="563400"/>
            <a:ext cx="1955880" cy="2133720"/>
            <a:chOff x="1371600" y="563400"/>
            <a:chExt cx="1955880" cy="2133720"/>
          </a:xfrm>
        </p:grpSpPr>
        <p:sp>
          <p:nvSpPr>
            <p:cNvPr id="780" name="">
              <a:hlinkClick r:id="" action="ppaction://hlinkshowjump?jump=previousslide"/>
            </p:cNvPr>
            <p:cNvSpPr/>
            <p:nvPr/>
          </p:nvSpPr>
          <p:spPr>
            <a:xfrm>
              <a:off x="1905120" y="2087280"/>
              <a:ext cx="609480" cy="609840"/>
            </a:xfrm>
            <a:custGeom>
              <a:avLst/>
              <a:gdLst>
                <a:gd name="textAreaLeft" fmla="*/ 39240 w 609480"/>
                <a:gd name="textAreaRight" fmla="*/ 570240 w 609480"/>
                <a:gd name="textAreaTop" fmla="*/ 39240 h 609840"/>
                <a:gd name="textAreaBottom" fmla="*/ 570600 h 609840"/>
              </a:gdLst>
              <a:ahLst/>
              <a:rect l="textAreaLeft" t="textAreaTop" r="textAreaRight" b="textAreaBottom"/>
              <a:pathLst>
                <a:path w="21600" h="21613">
                  <a:moveTo>
                    <a:pt x="0" y="0"/>
                  </a:moveTo>
                  <a:lnTo>
                    <a:pt x="21600" y="0"/>
                  </a:lnTo>
                  <a:lnTo>
                    <a:pt x="21600" y="21613"/>
                  </a:lnTo>
                  <a:lnTo>
                    <a:pt x="0" y="21613"/>
                  </a:lnTo>
                  <a:close/>
                </a:path>
                <a:path fill="lightenLess" w="21600" h="2161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13">
                  <a:moveTo>
                    <a:pt x="21600" y="0"/>
                  </a:moveTo>
                  <a:lnTo>
                    <a:pt x="21600" y="21613"/>
                  </a:lnTo>
                  <a:lnTo>
                    <a:pt x="20200" y="20213"/>
                  </a:lnTo>
                  <a:lnTo>
                    <a:pt x="20200" y="1400"/>
                  </a:lnTo>
                  <a:close/>
                </a:path>
                <a:path fill="darkenLess" w="21600" h="21613">
                  <a:moveTo>
                    <a:pt x="21600" y="21613"/>
                  </a:moveTo>
                  <a:lnTo>
                    <a:pt x="0" y="21613"/>
                  </a:lnTo>
                  <a:lnTo>
                    <a:pt x="1400" y="20213"/>
                  </a:lnTo>
                  <a:lnTo>
                    <a:pt x="20200" y="20213"/>
                  </a:lnTo>
                  <a:close/>
                </a:path>
                <a:path fill="lighten" w="21600" h="21613">
                  <a:moveTo>
                    <a:pt x="0" y="2161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1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676520" y="868320"/>
              <a:ext cx="1176480" cy="1233360"/>
            </a:xfrm>
            <a:custGeom>
              <a:avLst/>
              <a:gdLst/>
              <a:ahLst/>
              <a:rect l="l" t="t" r="r" b="b"/>
              <a:pathLst>
                <a:path w="741" h="777">
                  <a:moveTo>
                    <a:pt x="694" y="165"/>
                  </a:moveTo>
                  <a:cubicBezTo>
                    <a:pt x="678" y="142"/>
                    <a:pt x="663" y="118"/>
                    <a:pt x="647" y="95"/>
                  </a:cubicBezTo>
                  <a:cubicBezTo>
                    <a:pt x="640" y="85"/>
                    <a:pt x="623" y="88"/>
                    <a:pt x="612" y="83"/>
                  </a:cubicBezTo>
                  <a:cubicBezTo>
                    <a:pt x="596" y="76"/>
                    <a:pt x="580" y="68"/>
                    <a:pt x="565" y="59"/>
                  </a:cubicBezTo>
                  <a:cubicBezTo>
                    <a:pt x="507" y="26"/>
                    <a:pt x="454" y="13"/>
                    <a:pt x="388" y="0"/>
                  </a:cubicBezTo>
                  <a:cubicBezTo>
                    <a:pt x="281" y="8"/>
                    <a:pt x="183" y="14"/>
                    <a:pt x="82" y="48"/>
                  </a:cubicBezTo>
                  <a:cubicBezTo>
                    <a:pt x="78" y="60"/>
                    <a:pt x="80" y="74"/>
                    <a:pt x="71" y="83"/>
                  </a:cubicBezTo>
                  <a:cubicBezTo>
                    <a:pt x="62" y="92"/>
                    <a:pt x="41" y="84"/>
                    <a:pt x="35" y="95"/>
                  </a:cubicBezTo>
                  <a:cubicBezTo>
                    <a:pt x="19" y="123"/>
                    <a:pt x="20" y="158"/>
                    <a:pt x="12" y="189"/>
                  </a:cubicBezTo>
                  <a:cubicBezTo>
                    <a:pt x="8" y="205"/>
                    <a:pt x="0" y="236"/>
                    <a:pt x="0" y="236"/>
                  </a:cubicBezTo>
                  <a:cubicBezTo>
                    <a:pt x="4" y="279"/>
                    <a:pt x="4" y="323"/>
                    <a:pt x="12" y="365"/>
                  </a:cubicBezTo>
                  <a:cubicBezTo>
                    <a:pt x="15" y="382"/>
                    <a:pt x="29" y="395"/>
                    <a:pt x="35" y="412"/>
                  </a:cubicBezTo>
                  <a:cubicBezTo>
                    <a:pt x="62" y="494"/>
                    <a:pt x="47" y="519"/>
                    <a:pt x="118" y="565"/>
                  </a:cubicBezTo>
                  <a:cubicBezTo>
                    <a:pt x="126" y="577"/>
                    <a:pt x="130" y="592"/>
                    <a:pt x="141" y="601"/>
                  </a:cubicBezTo>
                  <a:cubicBezTo>
                    <a:pt x="151" y="609"/>
                    <a:pt x="168" y="602"/>
                    <a:pt x="176" y="612"/>
                  </a:cubicBezTo>
                  <a:cubicBezTo>
                    <a:pt x="186" y="625"/>
                    <a:pt x="176" y="648"/>
                    <a:pt x="188" y="659"/>
                  </a:cubicBezTo>
                  <a:cubicBezTo>
                    <a:pt x="260" y="723"/>
                    <a:pt x="404" y="746"/>
                    <a:pt x="494" y="777"/>
                  </a:cubicBezTo>
                  <a:cubicBezTo>
                    <a:pt x="539" y="762"/>
                    <a:pt x="623" y="718"/>
                    <a:pt x="623" y="718"/>
                  </a:cubicBezTo>
                  <a:cubicBezTo>
                    <a:pt x="631" y="706"/>
                    <a:pt x="640" y="695"/>
                    <a:pt x="647" y="683"/>
                  </a:cubicBezTo>
                  <a:cubicBezTo>
                    <a:pt x="664" y="652"/>
                    <a:pt x="694" y="589"/>
                    <a:pt x="694" y="589"/>
                  </a:cubicBezTo>
                  <a:cubicBezTo>
                    <a:pt x="711" y="487"/>
                    <a:pt x="721" y="384"/>
                    <a:pt x="741" y="283"/>
                  </a:cubicBezTo>
                  <a:cubicBezTo>
                    <a:pt x="737" y="248"/>
                    <a:pt x="738" y="212"/>
                    <a:pt x="729" y="177"/>
                  </a:cubicBezTo>
                  <a:cubicBezTo>
                    <a:pt x="726" y="163"/>
                    <a:pt x="719" y="147"/>
                    <a:pt x="706" y="142"/>
                  </a:cubicBezTo>
                  <a:cubicBezTo>
                    <a:pt x="698" y="139"/>
                    <a:pt x="698" y="157"/>
                    <a:pt x="694" y="165"/>
                  </a:cubicBezTo>
                  <a:close/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53000" y="942840"/>
              <a:ext cx="474480" cy="446040"/>
            </a:xfrm>
            <a:custGeom>
              <a:avLst/>
              <a:gdLst/>
              <a:ahLst/>
              <a:rect l="l" t="t" r="r" b="b"/>
              <a:pathLst>
                <a:path w="299" h="281">
                  <a:moveTo>
                    <a:pt x="11" y="114"/>
                  </a:moveTo>
                  <a:cubicBezTo>
                    <a:pt x="23" y="106"/>
                    <a:pt x="37" y="100"/>
                    <a:pt x="47" y="90"/>
                  </a:cubicBezTo>
                  <a:cubicBezTo>
                    <a:pt x="57" y="80"/>
                    <a:pt x="59" y="64"/>
                    <a:pt x="70" y="55"/>
                  </a:cubicBezTo>
                  <a:cubicBezTo>
                    <a:pt x="73" y="52"/>
                    <a:pt x="137" y="33"/>
                    <a:pt x="141" y="32"/>
                  </a:cubicBezTo>
                  <a:cubicBezTo>
                    <a:pt x="153" y="24"/>
                    <a:pt x="162" y="10"/>
                    <a:pt x="176" y="8"/>
                  </a:cubicBezTo>
                  <a:cubicBezTo>
                    <a:pt x="226" y="0"/>
                    <a:pt x="255" y="152"/>
                    <a:pt x="270" y="196"/>
                  </a:cubicBezTo>
                  <a:cubicBezTo>
                    <a:pt x="299" y="281"/>
                    <a:pt x="90" y="196"/>
                    <a:pt x="0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743200" y="1554120"/>
              <a:ext cx="401760" cy="37296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59" y="0"/>
                  </a:moveTo>
                  <a:cubicBezTo>
                    <a:pt x="122" y="8"/>
                    <a:pt x="188" y="0"/>
                    <a:pt x="247" y="23"/>
                  </a:cubicBezTo>
                  <a:cubicBezTo>
                    <a:pt x="253" y="25"/>
                    <a:pt x="226" y="100"/>
                    <a:pt x="224" y="106"/>
                  </a:cubicBezTo>
                  <a:cubicBezTo>
                    <a:pt x="208" y="162"/>
                    <a:pt x="210" y="167"/>
                    <a:pt x="200" y="235"/>
                  </a:cubicBezTo>
                  <a:cubicBezTo>
                    <a:pt x="137" y="193"/>
                    <a:pt x="53" y="159"/>
                    <a:pt x="0" y="10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459160" y="2020680"/>
              <a:ext cx="430200" cy="405000"/>
            </a:xfrm>
            <a:custGeom>
              <a:avLst/>
              <a:gdLst/>
              <a:ahLst/>
              <a:rect l="l" t="t" r="r" b="b"/>
              <a:pathLst>
                <a:path w="271" h="255">
                  <a:moveTo>
                    <a:pt x="142" y="0"/>
                  </a:moveTo>
                  <a:cubicBezTo>
                    <a:pt x="153" y="69"/>
                    <a:pt x="142" y="101"/>
                    <a:pt x="200" y="141"/>
                  </a:cubicBezTo>
                  <a:cubicBezTo>
                    <a:pt x="216" y="165"/>
                    <a:pt x="239" y="185"/>
                    <a:pt x="248" y="212"/>
                  </a:cubicBezTo>
                  <a:cubicBezTo>
                    <a:pt x="252" y="224"/>
                    <a:pt x="271" y="244"/>
                    <a:pt x="259" y="247"/>
                  </a:cubicBezTo>
                  <a:cubicBezTo>
                    <a:pt x="224" y="255"/>
                    <a:pt x="188" y="238"/>
                    <a:pt x="153" y="235"/>
                  </a:cubicBezTo>
                  <a:cubicBezTo>
                    <a:pt x="102" y="230"/>
                    <a:pt x="51" y="227"/>
                    <a:pt x="0" y="223"/>
                  </a:cubicBezTo>
                  <a:cubicBezTo>
                    <a:pt x="21" y="161"/>
                    <a:pt x="36" y="89"/>
                    <a:pt x="36" y="23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17720" y="1888920"/>
              <a:ext cx="392040" cy="561960"/>
            </a:xfrm>
            <a:custGeom>
              <a:avLst/>
              <a:gdLst/>
              <a:ahLst/>
              <a:rect l="l" t="t" r="r" b="b"/>
              <a:pathLst>
                <a:path w="247" h="354">
                  <a:moveTo>
                    <a:pt x="247" y="83"/>
                  </a:moveTo>
                  <a:cubicBezTo>
                    <a:pt x="227" y="168"/>
                    <a:pt x="237" y="258"/>
                    <a:pt x="212" y="342"/>
                  </a:cubicBezTo>
                  <a:cubicBezTo>
                    <a:pt x="209" y="354"/>
                    <a:pt x="188" y="336"/>
                    <a:pt x="177" y="330"/>
                  </a:cubicBezTo>
                  <a:cubicBezTo>
                    <a:pt x="94" y="288"/>
                    <a:pt x="189" y="320"/>
                    <a:pt x="106" y="295"/>
                  </a:cubicBezTo>
                  <a:cubicBezTo>
                    <a:pt x="26" y="240"/>
                    <a:pt x="63" y="255"/>
                    <a:pt x="0" y="236"/>
                  </a:cubicBezTo>
                  <a:cubicBezTo>
                    <a:pt x="8" y="220"/>
                    <a:pt x="13" y="203"/>
                    <a:pt x="24" y="189"/>
                  </a:cubicBezTo>
                  <a:cubicBezTo>
                    <a:pt x="33" y="178"/>
                    <a:pt x="50" y="176"/>
                    <a:pt x="59" y="165"/>
                  </a:cubicBezTo>
                  <a:cubicBezTo>
                    <a:pt x="124" y="83"/>
                    <a:pt x="5" y="175"/>
                    <a:pt x="106" y="106"/>
                  </a:cubicBezTo>
                  <a:cubicBezTo>
                    <a:pt x="114" y="94"/>
                    <a:pt x="124" y="84"/>
                    <a:pt x="130" y="71"/>
                  </a:cubicBezTo>
                  <a:cubicBezTo>
                    <a:pt x="136" y="60"/>
                    <a:pt x="134" y="46"/>
                    <a:pt x="142" y="36"/>
                  </a:cubicBezTo>
                  <a:cubicBezTo>
                    <a:pt x="151" y="25"/>
                    <a:pt x="169" y="24"/>
                    <a:pt x="177" y="12"/>
                  </a:cubicBezTo>
                  <a:cubicBezTo>
                    <a:pt x="180" y="7"/>
                    <a:pt x="169" y="4"/>
                    <a:pt x="16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95360" y="1496880"/>
              <a:ext cx="522360" cy="374760"/>
            </a:xfrm>
            <a:custGeom>
              <a:avLst/>
              <a:gdLst/>
              <a:ahLst/>
              <a:rect l="l" t="t" r="r" b="b"/>
              <a:pathLst>
                <a:path w="329" h="236">
                  <a:moveTo>
                    <a:pt x="329" y="153"/>
                  </a:moveTo>
                  <a:cubicBezTo>
                    <a:pt x="263" y="176"/>
                    <a:pt x="195" y="190"/>
                    <a:pt x="129" y="212"/>
                  </a:cubicBezTo>
                  <a:cubicBezTo>
                    <a:pt x="117" y="216"/>
                    <a:pt x="106" y="220"/>
                    <a:pt x="94" y="224"/>
                  </a:cubicBezTo>
                  <a:cubicBezTo>
                    <a:pt x="82" y="228"/>
                    <a:pt x="59" y="236"/>
                    <a:pt x="59" y="236"/>
                  </a:cubicBezTo>
                  <a:cubicBezTo>
                    <a:pt x="32" y="155"/>
                    <a:pt x="79" y="88"/>
                    <a:pt x="0" y="36"/>
                  </a:cubicBezTo>
                  <a:cubicBezTo>
                    <a:pt x="77" y="10"/>
                    <a:pt x="155" y="0"/>
                    <a:pt x="235" y="0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371600" y="563400"/>
              <a:ext cx="517680" cy="536760"/>
            </a:xfrm>
            <a:custGeom>
              <a:avLst/>
              <a:gdLst/>
              <a:ahLst/>
              <a:rect l="l" t="t" r="r" b="b"/>
              <a:pathLst>
                <a:path w="326" h="338">
                  <a:moveTo>
                    <a:pt x="208" y="338"/>
                  </a:moveTo>
                  <a:cubicBezTo>
                    <a:pt x="183" y="261"/>
                    <a:pt x="208" y="272"/>
                    <a:pt x="149" y="255"/>
                  </a:cubicBezTo>
                  <a:cubicBezTo>
                    <a:pt x="133" y="251"/>
                    <a:pt x="117" y="248"/>
                    <a:pt x="102" y="243"/>
                  </a:cubicBezTo>
                  <a:cubicBezTo>
                    <a:pt x="78" y="236"/>
                    <a:pt x="32" y="220"/>
                    <a:pt x="32" y="220"/>
                  </a:cubicBezTo>
                  <a:cubicBezTo>
                    <a:pt x="24" y="208"/>
                    <a:pt x="10" y="199"/>
                    <a:pt x="8" y="185"/>
                  </a:cubicBezTo>
                  <a:cubicBezTo>
                    <a:pt x="0" y="127"/>
                    <a:pt x="48" y="88"/>
                    <a:pt x="91" y="67"/>
                  </a:cubicBezTo>
                  <a:cubicBezTo>
                    <a:pt x="112" y="0"/>
                    <a:pt x="129" y="16"/>
                    <a:pt x="185" y="43"/>
                  </a:cubicBezTo>
                  <a:cubicBezTo>
                    <a:pt x="209" y="122"/>
                    <a:pt x="174" y="44"/>
                    <a:pt x="232" y="90"/>
                  </a:cubicBezTo>
                  <a:cubicBezTo>
                    <a:pt x="243" y="99"/>
                    <a:pt x="245" y="116"/>
                    <a:pt x="255" y="126"/>
                  </a:cubicBezTo>
                  <a:cubicBezTo>
                    <a:pt x="265" y="136"/>
                    <a:pt x="279" y="141"/>
                    <a:pt x="291" y="149"/>
                  </a:cubicBezTo>
                  <a:cubicBezTo>
                    <a:pt x="317" y="190"/>
                    <a:pt x="304" y="175"/>
                    <a:pt x="326" y="196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6400" y="565200"/>
              <a:ext cx="384120" cy="334800"/>
            </a:xfrm>
            <a:custGeom>
              <a:avLst/>
              <a:gdLst/>
              <a:ahLst/>
              <a:rect l="l" t="t" r="r" b="b"/>
              <a:pathLst>
                <a:path w="242" h="211">
                  <a:moveTo>
                    <a:pt x="29" y="187"/>
                  </a:moveTo>
                  <a:cubicBezTo>
                    <a:pt x="42" y="0"/>
                    <a:pt x="0" y="8"/>
                    <a:pt x="111" y="46"/>
                  </a:cubicBezTo>
                  <a:cubicBezTo>
                    <a:pt x="150" y="42"/>
                    <a:pt x="190" y="27"/>
                    <a:pt x="229" y="34"/>
                  </a:cubicBezTo>
                  <a:cubicBezTo>
                    <a:pt x="241" y="36"/>
                    <a:pt x="242" y="58"/>
                    <a:pt x="240" y="70"/>
                  </a:cubicBezTo>
                  <a:cubicBezTo>
                    <a:pt x="237" y="88"/>
                    <a:pt x="191" y="156"/>
                    <a:pt x="182" y="175"/>
                  </a:cubicBezTo>
                  <a:cubicBezTo>
                    <a:pt x="176" y="186"/>
                    <a:pt x="170" y="211"/>
                    <a:pt x="170" y="211"/>
                  </a:cubicBezTo>
                </a:path>
              </a:pathLst>
            </a:custGeom>
            <a:solidFill>
              <a:srgbClr val="ffff66"/>
            </a:solidFill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1630080"/>
              <a:ext cx="457200" cy="152640"/>
            </a:xfrm>
            <a:custGeom>
              <a:avLst/>
              <a:gdLst/>
              <a:ahLst/>
              <a:rect l="l" t="t" r="r" b="b"/>
              <a:pathLst>
                <a:path w="506" h="212">
                  <a:moveTo>
                    <a:pt x="0" y="0"/>
                  </a:moveTo>
                  <a:cubicBezTo>
                    <a:pt x="38" y="26"/>
                    <a:pt x="56" y="57"/>
                    <a:pt x="94" y="83"/>
                  </a:cubicBezTo>
                  <a:cubicBezTo>
                    <a:pt x="119" y="182"/>
                    <a:pt x="83" y="95"/>
                    <a:pt x="141" y="141"/>
                  </a:cubicBezTo>
                  <a:cubicBezTo>
                    <a:pt x="152" y="150"/>
                    <a:pt x="153" y="169"/>
                    <a:pt x="165" y="177"/>
                  </a:cubicBezTo>
                  <a:cubicBezTo>
                    <a:pt x="182" y="188"/>
                    <a:pt x="256" y="205"/>
                    <a:pt x="282" y="212"/>
                  </a:cubicBezTo>
                  <a:cubicBezTo>
                    <a:pt x="310" y="208"/>
                    <a:pt x="338" y="206"/>
                    <a:pt x="365" y="200"/>
                  </a:cubicBezTo>
                  <a:cubicBezTo>
                    <a:pt x="389" y="195"/>
                    <a:pt x="435" y="177"/>
                    <a:pt x="435" y="177"/>
                  </a:cubicBezTo>
                  <a:cubicBezTo>
                    <a:pt x="467" y="82"/>
                    <a:pt x="423" y="202"/>
                    <a:pt x="471" y="106"/>
                  </a:cubicBezTo>
                  <a:cubicBezTo>
                    <a:pt x="488" y="72"/>
                    <a:pt x="489" y="34"/>
                    <a:pt x="506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28800" y="1096920"/>
              <a:ext cx="304920" cy="304560"/>
            </a:xfrm>
            <a:custGeom>
              <a:avLst/>
              <a:gdLst/>
              <a:ahLst/>
              <a:rect l="l" t="t" r="r" b="b"/>
              <a:pathLst>
                <a:path w="206" h="222">
                  <a:moveTo>
                    <a:pt x="183" y="106"/>
                  </a:moveTo>
                  <a:cubicBezTo>
                    <a:pt x="167" y="44"/>
                    <a:pt x="158" y="29"/>
                    <a:pt x="100" y="0"/>
                  </a:cubicBezTo>
                  <a:cubicBezTo>
                    <a:pt x="92" y="2"/>
                    <a:pt x="11" y="9"/>
                    <a:pt x="6" y="35"/>
                  </a:cubicBezTo>
                  <a:cubicBezTo>
                    <a:pt x="0" y="66"/>
                    <a:pt x="18" y="172"/>
                    <a:pt x="53" y="200"/>
                  </a:cubicBezTo>
                  <a:cubicBezTo>
                    <a:pt x="63" y="208"/>
                    <a:pt x="77" y="207"/>
                    <a:pt x="89" y="211"/>
                  </a:cubicBezTo>
                  <a:cubicBezTo>
                    <a:pt x="109" y="209"/>
                    <a:pt x="206" y="222"/>
                    <a:pt x="206" y="164"/>
                  </a:cubicBezTo>
                  <a:cubicBezTo>
                    <a:pt x="206" y="143"/>
                    <a:pt x="191" y="125"/>
                    <a:pt x="183" y="10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28800" y="1211040"/>
              <a:ext cx="381240" cy="160560"/>
            </a:xfrm>
            <a:custGeom>
              <a:avLst/>
              <a:gdLst/>
              <a:ahLst/>
              <a:rect l="l" t="t" r="r" b="b"/>
              <a:pathLst>
                <a:path w="176" h="63">
                  <a:moveTo>
                    <a:pt x="0" y="63"/>
                  </a:moveTo>
                  <a:cubicBezTo>
                    <a:pt x="4" y="51"/>
                    <a:pt x="2" y="36"/>
                    <a:pt x="11" y="27"/>
                  </a:cubicBezTo>
                  <a:cubicBezTo>
                    <a:pt x="38" y="0"/>
                    <a:pt x="159" y="4"/>
                    <a:pt x="176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905120" y="1295280"/>
              <a:ext cx="228600" cy="76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70160" y="944280"/>
              <a:ext cx="320760" cy="37008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143" y="228"/>
                  </a:moveTo>
                  <a:cubicBezTo>
                    <a:pt x="79" y="215"/>
                    <a:pt x="51" y="225"/>
                    <a:pt x="14" y="169"/>
                  </a:cubicBezTo>
                  <a:cubicBezTo>
                    <a:pt x="18" y="138"/>
                    <a:pt x="0" y="95"/>
                    <a:pt x="25" y="75"/>
                  </a:cubicBezTo>
                  <a:cubicBezTo>
                    <a:pt x="119" y="0"/>
                    <a:pt x="156" y="160"/>
                    <a:pt x="167" y="204"/>
                  </a:cubicBezTo>
                  <a:cubicBezTo>
                    <a:pt x="128" y="230"/>
                    <a:pt x="117" y="228"/>
                    <a:pt x="143" y="2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085760"/>
              <a:ext cx="401760" cy="209520"/>
            </a:xfrm>
            <a:custGeom>
              <a:avLst/>
              <a:gdLst/>
              <a:ahLst/>
              <a:rect l="l" t="t" r="r" b="b"/>
              <a:pathLst>
                <a:path w="226" h="83">
                  <a:moveTo>
                    <a:pt x="0" y="83"/>
                  </a:moveTo>
                  <a:cubicBezTo>
                    <a:pt x="38" y="57"/>
                    <a:pt x="77" y="45"/>
                    <a:pt x="118" y="24"/>
                  </a:cubicBezTo>
                  <a:cubicBezTo>
                    <a:pt x="149" y="28"/>
                    <a:pt x="181" y="42"/>
                    <a:pt x="212" y="36"/>
                  </a:cubicBezTo>
                  <a:cubicBezTo>
                    <a:pt x="226" y="33"/>
                    <a:pt x="190" y="18"/>
                    <a:pt x="177" y="12"/>
                  </a:cubicBezTo>
                  <a:cubicBezTo>
                    <a:pt x="166" y="6"/>
                    <a:pt x="153" y="4"/>
                    <a:pt x="141" y="0"/>
                  </a:cubicBezTo>
                  <a:cubicBezTo>
                    <a:pt x="140" y="0"/>
                    <a:pt x="65" y="18"/>
                    <a:pt x="59" y="24"/>
                  </a:cubicBezTo>
                  <a:cubicBezTo>
                    <a:pt x="50" y="33"/>
                    <a:pt x="56" y="50"/>
                    <a:pt x="47" y="59"/>
                  </a:cubicBezTo>
                  <a:cubicBezTo>
                    <a:pt x="35" y="71"/>
                    <a:pt x="16" y="75"/>
                    <a:pt x="0" y="83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5400000">
              <a:off x="2437920" y="1142640"/>
              <a:ext cx="76320" cy="228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 flipH="1">
            <a:off x="3351960" y="990720"/>
            <a:ext cx="1295640" cy="1066680"/>
          </a:xfrm>
          <a:prstGeom prst="wedgeRoundRectCallout">
            <a:avLst>
              <a:gd name="adj1" fmla="val -4046"/>
              <a:gd name="adj2" fmla="val 880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ia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i ricordi di 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43600" y="3047400"/>
            <a:ext cx="1600200" cy="990360"/>
          </a:xfrm>
          <a:prstGeom prst="wedgeRoundRectCallout">
            <a:avLst>
              <a:gd name="adj1" fmla="val -58337"/>
              <a:gd name="adj2" fmla="val 65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erto! Sei diventata bellissima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228600" y="6095880"/>
            <a:ext cx="554040" cy="549360"/>
            <a:chOff x="228600" y="6095880"/>
            <a:chExt cx="554040" cy="549360"/>
          </a:xfrm>
        </p:grpSpPr>
        <p:sp>
          <p:nvSpPr>
            <p:cNvPr id="799" name=""/>
            <p:cNvSpPr/>
            <p:nvPr/>
          </p:nvSpPr>
          <p:spPr>
            <a:xfrm>
              <a:off x="405720" y="6286680"/>
              <a:ext cx="212040" cy="229680"/>
            </a:xfrm>
            <a:custGeom>
              <a:avLst/>
              <a:gdLst/>
              <a:ahLst/>
              <a:rect l="l" t="t" r="r" b="b"/>
              <a:pathLst>
                <a:path w="378" h="314">
                  <a:moveTo>
                    <a:pt x="237" y="161"/>
                  </a:moveTo>
                  <a:cubicBezTo>
                    <a:pt x="214" y="91"/>
                    <a:pt x="243" y="155"/>
                    <a:pt x="190" y="102"/>
                  </a:cubicBezTo>
                  <a:cubicBezTo>
                    <a:pt x="123" y="35"/>
                    <a:pt x="219" y="92"/>
                    <a:pt x="119" y="43"/>
                  </a:cubicBezTo>
                  <a:cubicBezTo>
                    <a:pt x="115" y="31"/>
                    <a:pt x="119" y="11"/>
                    <a:pt x="107" y="8"/>
                  </a:cubicBezTo>
                  <a:cubicBezTo>
                    <a:pt x="80" y="0"/>
                    <a:pt x="0" y="7"/>
                    <a:pt x="48" y="55"/>
                  </a:cubicBezTo>
                  <a:cubicBezTo>
                    <a:pt x="57" y="64"/>
                    <a:pt x="72" y="62"/>
                    <a:pt x="84" y="66"/>
                  </a:cubicBezTo>
                  <a:cubicBezTo>
                    <a:pt x="111" y="108"/>
                    <a:pt x="131" y="121"/>
                    <a:pt x="178" y="137"/>
                  </a:cubicBezTo>
                  <a:cubicBezTo>
                    <a:pt x="264" y="268"/>
                    <a:pt x="132" y="78"/>
                    <a:pt x="237" y="196"/>
                  </a:cubicBezTo>
                  <a:cubicBezTo>
                    <a:pt x="309" y="277"/>
                    <a:pt x="267" y="264"/>
                    <a:pt x="366" y="314"/>
                  </a:cubicBezTo>
                  <a:cubicBezTo>
                    <a:pt x="370" y="302"/>
                    <a:pt x="378" y="291"/>
                    <a:pt x="378" y="278"/>
                  </a:cubicBezTo>
                  <a:cubicBezTo>
                    <a:pt x="378" y="204"/>
                    <a:pt x="348" y="210"/>
                    <a:pt x="296" y="184"/>
                  </a:cubicBezTo>
                  <a:cubicBezTo>
                    <a:pt x="241" y="157"/>
                    <a:pt x="281" y="161"/>
                    <a:pt x="237" y="161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8600" y="6095880"/>
              <a:ext cx="554040" cy="549360"/>
            </a:xfrm>
            <a:custGeom>
              <a:avLst/>
              <a:gdLst/>
              <a:ahLst/>
              <a:rect l="l" t="t" r="r" b="b"/>
              <a:pathLst>
                <a:path w="988" h="751">
                  <a:moveTo>
                    <a:pt x="506" y="433"/>
                  </a:moveTo>
                  <a:cubicBezTo>
                    <a:pt x="510" y="319"/>
                    <a:pt x="493" y="203"/>
                    <a:pt x="517" y="92"/>
                  </a:cubicBezTo>
                  <a:cubicBezTo>
                    <a:pt x="526" y="52"/>
                    <a:pt x="676" y="20"/>
                    <a:pt x="706" y="10"/>
                  </a:cubicBezTo>
                  <a:cubicBezTo>
                    <a:pt x="765" y="15"/>
                    <a:pt x="833" y="0"/>
                    <a:pt x="882" y="33"/>
                  </a:cubicBezTo>
                  <a:cubicBezTo>
                    <a:pt x="987" y="102"/>
                    <a:pt x="829" y="45"/>
                    <a:pt x="941" y="80"/>
                  </a:cubicBezTo>
                  <a:cubicBezTo>
                    <a:pt x="956" y="125"/>
                    <a:pt x="976" y="164"/>
                    <a:pt x="988" y="210"/>
                  </a:cubicBezTo>
                  <a:cubicBezTo>
                    <a:pt x="984" y="245"/>
                    <a:pt x="988" y="283"/>
                    <a:pt x="976" y="316"/>
                  </a:cubicBezTo>
                  <a:cubicBezTo>
                    <a:pt x="970" y="331"/>
                    <a:pt x="919" y="347"/>
                    <a:pt x="906" y="351"/>
                  </a:cubicBezTo>
                  <a:cubicBezTo>
                    <a:pt x="778" y="386"/>
                    <a:pt x="649" y="421"/>
                    <a:pt x="517" y="433"/>
                  </a:cubicBezTo>
                  <a:cubicBezTo>
                    <a:pt x="500" y="426"/>
                    <a:pt x="429" y="400"/>
                    <a:pt x="412" y="386"/>
                  </a:cubicBezTo>
                  <a:cubicBezTo>
                    <a:pt x="335" y="322"/>
                    <a:pt x="454" y="375"/>
                    <a:pt x="341" y="327"/>
                  </a:cubicBezTo>
                  <a:cubicBezTo>
                    <a:pt x="293" y="307"/>
                    <a:pt x="237" y="309"/>
                    <a:pt x="188" y="304"/>
                  </a:cubicBezTo>
                  <a:cubicBezTo>
                    <a:pt x="99" y="313"/>
                    <a:pt x="65" y="306"/>
                    <a:pt x="0" y="351"/>
                  </a:cubicBezTo>
                  <a:cubicBezTo>
                    <a:pt x="0" y="354"/>
                    <a:pt x="6" y="595"/>
                    <a:pt x="47" y="645"/>
                  </a:cubicBezTo>
                  <a:cubicBezTo>
                    <a:pt x="58" y="659"/>
                    <a:pt x="78" y="661"/>
                    <a:pt x="94" y="669"/>
                  </a:cubicBezTo>
                  <a:cubicBezTo>
                    <a:pt x="125" y="732"/>
                    <a:pt x="136" y="729"/>
                    <a:pt x="200" y="751"/>
                  </a:cubicBezTo>
                  <a:cubicBezTo>
                    <a:pt x="278" y="747"/>
                    <a:pt x="357" y="746"/>
                    <a:pt x="435" y="739"/>
                  </a:cubicBezTo>
                  <a:cubicBezTo>
                    <a:pt x="474" y="736"/>
                    <a:pt x="517" y="657"/>
                    <a:pt x="517" y="657"/>
                  </a:cubicBezTo>
                  <a:cubicBezTo>
                    <a:pt x="530" y="605"/>
                    <a:pt x="641" y="391"/>
                    <a:pt x="506" y="433"/>
                  </a:cubicBez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5720" y="6163200"/>
              <a:ext cx="102960" cy="278640"/>
            </a:xfrm>
            <a:custGeom>
              <a:avLst/>
              <a:gdLst/>
              <a:ahLst/>
              <a:rect l="l" t="t" r="r" b="b"/>
              <a:pathLst>
                <a:path w="184" h="381">
                  <a:moveTo>
                    <a:pt x="178" y="330"/>
                  </a:moveTo>
                  <a:cubicBezTo>
                    <a:pt x="149" y="158"/>
                    <a:pt x="184" y="381"/>
                    <a:pt x="154" y="59"/>
                  </a:cubicBezTo>
                  <a:cubicBezTo>
                    <a:pt x="153" y="43"/>
                    <a:pt x="153" y="25"/>
                    <a:pt x="143" y="12"/>
                  </a:cubicBezTo>
                  <a:cubicBezTo>
                    <a:pt x="135" y="2"/>
                    <a:pt x="119" y="4"/>
                    <a:pt x="107" y="0"/>
                  </a:cubicBezTo>
                  <a:cubicBezTo>
                    <a:pt x="65" y="14"/>
                    <a:pt x="0" y="11"/>
                    <a:pt x="60" y="59"/>
                  </a:cubicBezTo>
                  <a:cubicBezTo>
                    <a:pt x="70" y="67"/>
                    <a:pt x="84" y="67"/>
                    <a:pt x="96" y="71"/>
                  </a:cubicBezTo>
                  <a:cubicBezTo>
                    <a:pt x="139" y="56"/>
                    <a:pt x="125" y="70"/>
                    <a:pt x="143" y="35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0640" y="6190200"/>
              <a:ext cx="154800" cy="187920"/>
            </a:xfrm>
            <a:custGeom>
              <a:avLst/>
              <a:gdLst/>
              <a:ahLst/>
              <a:rect l="l" t="t" r="r" b="b"/>
              <a:pathLst>
                <a:path w="276" h="257">
                  <a:moveTo>
                    <a:pt x="276" y="257"/>
                  </a:moveTo>
                  <a:cubicBezTo>
                    <a:pt x="249" y="153"/>
                    <a:pt x="206" y="79"/>
                    <a:pt x="99" y="46"/>
                  </a:cubicBezTo>
                  <a:cubicBezTo>
                    <a:pt x="87" y="38"/>
                    <a:pt x="77" y="28"/>
                    <a:pt x="64" y="22"/>
                  </a:cubicBezTo>
                  <a:cubicBezTo>
                    <a:pt x="53" y="16"/>
                    <a:pt x="36" y="0"/>
                    <a:pt x="29" y="10"/>
                  </a:cubicBezTo>
                  <a:cubicBezTo>
                    <a:pt x="0" y="54"/>
                    <a:pt x="59" y="63"/>
                    <a:pt x="76" y="69"/>
                  </a:cubicBezTo>
                  <a:cubicBezTo>
                    <a:pt x="84" y="81"/>
                    <a:pt x="86" y="99"/>
                    <a:pt x="99" y="104"/>
                  </a:cubicBezTo>
                  <a:cubicBezTo>
                    <a:pt x="116" y="111"/>
                    <a:pt x="170" y="81"/>
                    <a:pt x="182" y="69"/>
                  </a:cubicBezTo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6920" y="6336360"/>
              <a:ext cx="81000" cy="8460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143" y="69"/>
                  </a:moveTo>
                  <a:cubicBezTo>
                    <a:pt x="119" y="0"/>
                    <a:pt x="93" y="22"/>
                    <a:pt x="25" y="34"/>
                  </a:cubicBezTo>
                  <a:cubicBezTo>
                    <a:pt x="11" y="75"/>
                    <a:pt x="0" y="71"/>
                    <a:pt x="49" y="93"/>
                  </a:cubicBezTo>
                  <a:cubicBezTo>
                    <a:pt x="71" y="103"/>
                    <a:pt x="119" y="116"/>
                    <a:pt x="119" y="116"/>
                  </a:cubicBezTo>
                  <a:cubicBezTo>
                    <a:pt x="145" y="78"/>
                    <a:pt x="143" y="95"/>
                    <a:pt x="143" y="69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6440" y="6465240"/>
              <a:ext cx="59400" cy="11628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0" y="46"/>
                  </a:moveTo>
                  <a:cubicBezTo>
                    <a:pt x="52" y="11"/>
                    <a:pt x="84" y="0"/>
                    <a:pt x="106" y="70"/>
                  </a:cubicBezTo>
                  <a:cubicBezTo>
                    <a:pt x="102" y="89"/>
                    <a:pt x="105" y="111"/>
                    <a:pt x="95" y="128"/>
                  </a:cubicBezTo>
                  <a:cubicBezTo>
                    <a:pt x="88" y="141"/>
                    <a:pt x="72" y="159"/>
                    <a:pt x="59" y="152"/>
                  </a:cubicBezTo>
                  <a:cubicBezTo>
                    <a:pt x="34" y="138"/>
                    <a:pt x="28" y="105"/>
                    <a:pt x="12" y="81"/>
                  </a:cubicBezTo>
                  <a:cubicBezTo>
                    <a:pt x="5" y="71"/>
                    <a:pt x="0" y="46"/>
                    <a:pt x="0" y="46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1040" y="6239880"/>
              <a:ext cx="75960" cy="77400"/>
            </a:xfrm>
            <a:custGeom>
              <a:avLst/>
              <a:gdLst/>
              <a:ahLst/>
              <a:rect l="l" t="t" r="r" b="b"/>
              <a:pathLst>
                <a:path w="136" h="106">
                  <a:moveTo>
                    <a:pt x="43" y="82"/>
                  </a:moveTo>
                  <a:cubicBezTo>
                    <a:pt x="39" y="76"/>
                    <a:pt x="0" y="26"/>
                    <a:pt x="7" y="11"/>
                  </a:cubicBezTo>
                  <a:cubicBezTo>
                    <a:pt x="13" y="0"/>
                    <a:pt x="31" y="4"/>
                    <a:pt x="43" y="0"/>
                  </a:cubicBezTo>
                  <a:cubicBezTo>
                    <a:pt x="134" y="17"/>
                    <a:pt x="136" y="20"/>
                    <a:pt x="101" y="106"/>
                  </a:cubicBezTo>
                  <a:cubicBezTo>
                    <a:pt x="49" y="93"/>
                    <a:pt x="65" y="106"/>
                    <a:pt x="43" y="8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9200" y="6300720"/>
              <a:ext cx="88920" cy="78120"/>
            </a:xfrm>
            <a:custGeom>
              <a:avLst/>
              <a:gdLst/>
              <a:ahLst/>
              <a:rect l="l" t="t" r="r" b="b"/>
              <a:pathLst>
                <a:path w="159" h="107">
                  <a:moveTo>
                    <a:pt x="76" y="71"/>
                  </a:moveTo>
                  <a:cubicBezTo>
                    <a:pt x="61" y="67"/>
                    <a:pt x="0" y="66"/>
                    <a:pt x="17" y="24"/>
                  </a:cubicBezTo>
                  <a:cubicBezTo>
                    <a:pt x="22" y="11"/>
                    <a:pt x="40" y="8"/>
                    <a:pt x="52" y="0"/>
                  </a:cubicBezTo>
                  <a:cubicBezTo>
                    <a:pt x="81" y="10"/>
                    <a:pt x="100" y="13"/>
                    <a:pt x="123" y="36"/>
                  </a:cubicBezTo>
                  <a:cubicBezTo>
                    <a:pt x="133" y="46"/>
                    <a:pt x="159" y="65"/>
                    <a:pt x="146" y="71"/>
                  </a:cubicBezTo>
                  <a:cubicBezTo>
                    <a:pt x="72" y="107"/>
                    <a:pt x="76" y="27"/>
                    <a:pt x="76" y="71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91480" y="613512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 rot="10800000">
              <a:off x="293760" y="6450480"/>
              <a:ext cx="81720" cy="96480"/>
            </a:xfrm>
            <a:custGeom>
              <a:avLst/>
              <a:gdLst/>
              <a:ahLst/>
              <a:rect l="l" t="t" r="r" b="b"/>
              <a:pathLst>
                <a:path w="146" h="132">
                  <a:moveTo>
                    <a:pt x="70" y="62"/>
                  </a:moveTo>
                  <a:cubicBezTo>
                    <a:pt x="63" y="51"/>
                    <a:pt x="41" y="0"/>
                    <a:pt x="12" y="15"/>
                  </a:cubicBezTo>
                  <a:cubicBezTo>
                    <a:pt x="1" y="21"/>
                    <a:pt x="4" y="38"/>
                    <a:pt x="0" y="50"/>
                  </a:cubicBezTo>
                  <a:cubicBezTo>
                    <a:pt x="80" y="104"/>
                    <a:pt x="61" y="70"/>
                    <a:pt x="82" y="132"/>
                  </a:cubicBezTo>
                  <a:cubicBezTo>
                    <a:pt x="139" y="94"/>
                    <a:pt x="146" y="94"/>
                    <a:pt x="129" y="26"/>
                  </a:cubicBezTo>
                  <a:cubicBezTo>
                    <a:pt x="73" y="40"/>
                    <a:pt x="89" y="24"/>
                    <a:pt x="70" y="62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3048120" y="6248520"/>
            <a:ext cx="685800" cy="609480"/>
            <a:chOff x="3048120" y="6248520"/>
            <a:chExt cx="685800" cy="609480"/>
          </a:xfrm>
        </p:grpSpPr>
        <p:grpSp>
          <p:nvGrpSpPr>
            <p:cNvPr id="810" name=""/>
            <p:cNvGrpSpPr/>
            <p:nvPr/>
          </p:nvGrpSpPr>
          <p:grpSpPr>
            <a:xfrm>
              <a:off x="3090600" y="6248520"/>
              <a:ext cx="628920" cy="562320"/>
              <a:chOff x="3090600" y="6248520"/>
              <a:chExt cx="628920" cy="562320"/>
            </a:xfrm>
          </p:grpSpPr>
          <p:sp>
            <p:nvSpPr>
              <p:cNvPr id="811" name=""/>
              <p:cNvSpPr/>
              <p:nvPr/>
            </p:nvSpPr>
            <p:spPr>
              <a:xfrm>
                <a:off x="3188520" y="6339240"/>
                <a:ext cx="378000" cy="367560"/>
              </a:xfrm>
              <a:custGeom>
                <a:avLst/>
                <a:gdLst/>
                <a:ahLst/>
                <a:rect l="l" t="t" r="r" b="b"/>
                <a:pathLst>
                  <a:path w="741" h="777">
                    <a:moveTo>
                      <a:pt x="694" y="165"/>
                    </a:moveTo>
                    <a:cubicBezTo>
                      <a:pt x="678" y="142"/>
                      <a:pt x="663" y="118"/>
                      <a:pt x="647" y="95"/>
                    </a:cubicBezTo>
                    <a:cubicBezTo>
                      <a:pt x="640" y="85"/>
                      <a:pt x="623" y="88"/>
                      <a:pt x="612" y="83"/>
                    </a:cubicBezTo>
                    <a:cubicBezTo>
                      <a:pt x="596" y="76"/>
                      <a:pt x="580" y="68"/>
                      <a:pt x="565" y="59"/>
                    </a:cubicBezTo>
                    <a:cubicBezTo>
                      <a:pt x="507" y="26"/>
                      <a:pt x="454" y="13"/>
                      <a:pt x="388" y="0"/>
                    </a:cubicBezTo>
                    <a:cubicBezTo>
                      <a:pt x="281" y="8"/>
                      <a:pt x="183" y="14"/>
                      <a:pt x="82" y="48"/>
                    </a:cubicBezTo>
                    <a:cubicBezTo>
                      <a:pt x="78" y="60"/>
                      <a:pt x="80" y="74"/>
                      <a:pt x="71" y="83"/>
                    </a:cubicBezTo>
                    <a:cubicBezTo>
                      <a:pt x="62" y="92"/>
                      <a:pt x="41" y="84"/>
                      <a:pt x="35" y="95"/>
                    </a:cubicBezTo>
                    <a:cubicBezTo>
                      <a:pt x="19" y="123"/>
                      <a:pt x="20" y="158"/>
                      <a:pt x="12" y="189"/>
                    </a:cubicBezTo>
                    <a:cubicBezTo>
                      <a:pt x="8" y="205"/>
                      <a:pt x="0" y="236"/>
                      <a:pt x="0" y="236"/>
                    </a:cubicBezTo>
                    <a:cubicBezTo>
                      <a:pt x="4" y="279"/>
                      <a:pt x="4" y="323"/>
                      <a:pt x="12" y="365"/>
                    </a:cubicBezTo>
                    <a:cubicBezTo>
                      <a:pt x="15" y="382"/>
                      <a:pt x="29" y="395"/>
                      <a:pt x="35" y="412"/>
                    </a:cubicBezTo>
                    <a:cubicBezTo>
                      <a:pt x="62" y="494"/>
                      <a:pt x="47" y="519"/>
                      <a:pt x="118" y="565"/>
                    </a:cubicBezTo>
                    <a:cubicBezTo>
                      <a:pt x="126" y="577"/>
                      <a:pt x="130" y="592"/>
                      <a:pt x="141" y="601"/>
                    </a:cubicBezTo>
                    <a:cubicBezTo>
                      <a:pt x="151" y="609"/>
                      <a:pt x="168" y="602"/>
                      <a:pt x="176" y="612"/>
                    </a:cubicBezTo>
                    <a:cubicBezTo>
                      <a:pt x="186" y="625"/>
                      <a:pt x="176" y="648"/>
                      <a:pt x="188" y="659"/>
                    </a:cubicBezTo>
                    <a:cubicBezTo>
                      <a:pt x="260" y="723"/>
                      <a:pt x="404" y="746"/>
                      <a:pt x="494" y="777"/>
                    </a:cubicBezTo>
                    <a:cubicBezTo>
                      <a:pt x="539" y="762"/>
                      <a:pt x="623" y="718"/>
                      <a:pt x="623" y="718"/>
                    </a:cubicBezTo>
                    <a:cubicBezTo>
                      <a:pt x="631" y="706"/>
                      <a:pt x="640" y="695"/>
                      <a:pt x="647" y="683"/>
                    </a:cubicBezTo>
                    <a:cubicBezTo>
                      <a:pt x="664" y="652"/>
                      <a:pt x="694" y="589"/>
                      <a:pt x="694" y="589"/>
                    </a:cubicBezTo>
                    <a:cubicBezTo>
                      <a:pt x="711" y="487"/>
                      <a:pt x="721" y="384"/>
                      <a:pt x="741" y="283"/>
                    </a:cubicBezTo>
                    <a:cubicBezTo>
                      <a:pt x="737" y="248"/>
                      <a:pt x="738" y="212"/>
                      <a:pt x="729" y="177"/>
                    </a:cubicBezTo>
                    <a:cubicBezTo>
                      <a:pt x="726" y="163"/>
                      <a:pt x="719" y="147"/>
                      <a:pt x="706" y="142"/>
                    </a:cubicBezTo>
                    <a:cubicBezTo>
                      <a:pt x="698" y="139"/>
                      <a:pt x="698" y="157"/>
                      <a:pt x="694" y="165"/>
                    </a:cubicBezTo>
                    <a:close/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566880" y="6361560"/>
                <a:ext cx="152640" cy="132840"/>
              </a:xfrm>
              <a:custGeom>
                <a:avLst/>
                <a:gdLst/>
                <a:ahLst/>
                <a:rect l="l" t="t" r="r" b="b"/>
                <a:pathLst>
                  <a:path w="299" h="281">
                    <a:moveTo>
                      <a:pt x="11" y="114"/>
                    </a:moveTo>
                    <a:cubicBezTo>
                      <a:pt x="23" y="106"/>
                      <a:pt x="37" y="100"/>
                      <a:pt x="47" y="90"/>
                    </a:cubicBezTo>
                    <a:cubicBezTo>
                      <a:pt x="57" y="80"/>
                      <a:pt x="59" y="64"/>
                      <a:pt x="70" y="55"/>
                    </a:cubicBezTo>
                    <a:cubicBezTo>
                      <a:pt x="73" y="52"/>
                      <a:pt x="137" y="33"/>
                      <a:pt x="141" y="32"/>
                    </a:cubicBezTo>
                    <a:cubicBezTo>
                      <a:pt x="153" y="24"/>
                      <a:pt x="162" y="10"/>
                      <a:pt x="176" y="8"/>
                    </a:cubicBezTo>
                    <a:cubicBezTo>
                      <a:pt x="226" y="0"/>
                      <a:pt x="255" y="152"/>
                      <a:pt x="270" y="196"/>
                    </a:cubicBezTo>
                    <a:cubicBezTo>
                      <a:pt x="299" y="281"/>
                      <a:pt x="90" y="196"/>
                      <a:pt x="0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542400" y="6560280"/>
                <a:ext cx="128880" cy="110880"/>
              </a:xfrm>
              <a:custGeom>
                <a:avLst/>
                <a:gdLst/>
                <a:ahLst/>
                <a:rect l="l" t="t" r="r" b="b"/>
                <a:pathLst>
                  <a:path w="253" h="235">
                    <a:moveTo>
                      <a:pt x="59" y="0"/>
                    </a:moveTo>
                    <a:cubicBezTo>
                      <a:pt x="122" y="8"/>
                      <a:pt x="188" y="0"/>
                      <a:pt x="247" y="23"/>
                    </a:cubicBezTo>
                    <a:cubicBezTo>
                      <a:pt x="253" y="25"/>
                      <a:pt x="226" y="100"/>
                      <a:pt x="224" y="106"/>
                    </a:cubicBezTo>
                    <a:cubicBezTo>
                      <a:pt x="208" y="162"/>
                      <a:pt x="210" y="167"/>
                      <a:pt x="200" y="235"/>
                    </a:cubicBezTo>
                    <a:cubicBezTo>
                      <a:pt x="137" y="193"/>
                      <a:pt x="53" y="159"/>
                      <a:pt x="0" y="10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440160" y="66826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271" h="255">
                    <a:moveTo>
                      <a:pt x="142" y="0"/>
                    </a:moveTo>
                    <a:cubicBezTo>
                      <a:pt x="153" y="69"/>
                      <a:pt x="142" y="101"/>
                      <a:pt x="200" y="141"/>
                    </a:cubicBezTo>
                    <a:cubicBezTo>
                      <a:pt x="216" y="165"/>
                      <a:pt x="239" y="185"/>
                      <a:pt x="248" y="212"/>
                    </a:cubicBezTo>
                    <a:cubicBezTo>
                      <a:pt x="252" y="224"/>
                      <a:pt x="271" y="244"/>
                      <a:pt x="259" y="247"/>
                    </a:cubicBezTo>
                    <a:cubicBezTo>
                      <a:pt x="224" y="255"/>
                      <a:pt x="188" y="238"/>
                      <a:pt x="153" y="235"/>
                    </a:cubicBezTo>
                    <a:cubicBezTo>
                      <a:pt x="102" y="230"/>
                      <a:pt x="51" y="227"/>
                      <a:pt x="0" y="223"/>
                    </a:cubicBezTo>
                    <a:cubicBezTo>
                      <a:pt x="21" y="161"/>
                      <a:pt x="36" y="89"/>
                      <a:pt x="36" y="23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265920" y="6643440"/>
                <a:ext cx="126000" cy="167400"/>
              </a:xfrm>
              <a:custGeom>
                <a:avLst/>
                <a:gdLst/>
                <a:ahLst/>
                <a:rect l="l" t="t" r="r" b="b"/>
                <a:pathLst>
                  <a:path w="247" h="354">
                    <a:moveTo>
                      <a:pt x="247" y="83"/>
                    </a:moveTo>
                    <a:cubicBezTo>
                      <a:pt x="227" y="168"/>
                      <a:pt x="237" y="258"/>
                      <a:pt x="212" y="342"/>
                    </a:cubicBezTo>
                    <a:cubicBezTo>
                      <a:pt x="209" y="354"/>
                      <a:pt x="188" y="336"/>
                      <a:pt x="177" y="330"/>
                    </a:cubicBezTo>
                    <a:cubicBezTo>
                      <a:pt x="94" y="288"/>
                      <a:pt x="189" y="320"/>
                      <a:pt x="106" y="295"/>
                    </a:cubicBezTo>
                    <a:cubicBezTo>
                      <a:pt x="26" y="240"/>
                      <a:pt x="63" y="255"/>
                      <a:pt x="0" y="236"/>
                    </a:cubicBezTo>
                    <a:cubicBezTo>
                      <a:pt x="8" y="220"/>
                      <a:pt x="13" y="203"/>
                      <a:pt x="24" y="189"/>
                    </a:cubicBezTo>
                    <a:cubicBezTo>
                      <a:pt x="33" y="178"/>
                      <a:pt x="50" y="176"/>
                      <a:pt x="59" y="165"/>
                    </a:cubicBezTo>
                    <a:cubicBezTo>
                      <a:pt x="124" y="83"/>
                      <a:pt x="5" y="175"/>
                      <a:pt x="106" y="106"/>
                    </a:cubicBezTo>
                    <a:cubicBezTo>
                      <a:pt x="114" y="94"/>
                      <a:pt x="124" y="84"/>
                      <a:pt x="130" y="71"/>
                    </a:cubicBezTo>
                    <a:cubicBezTo>
                      <a:pt x="136" y="60"/>
                      <a:pt x="134" y="46"/>
                      <a:pt x="142" y="36"/>
                    </a:cubicBezTo>
                    <a:cubicBezTo>
                      <a:pt x="151" y="25"/>
                      <a:pt x="169" y="24"/>
                      <a:pt x="177" y="12"/>
                    </a:cubicBezTo>
                    <a:cubicBezTo>
                      <a:pt x="180" y="7"/>
                      <a:pt x="169" y="4"/>
                      <a:pt x="16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098160" y="6526440"/>
                <a:ext cx="167760" cy="111600"/>
              </a:xfrm>
              <a:custGeom>
                <a:avLst/>
                <a:gdLst/>
                <a:ahLst/>
                <a:rect l="l" t="t" r="r" b="b"/>
                <a:pathLst>
                  <a:path w="329" h="236">
                    <a:moveTo>
                      <a:pt x="329" y="153"/>
                    </a:moveTo>
                    <a:cubicBezTo>
                      <a:pt x="263" y="176"/>
                      <a:pt x="195" y="190"/>
                      <a:pt x="129" y="212"/>
                    </a:cubicBezTo>
                    <a:cubicBezTo>
                      <a:pt x="117" y="216"/>
                      <a:pt x="106" y="220"/>
                      <a:pt x="94" y="224"/>
                    </a:cubicBezTo>
                    <a:cubicBezTo>
                      <a:pt x="82" y="228"/>
                      <a:pt x="59" y="236"/>
                      <a:pt x="59" y="236"/>
                    </a:cubicBezTo>
                    <a:cubicBezTo>
                      <a:pt x="32" y="155"/>
                      <a:pt x="79" y="88"/>
                      <a:pt x="0" y="36"/>
                    </a:cubicBezTo>
                    <a:cubicBezTo>
                      <a:pt x="77" y="10"/>
                      <a:pt x="155" y="0"/>
                      <a:pt x="235" y="0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090600" y="6248520"/>
                <a:ext cx="166320" cy="159840"/>
              </a:xfrm>
              <a:custGeom>
                <a:avLst/>
                <a:gdLst/>
                <a:ahLst/>
                <a:rect l="l" t="t" r="r" b="b"/>
                <a:pathLst>
                  <a:path w="326" h="338">
                    <a:moveTo>
                      <a:pt x="208" y="338"/>
                    </a:moveTo>
                    <a:cubicBezTo>
                      <a:pt x="183" y="261"/>
                      <a:pt x="208" y="272"/>
                      <a:pt x="149" y="255"/>
                    </a:cubicBezTo>
                    <a:cubicBezTo>
                      <a:pt x="133" y="251"/>
                      <a:pt x="117" y="248"/>
                      <a:pt x="102" y="243"/>
                    </a:cubicBezTo>
                    <a:cubicBezTo>
                      <a:pt x="78" y="236"/>
                      <a:pt x="32" y="220"/>
                      <a:pt x="32" y="220"/>
                    </a:cubicBezTo>
                    <a:cubicBezTo>
                      <a:pt x="24" y="208"/>
                      <a:pt x="10" y="199"/>
                      <a:pt x="8" y="185"/>
                    </a:cubicBezTo>
                    <a:cubicBezTo>
                      <a:pt x="0" y="127"/>
                      <a:pt x="48" y="88"/>
                      <a:pt x="91" y="67"/>
                    </a:cubicBezTo>
                    <a:cubicBezTo>
                      <a:pt x="112" y="0"/>
                      <a:pt x="129" y="16"/>
                      <a:pt x="185" y="43"/>
                    </a:cubicBezTo>
                    <a:cubicBezTo>
                      <a:pt x="209" y="122"/>
                      <a:pt x="174" y="44"/>
                      <a:pt x="232" y="90"/>
                    </a:cubicBezTo>
                    <a:cubicBezTo>
                      <a:pt x="243" y="99"/>
                      <a:pt x="245" y="116"/>
                      <a:pt x="255" y="126"/>
                    </a:cubicBezTo>
                    <a:cubicBezTo>
                      <a:pt x="265" y="136"/>
                      <a:pt x="279" y="141"/>
                      <a:pt x="291" y="149"/>
                    </a:cubicBezTo>
                    <a:cubicBezTo>
                      <a:pt x="317" y="190"/>
                      <a:pt x="304" y="175"/>
                      <a:pt x="326" y="196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371760" y="6248880"/>
                <a:ext cx="123480" cy="99720"/>
              </a:xfrm>
              <a:custGeom>
                <a:avLst/>
                <a:gdLst/>
                <a:ahLst/>
                <a:rect l="l" t="t" r="r" b="b"/>
                <a:pathLst>
                  <a:path w="242" h="211">
                    <a:moveTo>
                      <a:pt x="29" y="187"/>
                    </a:moveTo>
                    <a:cubicBezTo>
                      <a:pt x="42" y="0"/>
                      <a:pt x="0" y="8"/>
                      <a:pt x="111" y="46"/>
                    </a:cubicBezTo>
                    <a:cubicBezTo>
                      <a:pt x="150" y="42"/>
                      <a:pt x="190" y="27"/>
                      <a:pt x="229" y="34"/>
                    </a:cubicBezTo>
                    <a:cubicBezTo>
                      <a:pt x="241" y="36"/>
                      <a:pt x="242" y="58"/>
                      <a:pt x="240" y="70"/>
                    </a:cubicBezTo>
                    <a:cubicBezTo>
                      <a:pt x="237" y="88"/>
                      <a:pt x="191" y="156"/>
                      <a:pt x="182" y="175"/>
                    </a:cubicBezTo>
                    <a:cubicBezTo>
                      <a:pt x="176" y="186"/>
                      <a:pt x="170" y="211"/>
                      <a:pt x="170" y="211"/>
                    </a:cubicBezTo>
                  </a:path>
                </a:pathLst>
              </a:custGeom>
              <a:solidFill>
                <a:srgbClr val="ffff66"/>
              </a:solidFill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272400" y="6526440"/>
                <a:ext cx="258120" cy="100080"/>
              </a:xfrm>
              <a:custGeom>
                <a:avLst/>
                <a:gdLst/>
                <a:ahLst/>
                <a:rect l="l" t="t" r="r" b="b"/>
                <a:pathLst>
                  <a:path w="506" h="212">
                    <a:moveTo>
                      <a:pt x="0" y="0"/>
                    </a:moveTo>
                    <a:cubicBezTo>
                      <a:pt x="38" y="26"/>
                      <a:pt x="56" y="57"/>
                      <a:pt x="94" y="83"/>
                    </a:cubicBezTo>
                    <a:cubicBezTo>
                      <a:pt x="119" y="182"/>
                      <a:pt x="83" y="95"/>
                      <a:pt x="141" y="141"/>
                    </a:cubicBezTo>
                    <a:cubicBezTo>
                      <a:pt x="152" y="150"/>
                      <a:pt x="153" y="169"/>
                      <a:pt x="165" y="177"/>
                    </a:cubicBezTo>
                    <a:cubicBezTo>
                      <a:pt x="182" y="188"/>
                      <a:pt x="256" y="205"/>
                      <a:pt x="282" y="212"/>
                    </a:cubicBezTo>
                    <a:cubicBezTo>
                      <a:pt x="310" y="208"/>
                      <a:pt x="338" y="206"/>
                      <a:pt x="365" y="200"/>
                    </a:cubicBezTo>
                    <a:cubicBezTo>
                      <a:pt x="389" y="195"/>
                      <a:pt x="435" y="177"/>
                      <a:pt x="435" y="177"/>
                    </a:cubicBezTo>
                    <a:cubicBezTo>
                      <a:pt x="467" y="82"/>
                      <a:pt x="423" y="202"/>
                      <a:pt x="471" y="106"/>
                    </a:cubicBezTo>
                    <a:cubicBezTo>
                      <a:pt x="488" y="72"/>
                      <a:pt x="489" y="34"/>
                      <a:pt x="506" y="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237480" y="640728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206" h="222">
                    <a:moveTo>
                      <a:pt x="183" y="106"/>
                    </a:moveTo>
                    <a:cubicBezTo>
                      <a:pt x="167" y="44"/>
                      <a:pt x="158" y="29"/>
                      <a:pt x="100" y="0"/>
                    </a:cubicBezTo>
                    <a:cubicBezTo>
                      <a:pt x="92" y="2"/>
                      <a:pt x="11" y="9"/>
                      <a:pt x="6" y="35"/>
                    </a:cubicBezTo>
                    <a:cubicBezTo>
                      <a:pt x="0" y="66"/>
                      <a:pt x="18" y="172"/>
                      <a:pt x="53" y="200"/>
                    </a:cubicBezTo>
                    <a:cubicBezTo>
                      <a:pt x="63" y="208"/>
                      <a:pt x="77" y="207"/>
                      <a:pt x="89" y="211"/>
                    </a:cubicBezTo>
                    <a:cubicBezTo>
                      <a:pt x="109" y="209"/>
                      <a:pt x="206" y="222"/>
                      <a:pt x="206" y="164"/>
                    </a:cubicBezTo>
                    <a:cubicBezTo>
                      <a:pt x="206" y="143"/>
                      <a:pt x="191" y="125"/>
                      <a:pt x="183" y="106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260520" y="6441480"/>
                <a:ext cx="89640" cy="29520"/>
              </a:xfrm>
              <a:custGeom>
                <a:avLst/>
                <a:gdLst/>
                <a:ahLst/>
                <a:rect l="l" t="t" r="r" b="b"/>
                <a:pathLst>
                  <a:path w="176" h="63">
                    <a:moveTo>
                      <a:pt x="0" y="63"/>
                    </a:moveTo>
                    <a:cubicBezTo>
                      <a:pt x="4" y="51"/>
                      <a:pt x="2" y="36"/>
                      <a:pt x="11" y="27"/>
                    </a:cubicBezTo>
                    <a:cubicBezTo>
                      <a:pt x="38" y="0"/>
                      <a:pt x="159" y="4"/>
                      <a:pt x="176" y="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286440" y="6475320"/>
                <a:ext cx="48960" cy="2232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379320" y="6361920"/>
                <a:ext cx="102960" cy="110160"/>
              </a:xfrm>
              <a:custGeom>
                <a:avLst/>
                <a:gdLst/>
                <a:ahLst/>
                <a:rect l="l" t="t" r="r" b="b"/>
                <a:pathLst>
                  <a:path w="167" h="230">
                    <a:moveTo>
                      <a:pt x="143" y="228"/>
                    </a:moveTo>
                    <a:cubicBezTo>
                      <a:pt x="79" y="215"/>
                      <a:pt x="51" y="225"/>
                      <a:pt x="14" y="169"/>
                    </a:cubicBezTo>
                    <a:cubicBezTo>
                      <a:pt x="18" y="138"/>
                      <a:pt x="0" y="95"/>
                      <a:pt x="25" y="75"/>
                    </a:cubicBezTo>
                    <a:cubicBezTo>
                      <a:pt x="119" y="0"/>
                      <a:pt x="156" y="160"/>
                      <a:pt x="167" y="204"/>
                    </a:cubicBezTo>
                    <a:cubicBezTo>
                      <a:pt x="128" y="230"/>
                      <a:pt x="117" y="228"/>
                      <a:pt x="143" y="22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398400" y="6404040"/>
                <a:ext cx="115200" cy="39240"/>
              </a:xfrm>
              <a:custGeom>
                <a:avLst/>
                <a:gdLst/>
                <a:ahLst/>
                <a:rect l="l" t="t" r="r" b="b"/>
                <a:pathLst>
                  <a:path w="226" h="83">
                    <a:moveTo>
                      <a:pt x="0" y="83"/>
                    </a:moveTo>
                    <a:cubicBezTo>
                      <a:pt x="38" y="57"/>
                      <a:pt x="77" y="45"/>
                      <a:pt x="118" y="24"/>
                    </a:cubicBezTo>
                    <a:cubicBezTo>
                      <a:pt x="149" y="28"/>
                      <a:pt x="181" y="42"/>
                      <a:pt x="212" y="36"/>
                    </a:cubicBezTo>
                    <a:cubicBezTo>
                      <a:pt x="226" y="33"/>
                      <a:pt x="190" y="18"/>
                      <a:pt x="177" y="12"/>
                    </a:cubicBezTo>
                    <a:cubicBezTo>
                      <a:pt x="166" y="6"/>
                      <a:pt x="153" y="4"/>
                      <a:pt x="141" y="0"/>
                    </a:cubicBezTo>
                    <a:cubicBezTo>
                      <a:pt x="140" y="0"/>
                      <a:pt x="65" y="18"/>
                      <a:pt x="59" y="24"/>
                    </a:cubicBezTo>
                    <a:cubicBezTo>
                      <a:pt x="50" y="33"/>
                      <a:pt x="56" y="50"/>
                      <a:pt x="47" y="59"/>
                    </a:cubicBezTo>
                    <a:cubicBezTo>
                      <a:pt x="35" y="71"/>
                      <a:pt x="16" y="75"/>
                      <a:pt x="0" y="83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5400000">
                <a:off x="3434400" y="6428160"/>
                <a:ext cx="22680" cy="489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>
              <a:hlinkClick r:id="" action="ppaction://hlinkshowjump?jump=firstslide"/>
            </p:cNvPr>
            <p:cNvSpPr/>
            <p:nvPr/>
          </p:nvSpPr>
          <p:spPr>
            <a:xfrm>
              <a:off x="3048120" y="6248520"/>
              <a:ext cx="685800" cy="609480"/>
            </a:xfrm>
            <a:custGeom>
              <a:avLst/>
              <a:gdLst>
                <a:gd name="textAreaLeft" fmla="*/ 39240 w 685800"/>
                <a:gd name="textAreaRight" fmla="*/ 646560 w 6858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24303" h="21600">
                  <a:moveTo>
                    <a:pt x="0" y="0"/>
                  </a:moveTo>
                  <a:lnTo>
                    <a:pt x="24303" y="0"/>
                  </a:lnTo>
                  <a:lnTo>
                    <a:pt x="24303" y="21600"/>
                  </a:lnTo>
                  <a:lnTo>
                    <a:pt x="0" y="21600"/>
                  </a:lnTo>
                  <a:close/>
                </a:path>
                <a:path fill="lightenLess" w="24303" h="21600">
                  <a:moveTo>
                    <a:pt x="0" y="0"/>
                  </a:moveTo>
                  <a:lnTo>
                    <a:pt x="24303" y="0"/>
                  </a:lnTo>
                  <a:lnTo>
                    <a:pt x="22903" y="1400"/>
                  </a:lnTo>
                  <a:lnTo>
                    <a:pt x="1400" y="1400"/>
                  </a:lnTo>
                  <a:close/>
                </a:path>
                <a:path fill="darken" w="24303" h="21600">
                  <a:moveTo>
                    <a:pt x="24303" y="0"/>
                  </a:moveTo>
                  <a:lnTo>
                    <a:pt x="24303" y="21600"/>
                  </a:lnTo>
                  <a:lnTo>
                    <a:pt x="22903" y="20200"/>
                  </a:lnTo>
                  <a:lnTo>
                    <a:pt x="22903" y="1400"/>
                  </a:lnTo>
                  <a:close/>
                </a:path>
                <a:path fill="darkenLess" w="24303" h="21600">
                  <a:moveTo>
                    <a:pt x="243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903" y="20200"/>
                  </a:lnTo>
                  <a:close/>
                </a:path>
                <a:path fill="lighten" w="243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8001000" y="6321600"/>
            <a:ext cx="914400" cy="533160"/>
            <a:chOff x="8001000" y="6321600"/>
            <a:chExt cx="914400" cy="533160"/>
          </a:xfrm>
        </p:grpSpPr>
        <p:grpSp>
          <p:nvGrpSpPr>
            <p:cNvPr id="828" name=""/>
            <p:cNvGrpSpPr/>
            <p:nvPr/>
          </p:nvGrpSpPr>
          <p:grpSpPr>
            <a:xfrm>
              <a:off x="8001000" y="6387840"/>
              <a:ext cx="846720" cy="333360"/>
              <a:chOff x="8001000" y="6387840"/>
              <a:chExt cx="846720" cy="33336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8001000" y="6387840"/>
                <a:ext cx="846720" cy="333360"/>
                <a:chOff x="8001000" y="6387840"/>
                <a:chExt cx="846720" cy="33336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8553240" y="6405120"/>
                  <a:ext cx="294480" cy="198000"/>
                </a:xfrm>
                <a:custGeom>
                  <a:avLst/>
                  <a:gdLst/>
                  <a:ahLst/>
                  <a:rect l="l" t="t" r="r" b="b"/>
                  <a:pathLst>
                    <a:path w="299" h="195">
                      <a:moveTo>
                        <a:pt x="162" y="195"/>
                      </a:moveTo>
                      <a:cubicBezTo>
                        <a:pt x="101" y="185"/>
                        <a:pt x="70" y="182"/>
                        <a:pt x="21" y="148"/>
                      </a:cubicBezTo>
                      <a:cubicBezTo>
                        <a:pt x="0" y="87"/>
                        <a:pt x="2" y="67"/>
                        <a:pt x="56" y="31"/>
                      </a:cubicBezTo>
                      <a:cubicBezTo>
                        <a:pt x="299" y="47"/>
                        <a:pt x="176" y="0"/>
                        <a:pt x="256" y="125"/>
                      </a:cubicBezTo>
                      <a:cubicBezTo>
                        <a:pt x="248" y="150"/>
                        <a:pt x="247" y="181"/>
                        <a:pt x="209" y="184"/>
                      </a:cubicBezTo>
                      <a:cubicBezTo>
                        <a:pt x="135" y="190"/>
                        <a:pt x="41" y="147"/>
                        <a:pt x="162" y="195"/>
                      </a:cubicBezTo>
                      <a:close/>
                    </a:path>
                  </a:pathLst>
                </a:custGeom>
                <a:solidFill>
                  <a:srgbClr val="99ff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1" name=""/>
                <p:cNvGrpSpPr/>
                <p:nvPr/>
              </p:nvGrpSpPr>
              <p:grpSpPr>
                <a:xfrm>
                  <a:off x="8001000" y="6387840"/>
                  <a:ext cx="693000" cy="333360"/>
                  <a:chOff x="8001000" y="6387840"/>
                  <a:chExt cx="693000" cy="33336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8481240" y="6387840"/>
                    <a:ext cx="2127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36">
                        <a:moveTo>
                          <a:pt x="188" y="106"/>
                        </a:moveTo>
                        <a:cubicBezTo>
                          <a:pt x="175" y="49"/>
                          <a:pt x="187" y="31"/>
                          <a:pt x="129" y="12"/>
                        </a:cubicBezTo>
                        <a:cubicBezTo>
                          <a:pt x="119" y="13"/>
                          <a:pt x="0" y="0"/>
                          <a:pt x="0" y="59"/>
                        </a:cubicBezTo>
                        <a:cubicBezTo>
                          <a:pt x="0" y="136"/>
                          <a:pt x="64" y="176"/>
                          <a:pt x="118" y="212"/>
                        </a:cubicBezTo>
                        <a:cubicBezTo>
                          <a:pt x="130" y="220"/>
                          <a:pt x="153" y="236"/>
                          <a:pt x="153" y="236"/>
                        </a:cubicBezTo>
                        <a:cubicBezTo>
                          <a:pt x="165" y="232"/>
                          <a:pt x="179" y="233"/>
                          <a:pt x="188" y="224"/>
                        </a:cubicBezTo>
                        <a:cubicBezTo>
                          <a:pt x="216" y="196"/>
                          <a:pt x="188" y="140"/>
                          <a:pt x="188" y="106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8411040" y="6396480"/>
                    <a:ext cx="185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30">
                        <a:moveTo>
                          <a:pt x="130" y="74"/>
                        </a:moveTo>
                        <a:cubicBezTo>
                          <a:pt x="126" y="58"/>
                          <a:pt x="133" y="32"/>
                          <a:pt x="118" y="27"/>
                        </a:cubicBezTo>
                        <a:cubicBezTo>
                          <a:pt x="38" y="0"/>
                          <a:pt x="29" y="31"/>
                          <a:pt x="0" y="74"/>
                        </a:cubicBezTo>
                        <a:cubicBezTo>
                          <a:pt x="13" y="137"/>
                          <a:pt x="19" y="156"/>
                          <a:pt x="71" y="192"/>
                        </a:cubicBezTo>
                        <a:cubicBezTo>
                          <a:pt x="79" y="204"/>
                          <a:pt x="82" y="223"/>
                          <a:pt x="95" y="227"/>
                        </a:cubicBezTo>
                        <a:cubicBezTo>
                          <a:pt x="103" y="230"/>
                          <a:pt x="166" y="207"/>
                          <a:pt x="177" y="203"/>
                        </a:cubicBezTo>
                        <a:cubicBezTo>
                          <a:pt x="151" y="78"/>
                          <a:pt x="188" y="104"/>
                          <a:pt x="130" y="74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8290800" y="6401880"/>
                    <a:ext cx="24408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210">
                        <a:moveTo>
                          <a:pt x="193" y="92"/>
                        </a:moveTo>
                        <a:cubicBezTo>
                          <a:pt x="139" y="12"/>
                          <a:pt x="173" y="31"/>
                          <a:pt x="111" y="10"/>
                        </a:cubicBezTo>
                        <a:cubicBezTo>
                          <a:pt x="80" y="14"/>
                          <a:pt x="39" y="0"/>
                          <a:pt x="17" y="22"/>
                        </a:cubicBezTo>
                        <a:cubicBezTo>
                          <a:pt x="0" y="39"/>
                          <a:pt x="23" y="69"/>
                          <a:pt x="28" y="92"/>
                        </a:cubicBezTo>
                        <a:cubicBezTo>
                          <a:pt x="44" y="167"/>
                          <a:pt x="113" y="193"/>
                          <a:pt x="181" y="210"/>
                        </a:cubicBezTo>
                        <a:cubicBezTo>
                          <a:pt x="193" y="206"/>
                          <a:pt x="207" y="206"/>
                          <a:pt x="217" y="198"/>
                        </a:cubicBezTo>
                        <a:cubicBezTo>
                          <a:pt x="248" y="174"/>
                          <a:pt x="248" y="152"/>
                          <a:pt x="217" y="128"/>
                        </a:cubicBezTo>
                        <a:cubicBezTo>
                          <a:pt x="207" y="120"/>
                          <a:pt x="188" y="127"/>
                          <a:pt x="181" y="116"/>
                        </a:cubicBezTo>
                        <a:cubicBezTo>
                          <a:pt x="176" y="109"/>
                          <a:pt x="189" y="100"/>
                          <a:pt x="193" y="92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8227800" y="6445440"/>
                    <a:ext cx="199800" cy="20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02">
                        <a:moveTo>
                          <a:pt x="139" y="38"/>
                        </a:moveTo>
                        <a:cubicBezTo>
                          <a:pt x="56" y="9"/>
                          <a:pt x="89" y="0"/>
                          <a:pt x="34" y="38"/>
                        </a:cubicBezTo>
                        <a:cubicBezTo>
                          <a:pt x="26" y="50"/>
                          <a:pt x="11" y="59"/>
                          <a:pt x="10" y="73"/>
                        </a:cubicBezTo>
                        <a:cubicBezTo>
                          <a:pt x="0" y="172"/>
                          <a:pt x="55" y="180"/>
                          <a:pt x="128" y="202"/>
                        </a:cubicBezTo>
                        <a:cubicBezTo>
                          <a:pt x="147" y="198"/>
                          <a:pt x="170" y="202"/>
                          <a:pt x="186" y="191"/>
                        </a:cubicBezTo>
                        <a:cubicBezTo>
                          <a:pt x="197" y="184"/>
                          <a:pt x="198" y="168"/>
                          <a:pt x="198" y="155"/>
                        </a:cubicBezTo>
                        <a:cubicBezTo>
                          <a:pt x="198" y="107"/>
                          <a:pt x="203" y="38"/>
                          <a:pt x="139" y="38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8125200" y="6472080"/>
                    <a:ext cx="16344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76">
                        <a:moveTo>
                          <a:pt x="185" y="70"/>
                        </a:moveTo>
                        <a:cubicBezTo>
                          <a:pt x="169" y="62"/>
                          <a:pt x="153" y="56"/>
                          <a:pt x="138" y="47"/>
                        </a:cubicBezTo>
                        <a:cubicBezTo>
                          <a:pt x="114" y="33"/>
                          <a:pt x="67" y="0"/>
                          <a:pt x="67" y="0"/>
                        </a:cubicBezTo>
                        <a:cubicBezTo>
                          <a:pt x="0" y="44"/>
                          <a:pt x="18" y="80"/>
                          <a:pt x="32" y="165"/>
                        </a:cubicBezTo>
                        <a:cubicBezTo>
                          <a:pt x="34" y="177"/>
                          <a:pt x="34" y="191"/>
                          <a:pt x="43" y="200"/>
                        </a:cubicBezTo>
                        <a:cubicBezTo>
                          <a:pt x="56" y="212"/>
                          <a:pt x="75" y="215"/>
                          <a:pt x="91" y="223"/>
                        </a:cubicBezTo>
                        <a:cubicBezTo>
                          <a:pt x="121" y="269"/>
                          <a:pt x="133" y="276"/>
                          <a:pt x="185" y="259"/>
                        </a:cubicBezTo>
                        <a:cubicBezTo>
                          <a:pt x="192" y="235"/>
                          <a:pt x="208" y="213"/>
                          <a:pt x="208" y="188"/>
                        </a:cubicBezTo>
                        <a:cubicBezTo>
                          <a:pt x="208" y="145"/>
                          <a:pt x="185" y="111"/>
                          <a:pt x="185" y="70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8001000" y="6507720"/>
                    <a:ext cx="25020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210">
                        <a:moveTo>
                          <a:pt x="193" y="47"/>
                        </a:moveTo>
                        <a:cubicBezTo>
                          <a:pt x="181" y="39"/>
                          <a:pt x="171" y="30"/>
                          <a:pt x="158" y="24"/>
                        </a:cubicBezTo>
                        <a:cubicBezTo>
                          <a:pt x="135" y="14"/>
                          <a:pt x="87" y="0"/>
                          <a:pt x="87" y="0"/>
                        </a:cubicBezTo>
                        <a:cubicBezTo>
                          <a:pt x="0" y="30"/>
                          <a:pt x="41" y="119"/>
                          <a:pt x="87" y="165"/>
                        </a:cubicBezTo>
                        <a:cubicBezTo>
                          <a:pt x="109" y="187"/>
                          <a:pt x="130" y="191"/>
                          <a:pt x="158" y="200"/>
                        </a:cubicBezTo>
                        <a:cubicBezTo>
                          <a:pt x="185" y="196"/>
                          <a:pt x="224" y="210"/>
                          <a:pt x="240" y="188"/>
                        </a:cubicBezTo>
                        <a:cubicBezTo>
                          <a:pt x="254" y="168"/>
                          <a:pt x="222" y="142"/>
                          <a:pt x="217" y="118"/>
                        </a:cubicBezTo>
                        <a:cubicBezTo>
                          <a:pt x="213" y="98"/>
                          <a:pt x="211" y="78"/>
                          <a:pt x="205" y="59"/>
                        </a:cubicBezTo>
                        <a:cubicBezTo>
                          <a:pt x="203" y="54"/>
                          <a:pt x="197" y="51"/>
                          <a:pt x="193" y="47"/>
                        </a:cubicBezTo>
                        <a:close/>
                      </a:path>
                    </a:pathLst>
                  </a:custGeom>
                  <a:solidFill>
                    <a:srgbClr val="99ff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38" name=""/>
              <p:cNvSpPr/>
              <p:nvPr/>
            </p:nvSpPr>
            <p:spPr>
              <a:xfrm>
                <a:off x="8710920" y="6485040"/>
                <a:ext cx="47160" cy="4860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" name="">
              <a:hlinkClick r:id="" action="ppaction://hlinkshowjump?jump=nextslide"/>
            </p:cNvPr>
            <p:cNvSpPr/>
            <p:nvPr/>
          </p:nvSpPr>
          <p:spPr>
            <a:xfrm>
              <a:off x="8001000" y="6321600"/>
              <a:ext cx="914400" cy="533160"/>
            </a:xfrm>
            <a:custGeom>
              <a:avLst/>
              <a:gdLst>
                <a:gd name="textAreaLeft" fmla="*/ 34560 w 914400"/>
                <a:gd name="textAreaRight" fmla="*/ 879840 w 91440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37035" h="21600">
                  <a:moveTo>
                    <a:pt x="0" y="0"/>
                  </a:moveTo>
                  <a:lnTo>
                    <a:pt x="37035" y="0"/>
                  </a:lnTo>
                  <a:lnTo>
                    <a:pt x="37035" y="21600"/>
                  </a:lnTo>
                  <a:lnTo>
                    <a:pt x="0" y="21600"/>
                  </a:lnTo>
                  <a:close/>
                </a:path>
                <a:path fill="lightenLess" w="37035" h="21600">
                  <a:moveTo>
                    <a:pt x="0" y="0"/>
                  </a:moveTo>
                  <a:lnTo>
                    <a:pt x="37035" y="0"/>
                  </a:lnTo>
                  <a:lnTo>
                    <a:pt x="35635" y="1400"/>
                  </a:lnTo>
                  <a:lnTo>
                    <a:pt x="1400" y="1400"/>
                  </a:lnTo>
                  <a:close/>
                </a:path>
                <a:path fill="darken" w="37035" h="21600">
                  <a:moveTo>
                    <a:pt x="37035" y="0"/>
                  </a:moveTo>
                  <a:lnTo>
                    <a:pt x="37035" y="21600"/>
                  </a:lnTo>
                  <a:lnTo>
                    <a:pt x="35635" y="20200"/>
                  </a:lnTo>
                  <a:lnTo>
                    <a:pt x="35635" y="1400"/>
                  </a:lnTo>
                  <a:close/>
                </a:path>
                <a:path fill="darkenLess" w="37035" h="21600">
                  <a:moveTo>
                    <a:pt x="3703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5635" y="20200"/>
                  </a:lnTo>
                  <a:close/>
                </a:path>
                <a:path fill="lighten" w="3703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firstslide"/>
          </p:cNvPr>
          <p:cNvSpPr/>
          <p:nvPr/>
        </p:nvSpPr>
        <p:spPr>
          <a:xfrm>
            <a:off x="304812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10080" y="6095880"/>
            <a:ext cx="762120" cy="533520"/>
          </a:xfrm>
          <a:custGeom>
            <a:avLst/>
            <a:gdLst/>
            <a:ahLst/>
            <a:rect l="l" t="t" r="r" b="b"/>
            <a:pathLst>
              <a:path w="1772" h="886">
                <a:moveTo>
                  <a:pt x="961" y="247"/>
                </a:moveTo>
                <a:cubicBezTo>
                  <a:pt x="845" y="220"/>
                  <a:pt x="964" y="262"/>
                  <a:pt x="902" y="200"/>
                </a:cubicBezTo>
                <a:cubicBezTo>
                  <a:pt x="886" y="184"/>
                  <a:pt x="796" y="141"/>
                  <a:pt x="773" y="130"/>
                </a:cubicBezTo>
                <a:cubicBezTo>
                  <a:pt x="714" y="134"/>
                  <a:pt x="654" y="127"/>
                  <a:pt x="596" y="141"/>
                </a:cubicBezTo>
                <a:cubicBezTo>
                  <a:pt x="460" y="173"/>
                  <a:pt x="732" y="209"/>
                  <a:pt x="514" y="165"/>
                </a:cubicBezTo>
                <a:cubicBezTo>
                  <a:pt x="428" y="169"/>
                  <a:pt x="341" y="170"/>
                  <a:pt x="255" y="177"/>
                </a:cubicBezTo>
                <a:cubicBezTo>
                  <a:pt x="243" y="178"/>
                  <a:pt x="227" y="179"/>
                  <a:pt x="220" y="189"/>
                </a:cubicBezTo>
                <a:cubicBezTo>
                  <a:pt x="206" y="209"/>
                  <a:pt x="196" y="259"/>
                  <a:pt x="196" y="259"/>
                </a:cubicBezTo>
                <a:cubicBezTo>
                  <a:pt x="208" y="263"/>
                  <a:pt x="231" y="259"/>
                  <a:pt x="231" y="271"/>
                </a:cubicBezTo>
                <a:cubicBezTo>
                  <a:pt x="231" y="285"/>
                  <a:pt x="210" y="291"/>
                  <a:pt x="196" y="294"/>
                </a:cubicBezTo>
                <a:cubicBezTo>
                  <a:pt x="146" y="303"/>
                  <a:pt x="94" y="302"/>
                  <a:pt x="43" y="306"/>
                </a:cubicBezTo>
                <a:cubicBezTo>
                  <a:pt x="0" y="393"/>
                  <a:pt x="13" y="344"/>
                  <a:pt x="43" y="494"/>
                </a:cubicBezTo>
                <a:cubicBezTo>
                  <a:pt x="45" y="506"/>
                  <a:pt x="46" y="521"/>
                  <a:pt x="55" y="530"/>
                </a:cubicBezTo>
                <a:cubicBezTo>
                  <a:pt x="62" y="537"/>
                  <a:pt x="134" y="552"/>
                  <a:pt x="137" y="553"/>
                </a:cubicBezTo>
                <a:cubicBezTo>
                  <a:pt x="184" y="549"/>
                  <a:pt x="232" y="533"/>
                  <a:pt x="279" y="542"/>
                </a:cubicBezTo>
                <a:cubicBezTo>
                  <a:pt x="293" y="545"/>
                  <a:pt x="255" y="563"/>
                  <a:pt x="255" y="577"/>
                </a:cubicBezTo>
                <a:cubicBezTo>
                  <a:pt x="255" y="640"/>
                  <a:pt x="267" y="703"/>
                  <a:pt x="279" y="765"/>
                </a:cubicBezTo>
                <a:cubicBezTo>
                  <a:pt x="291" y="827"/>
                  <a:pt x="344" y="835"/>
                  <a:pt x="396" y="847"/>
                </a:cubicBezTo>
                <a:cubicBezTo>
                  <a:pt x="473" y="886"/>
                  <a:pt x="438" y="879"/>
                  <a:pt x="561" y="859"/>
                </a:cubicBezTo>
                <a:cubicBezTo>
                  <a:pt x="593" y="854"/>
                  <a:pt x="624" y="844"/>
                  <a:pt x="655" y="836"/>
                </a:cubicBezTo>
                <a:cubicBezTo>
                  <a:pt x="671" y="832"/>
                  <a:pt x="702" y="824"/>
                  <a:pt x="702" y="824"/>
                </a:cubicBezTo>
                <a:cubicBezTo>
                  <a:pt x="718" y="778"/>
                  <a:pt x="737" y="767"/>
                  <a:pt x="784" y="789"/>
                </a:cubicBezTo>
                <a:cubicBezTo>
                  <a:pt x="844" y="816"/>
                  <a:pt x="899" y="850"/>
                  <a:pt x="961" y="871"/>
                </a:cubicBezTo>
                <a:cubicBezTo>
                  <a:pt x="962" y="871"/>
                  <a:pt x="1066" y="855"/>
                  <a:pt x="1078" y="847"/>
                </a:cubicBezTo>
                <a:cubicBezTo>
                  <a:pt x="1090" y="839"/>
                  <a:pt x="1090" y="820"/>
                  <a:pt x="1102" y="812"/>
                </a:cubicBezTo>
                <a:cubicBezTo>
                  <a:pt x="1131" y="792"/>
                  <a:pt x="1196" y="765"/>
                  <a:pt x="1196" y="765"/>
                </a:cubicBezTo>
                <a:cubicBezTo>
                  <a:pt x="1204" y="726"/>
                  <a:pt x="1202" y="683"/>
                  <a:pt x="1220" y="647"/>
                </a:cubicBezTo>
                <a:cubicBezTo>
                  <a:pt x="1227" y="633"/>
                  <a:pt x="1225" y="679"/>
                  <a:pt x="1231" y="694"/>
                </a:cubicBezTo>
                <a:cubicBezTo>
                  <a:pt x="1237" y="711"/>
                  <a:pt x="1241" y="731"/>
                  <a:pt x="1255" y="742"/>
                </a:cubicBezTo>
                <a:cubicBezTo>
                  <a:pt x="1347" y="816"/>
                  <a:pt x="1477" y="805"/>
                  <a:pt x="1584" y="812"/>
                </a:cubicBezTo>
                <a:cubicBezTo>
                  <a:pt x="1604" y="808"/>
                  <a:pt x="1626" y="810"/>
                  <a:pt x="1643" y="800"/>
                </a:cubicBezTo>
                <a:cubicBezTo>
                  <a:pt x="1655" y="793"/>
                  <a:pt x="1656" y="774"/>
                  <a:pt x="1667" y="765"/>
                </a:cubicBezTo>
                <a:cubicBezTo>
                  <a:pt x="1681" y="754"/>
                  <a:pt x="1698" y="750"/>
                  <a:pt x="1714" y="742"/>
                </a:cubicBezTo>
                <a:cubicBezTo>
                  <a:pt x="1766" y="636"/>
                  <a:pt x="1750" y="681"/>
                  <a:pt x="1772" y="612"/>
                </a:cubicBezTo>
                <a:cubicBezTo>
                  <a:pt x="1762" y="567"/>
                  <a:pt x="1750" y="429"/>
                  <a:pt x="1714" y="400"/>
                </a:cubicBezTo>
                <a:cubicBezTo>
                  <a:pt x="1687" y="378"/>
                  <a:pt x="1620" y="353"/>
                  <a:pt x="1620" y="353"/>
                </a:cubicBezTo>
                <a:cubicBezTo>
                  <a:pt x="1582" y="298"/>
                  <a:pt x="1568" y="318"/>
                  <a:pt x="1514" y="283"/>
                </a:cubicBezTo>
                <a:cubicBezTo>
                  <a:pt x="1530" y="279"/>
                  <a:pt x="1550" y="283"/>
                  <a:pt x="1561" y="271"/>
                </a:cubicBezTo>
                <a:cubicBezTo>
                  <a:pt x="1572" y="260"/>
                  <a:pt x="1569" y="240"/>
                  <a:pt x="1572" y="224"/>
                </a:cubicBezTo>
                <a:cubicBezTo>
                  <a:pt x="1577" y="193"/>
                  <a:pt x="1580" y="161"/>
                  <a:pt x="1584" y="130"/>
                </a:cubicBezTo>
                <a:cubicBezTo>
                  <a:pt x="1576" y="114"/>
                  <a:pt x="1575" y="94"/>
                  <a:pt x="1561" y="83"/>
                </a:cubicBezTo>
                <a:cubicBezTo>
                  <a:pt x="1513" y="45"/>
                  <a:pt x="1434" y="16"/>
                  <a:pt x="1373" y="0"/>
                </a:cubicBezTo>
                <a:cubicBezTo>
                  <a:pt x="1278" y="9"/>
                  <a:pt x="1229" y="8"/>
                  <a:pt x="1149" y="47"/>
                </a:cubicBezTo>
                <a:cubicBezTo>
                  <a:pt x="1119" y="137"/>
                  <a:pt x="1162" y="31"/>
                  <a:pt x="1102" y="106"/>
                </a:cubicBezTo>
                <a:cubicBezTo>
                  <a:pt x="1056" y="163"/>
                  <a:pt x="1132" y="127"/>
                  <a:pt x="1055" y="153"/>
                </a:cubicBezTo>
                <a:cubicBezTo>
                  <a:pt x="1051" y="165"/>
                  <a:pt x="1052" y="180"/>
                  <a:pt x="1043" y="189"/>
                </a:cubicBezTo>
                <a:cubicBezTo>
                  <a:pt x="1034" y="198"/>
                  <a:pt x="1019" y="195"/>
                  <a:pt x="1008" y="200"/>
                </a:cubicBezTo>
                <a:cubicBezTo>
                  <a:pt x="971" y="218"/>
                  <a:pt x="976" y="218"/>
                  <a:pt x="961" y="247"/>
                </a:cubicBezTo>
                <a:close/>
              </a:path>
            </a:pathLst>
          </a:custGeom>
          <a:solidFill>
            <a:srgbClr val="66cc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4100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ezione Fiume Veneto</cp:lastModifiedBy>
  <dcterms:modified xsi:type="dcterms:W3CDTF">2001-03-14T14:50:25Z</dcterms:modified>
  <cp:revision>36</cp:revision>
  <dc:subject/>
  <dc:title>Nessun titolo diapositiva</dc:title>
</cp:coreProperties>
</file>